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FDDB-1D97-4A95-BD0E-0586AAB1F88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3126-F816-4756-9D6E-D72A2D320F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5F30-507D-475F-852A-E7F5ECE7395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PlaceHolder 1"/>
          <p:cNvSpPr>
            <a:spLocks noGrp="1"/>
          </p:cNvSpPr>
          <p:nvPr>
            <p:ph type="sldImg"/>
          </p:nvPr>
        </p:nvSpPr>
        <p:spPr>
          <a:xfrm>
            <a:off x="119556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152" name="PlaceHolder 2"/>
          <p:cNvSpPr>
            <a:spLocks noGrp="1"/>
          </p:cNvSpPr>
          <p:nvPr>
            <p:ph type="body"/>
          </p:nvPr>
        </p:nvSpPr>
        <p:spPr>
          <a:xfrm>
            <a:off x="930240" y="4379400"/>
            <a:ext cx="504360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4A1D-4E6B-4B50-8C7D-E7D235BC6B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PlaceHolder 1"/>
          <p:cNvSpPr>
            <a:spLocks noGrp="1"/>
          </p:cNvSpPr>
          <p:nvPr>
            <p:ph type="sldImg"/>
          </p:nvPr>
        </p:nvSpPr>
        <p:spPr>
          <a:xfrm>
            <a:off x="119556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158" name="PlaceHolder 2"/>
          <p:cNvSpPr>
            <a:spLocks noGrp="1"/>
          </p:cNvSpPr>
          <p:nvPr>
            <p:ph type="body"/>
          </p:nvPr>
        </p:nvSpPr>
        <p:spPr>
          <a:xfrm>
            <a:off x="930240" y="4379400"/>
            <a:ext cx="504360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257B-066B-4FCC-9CFB-38E109C4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8807-E9A9-4B3A-A2F1-C21B249F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5DE8-58FD-4871-8374-89D184C5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C46-BCA9-47C4-AD2F-B74D1C01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C22D-3743-4BDE-AC05-E815861C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737-DFDB-42F9-A6DD-030A9B98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C999-09CC-47FA-89C7-D2FE1E7C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E22-B23F-416B-A3D0-1FC4C188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9A1-3C75-460D-A6A4-A3F1FF70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5C1-74C4-4E9E-998B-BF8AE003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C5A-A781-4330-8192-5EC16824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E6E-D16A-4848-A1EE-5EA3C408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9290-8389-470F-8BD0-D07A37C72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SC-Induced Nuclear Reac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4400"/>
            </a:b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Cold Transmutation of Radioactive Was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kito Takahas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nuary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A8C-FC3A-49BF-9D8C-FAEA1B4A15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 of IJ-Project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irst phase resear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cc00cc"/>
                </a:solidFill>
                <a:latin typeface="Arial"/>
              </a:rPr>
              <a:t>Confirmation of MHI experiment by using RI sample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ransmutations for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r to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9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,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 to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14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 (decay to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14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d),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13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 to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14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 (decay to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14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d) will be studie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413000"/>
            <a:ext cx="84978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195-F885-40B1-A034-22BCDDC7F2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 of IJ-Projec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) If we will confirm a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the second pha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caling up to industrial application of RI transmuta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816-B73E-4321-8AC5-C2A1D7723D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ahashi Model of Mech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1) M(A,Z) + 4D(TSC) to M’(A+8,Z+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2) M(A,Z) +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(ORF) to M’(A+8,Z+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adio-Active Isotopes to Stable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268280"/>
            <a:ext cx="8496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504-F797-4B65-B066-AF367FF491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820000" y="-5068440"/>
            <a:ext cx="1447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243640" y="5943240"/>
            <a:ext cx="2142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42920" y="609480"/>
            <a:ext cx="7688160" cy="5267520"/>
            <a:chOff x="1042920" y="609480"/>
            <a:chExt cx="7688160" cy="5267520"/>
          </a:xfrm>
        </p:grpSpPr>
        <p:sp>
          <p:nvSpPr>
            <p:cNvPr id="180" name=""/>
            <p:cNvSpPr/>
            <p:nvPr/>
          </p:nvSpPr>
          <p:spPr>
            <a:xfrm>
              <a:off x="1332000" y="609480"/>
              <a:ext cx="689760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Basic Mechanism will be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87280" y="1413000"/>
              <a:ext cx="7543800" cy="446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1910c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910c6"/>
                  </a:solidFill>
                  <a:latin typeface="Arial"/>
                </a:rPr>
                <a:t>Tetrahedral Symmetric Condensation (TSC)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910c6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910c6"/>
                  </a:solidFill>
                  <a:latin typeface="Arial"/>
                </a:rPr>
                <a:t>4 deuterons + 4 electrons mak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910c6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1910c6"/>
                  </a:solidFill>
                  <a:latin typeface="Arial"/>
                </a:rPr>
                <a:t>a transient  Bose-type condens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910c6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1910c6"/>
                  </a:solidFill>
                  <a:latin typeface="Arial"/>
                </a:rPr>
                <a:t>by 3-dimensional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910c6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1910c6"/>
                  </a:solidFill>
                  <a:latin typeface="Arial"/>
                </a:rPr>
                <a:t>constraint squeezing mo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42920" y="1341360"/>
              <a:ext cx="763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1D5-7240-45CB-9026-1AFFF7F4C8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144000" y="6400800"/>
            <a:ext cx="380880" cy="1295280"/>
          </a:xfrm>
          <a:prstGeom prst="diamond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 u="sng">
                <a:solidFill>
                  <a:srgbClr val="333399"/>
                </a:solidFill>
                <a:uFillTx/>
                <a:latin typeface="Garamon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1280" y="254160"/>
            <a:ext cx="8296200" cy="6492240"/>
            <a:chOff x="611280" y="254160"/>
            <a:chExt cx="8296200" cy="6492240"/>
          </a:xfrm>
        </p:grpSpPr>
        <p:sp>
          <p:nvSpPr>
            <p:cNvPr id="185" name=""/>
            <p:cNvSpPr/>
            <p:nvPr/>
          </p:nvSpPr>
          <p:spPr>
            <a:xfrm>
              <a:off x="716040" y="298440"/>
              <a:ext cx="7711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70840" y="254160"/>
              <a:ext cx="79927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1910c6"/>
                  </a:solidFill>
                  <a:latin typeface="Tahoma"/>
                </a:rPr>
                <a:t>Classical View of Tetrahedral Sym. Condensa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15200" y="914400"/>
              <a:ext cx="1592280" cy="571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91520" y="958680"/>
              <a:ext cx="1447560" cy="57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33cc"/>
                  </a:solidFill>
                  <a:latin typeface="Tahoma"/>
                </a:rPr>
                <a:t>Trans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33cc"/>
                  </a:solidFill>
                  <a:latin typeface="Tahoma"/>
                </a:rPr>
                <a:t>Comb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33cc"/>
                  </a:solidFill>
                  <a:latin typeface="Tahoma"/>
                </a:rPr>
                <a:t>of Two D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33cc"/>
                  </a:solidFill>
                  <a:latin typeface="Tahoma"/>
                </a:rPr>
                <a:t>Molecu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33cc"/>
                  </a:solidFill>
                  <a:latin typeface="Tahoma"/>
                </a:rPr>
                <a:t>(upper and l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Squeezing on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from O-Sites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T-sit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46a444"/>
                  </a:solidFill>
                  <a:latin typeface="Tahoma"/>
                </a:rPr>
                <a:t>3-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46a444"/>
                  </a:solidFill>
                  <a:latin typeface="Tahoma"/>
                </a:rPr>
                <a:t>Frozen State f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46a444"/>
                  </a:solidFill>
                  <a:latin typeface="Tahoma"/>
                </a:rPr>
                <a:t>4d+s and 4e-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0303"/>
                  </a:solidFill>
                  <a:latin typeface="Tahoma"/>
                </a:rPr>
                <a:t>Quadruplet e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0303"/>
                  </a:solidFill>
                  <a:latin typeface="Tahoma"/>
                </a:rPr>
                <a:t>(4,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Formation of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Electrons arou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T-s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1640" y="673200"/>
              <a:ext cx="7967520" cy="6336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1640" y="941400"/>
              <a:ext cx="6284880" cy="5684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004760" y="1257480"/>
              <a:ext cx="5618160" cy="5260680"/>
              <a:chOff x="1004760" y="1257480"/>
              <a:chExt cx="5618160" cy="5260680"/>
            </a:xfrm>
          </p:grpSpPr>
          <p:sp>
            <p:nvSpPr>
              <p:cNvPr id="192" name=""/>
              <p:cNvSpPr/>
              <p:nvPr/>
            </p:nvSpPr>
            <p:spPr>
              <a:xfrm>
                <a:off x="2751120" y="3887640"/>
                <a:ext cx="7509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933640" y="4038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45960" y="4124160"/>
                <a:ext cx="22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r>
                  <a:rPr b="1" lang="en-US" sz="1800" spc="-1" strike="noStrike" baseline="30000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940200" y="5641920"/>
                <a:ext cx="7509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22720" y="579276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236480" y="5850000"/>
                <a:ext cx="22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r>
                  <a:rPr b="1" lang="en-US" sz="1800" spc="-1" strike="noStrike" baseline="30000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122720" y="606096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004760" y="2259000"/>
                <a:ext cx="7509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87280" y="240984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89880" y="2476440"/>
                <a:ext cx="22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r>
                  <a:rPr b="1" lang="en-US" sz="1800" spc="-1" strike="noStrike" baseline="30000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872320" y="1757520"/>
                <a:ext cx="750600" cy="75384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054840" y="19080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166800" y="1994040"/>
                <a:ext cx="22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r>
                  <a:rPr b="1" lang="en-US" sz="1800" spc="-1" strike="noStrike" baseline="30000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131840" y="5141880"/>
                <a:ext cx="625680" cy="62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5280" y="52704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360800" y="5251320"/>
                <a:ext cx="255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10000"/>
                    </a:solidFill>
                    <a:latin typeface="Century"/>
                  </a:rPr>
                  <a:t>e-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5280" y="560556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40200" y="2886120"/>
                <a:ext cx="627120" cy="6285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105440" y="301464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70600" y="3005280"/>
                <a:ext cx="255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10000"/>
                    </a:solidFill>
                    <a:latin typeface="Century"/>
                  </a:rPr>
                  <a:t>e-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05440" y="33498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876400" y="1257480"/>
                <a:ext cx="625680" cy="6267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040200" y="13860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32360" y="1357200"/>
                <a:ext cx="255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10000"/>
                    </a:solidFill>
                    <a:latin typeface="Century"/>
                  </a:rPr>
                  <a:t>e-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040200" y="17208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854680" y="4640400"/>
                <a:ext cx="625320" cy="6285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19920" y="47689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75720" y="4740120"/>
                <a:ext cx="255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10000"/>
                    </a:solidFill>
                    <a:latin typeface="Century"/>
                  </a:rPr>
                  <a:t>e-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19920" y="51037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49760" y="3762360"/>
                <a:ext cx="250920" cy="25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1746360" y="2868480"/>
                <a:ext cx="2003400" cy="1020960"/>
                <a:chOff x="1746360" y="2868480"/>
                <a:chExt cx="2003400" cy="10209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46360" y="2868480"/>
                  <a:ext cx="1854000" cy="957240"/>
                </a:xfrm>
                <a:custGeom>
                  <a:avLst/>
                  <a:gdLst/>
                  <a:ahLst/>
                  <a:rect l="l" t="t" r="r" b="b"/>
                  <a:pathLst>
                    <a:path w="1168" h="603">
                      <a:moveTo>
                        <a:pt x="10" y="0"/>
                      </a:moveTo>
                      <a:lnTo>
                        <a:pt x="0" y="23"/>
                      </a:lnTo>
                      <a:lnTo>
                        <a:pt x="1158" y="603"/>
                      </a:lnTo>
                      <a:lnTo>
                        <a:pt x="1168" y="58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549600" y="3722760"/>
                  <a:ext cx="200160" cy="166680"/>
                </a:xfrm>
                <a:custGeom>
                  <a:avLst/>
                  <a:gdLst/>
                  <a:ahLst/>
                  <a:rect l="l" t="t" r="r" b="b"/>
                  <a:pathLst>
                    <a:path w="126" h="105">
                      <a:moveTo>
                        <a:pt x="0" y="105"/>
                      </a:moveTo>
                      <a:lnTo>
                        <a:pt x="126" y="104"/>
                      </a:lnTo>
                      <a:lnTo>
                        <a:pt x="49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370320" y="3984480"/>
                <a:ext cx="379440" cy="174600"/>
                <a:chOff x="3370320" y="3984480"/>
                <a:chExt cx="379440" cy="1746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370320" y="4051440"/>
                  <a:ext cx="218880" cy="107640"/>
                </a:xfrm>
                <a:custGeom>
                  <a:avLst/>
                  <a:gdLst/>
                  <a:ahLst/>
                  <a:rect l="l" t="t" r="r" b="b"/>
                  <a:pathLst>
                    <a:path w="138" h="68">
                      <a:moveTo>
                        <a:pt x="0" y="43"/>
                      </a:moveTo>
                      <a:lnTo>
                        <a:pt x="7" y="68"/>
                      </a:lnTo>
                      <a:lnTo>
                        <a:pt x="138" y="26"/>
                      </a:lnTo>
                      <a:lnTo>
                        <a:pt x="131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552840" y="3984480"/>
                  <a:ext cx="196920" cy="174600"/>
                </a:xfrm>
                <a:custGeom>
                  <a:avLst/>
                  <a:gdLst/>
                  <a:ahLst/>
                  <a:rect l="l" t="t" r="r" b="b"/>
                  <a:pathLst>
                    <a:path w="124" h="110">
                      <a:moveTo>
                        <a:pt x="35" y="110"/>
                      </a:moveTo>
                      <a:lnTo>
                        <a:pt x="124" y="18"/>
                      </a:lnTo>
                      <a:lnTo>
                        <a:pt x="0" y="0"/>
                      </a:lnTo>
                      <a:lnTo>
                        <a:pt x="35" y="11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998880" y="2368440"/>
                <a:ext cx="2009880" cy="1519200"/>
                <a:chOff x="3998880" y="2368440"/>
                <a:chExt cx="2009880" cy="15192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130640" y="2368440"/>
                  <a:ext cx="1878120" cy="1430280"/>
                </a:xfrm>
                <a:custGeom>
                  <a:avLst/>
                  <a:gdLst/>
                  <a:ahLst/>
                  <a:rect l="l" t="t" r="r" b="b"/>
                  <a:pathLst>
                    <a:path w="1183" h="901">
                      <a:moveTo>
                        <a:pt x="1183" y="21"/>
                      </a:moveTo>
                      <a:lnTo>
                        <a:pt x="1168" y="0"/>
                      </a:lnTo>
                      <a:lnTo>
                        <a:pt x="0" y="881"/>
                      </a:lnTo>
                      <a:lnTo>
                        <a:pt x="14" y="901"/>
                      </a:lnTo>
                      <a:lnTo>
                        <a:pt x="1183" y="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998880" y="3703680"/>
                  <a:ext cx="198360" cy="183960"/>
                </a:xfrm>
                <a:custGeom>
                  <a:avLst/>
                  <a:gdLst/>
                  <a:ahLst/>
                  <a:rect l="l" t="t" r="r" b="b"/>
                  <a:pathLst>
                    <a:path w="125" h="116">
                      <a:moveTo>
                        <a:pt x="58" y="0"/>
                      </a:moveTo>
                      <a:lnTo>
                        <a:pt x="0" y="116"/>
                      </a:lnTo>
                      <a:lnTo>
                        <a:pt x="125" y="94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830760" y="4013280"/>
                <a:ext cx="439560" cy="1635120"/>
                <a:chOff x="3830760" y="4013280"/>
                <a:chExt cx="439560" cy="16351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898800" y="4186080"/>
                  <a:ext cx="371520" cy="1462320"/>
                </a:xfrm>
                <a:custGeom>
                  <a:avLst/>
                  <a:gdLst/>
                  <a:ahLst/>
                  <a:rect l="l" t="t" r="r" b="b"/>
                  <a:pathLst>
                    <a:path w="234" h="921">
                      <a:moveTo>
                        <a:pt x="210" y="921"/>
                      </a:moveTo>
                      <a:lnTo>
                        <a:pt x="234" y="914"/>
                      </a:lnTo>
                      <a:lnTo>
                        <a:pt x="24" y="0"/>
                      </a:lnTo>
                      <a:lnTo>
                        <a:pt x="0" y="6"/>
                      </a:lnTo>
                      <a:lnTo>
                        <a:pt x="210" y="9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830760" y="4013280"/>
                  <a:ext cx="176040" cy="201600"/>
                </a:xfrm>
                <a:custGeom>
                  <a:avLst/>
                  <a:gdLst/>
                  <a:ahLst/>
                  <a:rect l="l" t="t" r="r" b="b"/>
                  <a:pathLst>
                    <a:path w="111" h="127">
                      <a:moveTo>
                        <a:pt x="111" y="100"/>
                      </a:moveTo>
                      <a:lnTo>
                        <a:pt x="28" y="0"/>
                      </a:lnTo>
                      <a:lnTo>
                        <a:pt x="0" y="127"/>
                      </a:lnTo>
                      <a:lnTo>
                        <a:pt x="111" y="10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612800" y="4013280"/>
                <a:ext cx="2262240" cy="1404720"/>
                <a:chOff x="1612800" y="4013280"/>
                <a:chExt cx="2262240" cy="14047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612800" y="4105440"/>
                  <a:ext cx="2084400" cy="1312560"/>
                </a:xfrm>
                <a:custGeom>
                  <a:avLst/>
                  <a:gdLst/>
                  <a:ahLst/>
                  <a:rect l="l" t="t" r="r" b="b"/>
                  <a:pathLst>
                    <a:path w="1313" h="827">
                      <a:moveTo>
                        <a:pt x="0" y="794"/>
                      </a:moveTo>
                      <a:lnTo>
                        <a:pt x="19" y="827"/>
                      </a:lnTo>
                      <a:lnTo>
                        <a:pt x="1313" y="33"/>
                      </a:lnTo>
                      <a:lnTo>
                        <a:pt x="1294" y="0"/>
                      </a:lnTo>
                      <a:lnTo>
                        <a:pt x="0" y="79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619440" y="4013280"/>
                  <a:ext cx="255600" cy="225360"/>
                </a:xfrm>
                <a:custGeom>
                  <a:avLst/>
                  <a:gdLst/>
                  <a:ahLst/>
                  <a:rect l="l" t="t" r="r" b="b"/>
                  <a:pathLst>
                    <a:path w="161" h="142">
                      <a:moveTo>
                        <a:pt x="74" y="142"/>
                      </a:moveTo>
                      <a:lnTo>
                        <a:pt x="161" y="0"/>
                      </a:lnTo>
                      <a:lnTo>
                        <a:pt x="0" y="12"/>
                      </a:lnTo>
                      <a:lnTo>
                        <a:pt x="74" y="14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998880" y="3497400"/>
                <a:ext cx="206280" cy="264960"/>
                <a:chOff x="3998880" y="3497400"/>
                <a:chExt cx="206280" cy="2649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076640" y="3497400"/>
                  <a:ext cx="73080" cy="7272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46" y="19"/>
                      </a:moveTo>
                      <a:lnTo>
                        <a:pt x="15" y="0"/>
                      </a:lnTo>
                      <a:lnTo>
                        <a:pt x="0" y="26"/>
                      </a:lnTo>
                      <a:lnTo>
                        <a:pt x="31" y="46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998880" y="3497400"/>
                  <a:ext cx="206280" cy="264960"/>
                </a:xfrm>
                <a:custGeom>
                  <a:avLst/>
                  <a:gdLst/>
                  <a:ahLst/>
                  <a:rect l="l" t="t" r="r" b="b"/>
                  <a:pathLst>
                    <a:path w="130" h="167">
                      <a:moveTo>
                        <a:pt x="2" y="0"/>
                      </a:moveTo>
                      <a:lnTo>
                        <a:pt x="0" y="167"/>
                      </a:lnTo>
                      <a:lnTo>
                        <a:pt x="130" y="68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3998880" y="4002120"/>
                <a:ext cx="1886040" cy="917640"/>
                <a:chOff x="3998880" y="4002120"/>
                <a:chExt cx="1886040" cy="9176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194000" y="4083120"/>
                  <a:ext cx="1690920" cy="836640"/>
                </a:xfrm>
                <a:custGeom>
                  <a:avLst/>
                  <a:gdLst/>
                  <a:ahLst/>
                  <a:rect l="l" t="t" r="r" b="b"/>
                  <a:pathLst>
                    <a:path w="1065" h="527">
                      <a:moveTo>
                        <a:pt x="1049" y="527"/>
                      </a:moveTo>
                      <a:lnTo>
                        <a:pt x="1065" y="491"/>
                      </a:lnTo>
                      <a:lnTo>
                        <a:pt x="15" y="0"/>
                      </a:lnTo>
                      <a:lnTo>
                        <a:pt x="0" y="36"/>
                      </a:lnTo>
                      <a:lnTo>
                        <a:pt x="1049" y="52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98880" y="4002120"/>
                  <a:ext cx="257040" cy="217440"/>
                </a:xfrm>
                <a:custGeom>
                  <a:avLst/>
                  <a:gdLst/>
                  <a:ahLst/>
                  <a:rect l="l" t="t" r="r" b="b"/>
                  <a:pathLst>
                    <a:path w="162" h="137">
                      <a:moveTo>
                        <a:pt x="162" y="0"/>
                      </a:moveTo>
                      <a:lnTo>
                        <a:pt x="0" y="7"/>
                      </a:lnTo>
                      <a:lnTo>
                        <a:pt x="103" y="137"/>
                      </a:lnTo>
                      <a:lnTo>
                        <a:pt x="16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222720" y="1874880"/>
                <a:ext cx="577800" cy="1887480"/>
                <a:chOff x="3222720" y="1874880"/>
                <a:chExt cx="577800" cy="18874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3222720" y="1874880"/>
                  <a:ext cx="495360" cy="1670040"/>
                </a:xfrm>
                <a:custGeom>
                  <a:avLst/>
                  <a:gdLst/>
                  <a:ahLst/>
                  <a:rect l="l" t="t" r="r" b="b"/>
                  <a:pathLst>
                    <a:path w="312" h="1052">
                      <a:moveTo>
                        <a:pt x="36" y="0"/>
                      </a:moveTo>
                      <a:lnTo>
                        <a:pt x="0" y="11"/>
                      </a:lnTo>
                      <a:lnTo>
                        <a:pt x="276" y="1052"/>
                      </a:lnTo>
                      <a:lnTo>
                        <a:pt x="312" y="104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578400" y="3502080"/>
                  <a:ext cx="222120" cy="260280"/>
                </a:xfrm>
                <a:custGeom>
                  <a:avLst/>
                  <a:gdLst/>
                  <a:ahLst/>
                  <a:rect l="l" t="t" r="r" b="b"/>
                  <a:pathLst>
                    <a:path w="140" h="164">
                      <a:moveTo>
                        <a:pt x="0" y="39"/>
                      </a:moveTo>
                      <a:lnTo>
                        <a:pt x="108" y="164"/>
                      </a:lnTo>
                      <a:lnTo>
                        <a:pt x="140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 flipV="1">
                <a:off x="1754280" y="2133360"/>
                <a:ext cx="4118040" cy="376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628640" y="3011400"/>
                <a:ext cx="2495520" cy="27561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622400" y="2509920"/>
                <a:ext cx="1500120" cy="31320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1623960" y="2881440"/>
                <a:ext cx="1257480" cy="1137960"/>
                <a:chOff x="1623960" y="2881440"/>
                <a:chExt cx="1257480" cy="11379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1623960" y="2881440"/>
                  <a:ext cx="39600" cy="3780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5" y="1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676520" y="2928960"/>
                  <a:ext cx="41040" cy="36360"/>
                </a:xfrm>
                <a:custGeom>
                  <a:avLst/>
                  <a:gdLst/>
                  <a:ahLst/>
                  <a:rect l="l" t="t" r="r" b="b"/>
                  <a:pathLst>
                    <a:path w="26" h="23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0" y="23"/>
                      </a:lnTo>
                      <a:lnTo>
                        <a:pt x="21" y="23"/>
                      </a:lnTo>
                      <a:lnTo>
                        <a:pt x="23" y="23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28720" y="2976480"/>
                  <a:ext cx="4140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782720" y="3025800"/>
                  <a:ext cx="39600" cy="36360"/>
                </a:xfrm>
                <a:custGeom>
                  <a:avLst/>
                  <a:gdLst/>
                  <a:ahLst/>
                  <a:rect l="l" t="t" r="r" b="b"/>
                  <a:pathLst>
                    <a:path w="25" h="23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21" y="23"/>
                      </a:lnTo>
                      <a:lnTo>
                        <a:pt x="22" y="23"/>
                      </a:lnTo>
                      <a:lnTo>
                        <a:pt x="23" y="23"/>
                      </a:lnTo>
                      <a:lnTo>
                        <a:pt x="24" y="23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836720" y="307188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20" y="23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3" y="23"/>
                      </a:lnTo>
                      <a:lnTo>
                        <a:pt x="24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4" y="19"/>
                      </a:lnTo>
                      <a:lnTo>
                        <a:pt x="23" y="18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889280" y="3121200"/>
                  <a:ext cx="41040" cy="36360"/>
                </a:xfrm>
                <a:custGeom>
                  <a:avLst/>
                  <a:gdLst/>
                  <a:ahLst/>
                  <a:rect l="l" t="t" r="r" b="b"/>
                  <a:pathLst>
                    <a:path w="26" h="23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0" y="23"/>
                      </a:lnTo>
                      <a:lnTo>
                        <a:pt x="21" y="23"/>
                      </a:lnTo>
                      <a:lnTo>
                        <a:pt x="22" y="23"/>
                      </a:lnTo>
                      <a:lnTo>
                        <a:pt x="23" y="23"/>
                      </a:lnTo>
                      <a:lnTo>
                        <a:pt x="24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4" y="18"/>
                      </a:lnTo>
                      <a:lnTo>
                        <a:pt x="23" y="1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941480" y="3166920"/>
                  <a:ext cx="39600" cy="3996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21" y="23"/>
                      </a:lnTo>
                      <a:lnTo>
                        <a:pt x="22" y="25"/>
                      </a:lnTo>
                      <a:lnTo>
                        <a:pt x="23" y="25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995480" y="321624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048040" y="3263760"/>
                  <a:ext cx="4104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0" y="24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4" y="24"/>
                      </a:lnTo>
                      <a:lnTo>
                        <a:pt x="25" y="23"/>
                      </a:lnTo>
                      <a:lnTo>
                        <a:pt x="26" y="22"/>
                      </a:lnTo>
                      <a:lnTo>
                        <a:pt x="26" y="21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00240" y="3311640"/>
                  <a:ext cx="39600" cy="3960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5"/>
                      </a:lnTo>
                      <a:lnTo>
                        <a:pt x="23" y="25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154240" y="335916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4"/>
                      </a:lnTo>
                      <a:lnTo>
                        <a:pt x="25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4" y="19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206800" y="3408480"/>
                  <a:ext cx="4104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259000" y="3456000"/>
                  <a:ext cx="42840" cy="3636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3"/>
                      </a:lnTo>
                      <a:lnTo>
                        <a:pt x="23" y="23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7" y="21"/>
                      </a:lnTo>
                      <a:lnTo>
                        <a:pt x="27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313000" y="350352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367000" y="3552840"/>
                  <a:ext cx="39600" cy="36360"/>
                </a:xfrm>
                <a:custGeom>
                  <a:avLst/>
                  <a:gdLst/>
                  <a:ahLst/>
                  <a:rect l="l" t="t" r="r" b="b"/>
                  <a:pathLst>
                    <a:path w="25" h="23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1" y="23"/>
                      </a:lnTo>
                      <a:lnTo>
                        <a:pt x="22" y="23"/>
                      </a:lnTo>
                      <a:lnTo>
                        <a:pt x="23" y="23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419200" y="3598920"/>
                  <a:ext cx="4140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20" y="23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471760" y="3648240"/>
                  <a:ext cx="39600" cy="36360"/>
                </a:xfrm>
                <a:custGeom>
                  <a:avLst/>
                  <a:gdLst/>
                  <a:ahLst/>
                  <a:rect l="l" t="t" r="r" b="b"/>
                  <a:pathLst>
                    <a:path w="25" h="23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21" y="23"/>
                      </a:lnTo>
                      <a:lnTo>
                        <a:pt x="22" y="23"/>
                      </a:lnTo>
                      <a:lnTo>
                        <a:pt x="23" y="23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525760" y="369576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577960" y="3743280"/>
                  <a:ext cx="4140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630520" y="3790800"/>
                  <a:ext cx="42840" cy="38160"/>
                </a:xfrm>
                <a:custGeom>
                  <a:avLst/>
                  <a:gdLst/>
                  <a:ahLst/>
                  <a:rect l="l" t="t" r="r" b="b"/>
                  <a:pathLst>
                    <a:path w="27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4"/>
                      </a:lnTo>
                      <a:lnTo>
                        <a:pt x="25" y="23"/>
                      </a:lnTo>
                      <a:lnTo>
                        <a:pt x="27" y="22"/>
                      </a:lnTo>
                      <a:lnTo>
                        <a:pt x="27" y="21"/>
                      </a:lnTo>
                      <a:lnTo>
                        <a:pt x="25" y="20"/>
                      </a:lnTo>
                      <a:lnTo>
                        <a:pt x="24" y="19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684520" y="384012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738520" y="388620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20" y="24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4" y="20"/>
                      </a:lnTo>
                      <a:lnTo>
                        <a:pt x="23" y="19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790720" y="3935520"/>
                  <a:ext cx="4140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0" y="23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5" y="19"/>
                      </a:lnTo>
                      <a:lnTo>
                        <a:pt x="24" y="1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843280" y="3981600"/>
                  <a:ext cx="38160" cy="3780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20" y="24"/>
                      </a:lnTo>
                      <a:lnTo>
                        <a:pt x="21" y="24"/>
                      </a:lnTo>
                      <a:lnTo>
                        <a:pt x="21" y="24"/>
                      </a:lnTo>
                      <a:lnTo>
                        <a:pt x="22" y="22"/>
                      </a:lnTo>
                      <a:lnTo>
                        <a:pt x="23" y="21"/>
                      </a:lnTo>
                      <a:lnTo>
                        <a:pt x="24" y="20"/>
                      </a:lnTo>
                      <a:lnTo>
                        <a:pt x="24" y="20"/>
                      </a:lnTo>
                      <a:lnTo>
                        <a:pt x="23" y="19"/>
                      </a:lnTo>
                      <a:lnTo>
                        <a:pt x="23" y="18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3370320" y="4635360"/>
                <a:ext cx="760320" cy="1013040"/>
                <a:chOff x="3370320" y="4635360"/>
                <a:chExt cx="760320" cy="10130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370320" y="4635360"/>
                  <a:ext cx="34920" cy="42840"/>
                </a:xfrm>
                <a:custGeom>
                  <a:avLst/>
                  <a:gdLst/>
                  <a:ahLst/>
                  <a:rect l="l" t="t" r="r" b="b"/>
                  <a:pathLst>
                    <a:path w="22" h="27">
                      <a:moveTo>
                        <a:pt x="6" y="2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21" y="2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413160" y="4692600"/>
                  <a:ext cx="36360" cy="42840"/>
                </a:xfrm>
                <a:custGeom>
                  <a:avLst/>
                  <a:gdLst/>
                  <a:ahLst/>
                  <a:rect l="l" t="t" r="r" b="b"/>
                  <a:pathLst>
                    <a:path w="23" h="27">
                      <a:moveTo>
                        <a:pt x="6" y="2"/>
                      </a:move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6" y="26"/>
                      </a:lnTo>
                      <a:lnTo>
                        <a:pt x="17" y="27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2" y="26"/>
                      </a:lnTo>
                      <a:lnTo>
                        <a:pt x="23" y="25"/>
                      </a:lnTo>
                      <a:lnTo>
                        <a:pt x="23" y="24"/>
                      </a:lnTo>
                      <a:lnTo>
                        <a:pt x="22" y="23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57440" y="4749840"/>
                  <a:ext cx="33480" cy="42840"/>
                </a:xfrm>
                <a:custGeom>
                  <a:avLst/>
                  <a:gdLst/>
                  <a:ahLst/>
                  <a:rect l="l" t="t" r="r" b="b"/>
                  <a:pathLst>
                    <a:path w="21" h="27">
                      <a:moveTo>
                        <a:pt x="5" y="2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6" y="26"/>
                      </a:lnTo>
                      <a:lnTo>
                        <a:pt x="17" y="27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1" y="26"/>
                      </a:lnTo>
                      <a:lnTo>
                        <a:pt x="21" y="25"/>
                      </a:lnTo>
                      <a:lnTo>
                        <a:pt x="21" y="24"/>
                      </a:lnTo>
                      <a:lnTo>
                        <a:pt x="21" y="2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498840" y="4807080"/>
                  <a:ext cx="34920" cy="4428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7" y="2"/>
                      </a:move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17" y="26"/>
                      </a:lnTo>
                      <a:lnTo>
                        <a:pt x="18" y="28"/>
                      </a:lnTo>
                      <a:lnTo>
                        <a:pt x="19" y="28"/>
                      </a:lnTo>
                      <a:lnTo>
                        <a:pt x="20" y="28"/>
                      </a:lnTo>
                      <a:lnTo>
                        <a:pt x="21" y="28"/>
                      </a:lnTo>
                      <a:lnTo>
                        <a:pt x="22" y="26"/>
                      </a:lnTo>
                      <a:lnTo>
                        <a:pt x="22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543480" y="4865760"/>
                  <a:ext cx="34920" cy="4428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6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5" y="26"/>
                      </a:lnTo>
                      <a:lnTo>
                        <a:pt x="16" y="27"/>
                      </a:lnTo>
                      <a:lnTo>
                        <a:pt x="18" y="28"/>
                      </a:lnTo>
                      <a:lnTo>
                        <a:pt x="19" y="28"/>
                      </a:lnTo>
                      <a:lnTo>
                        <a:pt x="20" y="27"/>
                      </a:lnTo>
                      <a:lnTo>
                        <a:pt x="21" y="26"/>
                      </a:lnTo>
                      <a:lnTo>
                        <a:pt x="22" y="25"/>
                      </a:lnTo>
                      <a:lnTo>
                        <a:pt x="22" y="23"/>
                      </a:lnTo>
                      <a:lnTo>
                        <a:pt x="21" y="2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586320" y="4924440"/>
                  <a:ext cx="34920" cy="42840"/>
                </a:xfrm>
                <a:custGeom>
                  <a:avLst/>
                  <a:gdLst/>
                  <a:ahLst/>
                  <a:rect l="l" t="t" r="r" b="b"/>
                  <a:pathLst>
                    <a:path w="22" h="27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21" y="22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629160" y="4981680"/>
                  <a:ext cx="33120" cy="42840"/>
                </a:xfrm>
                <a:custGeom>
                  <a:avLst/>
                  <a:gdLst/>
                  <a:ahLst/>
                  <a:rect l="l" t="t" r="r" b="b"/>
                  <a:pathLst>
                    <a:path w="21" h="27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1" y="24"/>
                      </a:lnTo>
                      <a:lnTo>
                        <a:pt x="21" y="23"/>
                      </a:lnTo>
                      <a:lnTo>
                        <a:pt x="21" y="22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72000" y="5038560"/>
                  <a:ext cx="34920" cy="43200"/>
                </a:xfrm>
                <a:custGeom>
                  <a:avLst/>
                  <a:gdLst/>
                  <a:ahLst/>
                  <a:rect l="l" t="t" r="r" b="b"/>
                  <a:pathLst>
                    <a:path w="22" h="27">
                      <a:moveTo>
                        <a:pt x="6" y="2"/>
                      </a:move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7" y="26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1" y="27"/>
                      </a:lnTo>
                      <a:lnTo>
                        <a:pt x="22" y="26"/>
                      </a:lnTo>
                      <a:lnTo>
                        <a:pt x="22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714840" y="5095800"/>
                  <a:ext cx="34920" cy="4464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6" y="2"/>
                      </a:move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17" y="26"/>
                      </a:lnTo>
                      <a:lnTo>
                        <a:pt x="18" y="28"/>
                      </a:lnTo>
                      <a:lnTo>
                        <a:pt x="19" y="28"/>
                      </a:lnTo>
                      <a:lnTo>
                        <a:pt x="20" y="28"/>
                      </a:lnTo>
                      <a:lnTo>
                        <a:pt x="21" y="28"/>
                      </a:lnTo>
                      <a:lnTo>
                        <a:pt x="22" y="26"/>
                      </a:lnTo>
                      <a:lnTo>
                        <a:pt x="22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759120" y="5153040"/>
                  <a:ext cx="34920" cy="4428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6" y="3"/>
                      </a:move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15" y="27"/>
                      </a:lnTo>
                      <a:lnTo>
                        <a:pt x="16" y="28"/>
                      </a:lnTo>
                      <a:lnTo>
                        <a:pt x="17" y="28"/>
                      </a:lnTo>
                      <a:lnTo>
                        <a:pt x="19" y="28"/>
                      </a:lnTo>
                      <a:lnTo>
                        <a:pt x="20" y="28"/>
                      </a:lnTo>
                      <a:lnTo>
                        <a:pt x="21" y="27"/>
                      </a:lnTo>
                      <a:lnTo>
                        <a:pt x="22" y="26"/>
                      </a:lnTo>
                      <a:lnTo>
                        <a:pt x="22" y="24"/>
                      </a:lnTo>
                      <a:lnTo>
                        <a:pt x="21" y="2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801960" y="52135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6"/>
                      </a:lnTo>
                      <a:lnTo>
                        <a:pt x="19" y="26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21" y="22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844800" y="5270400"/>
                  <a:ext cx="33480" cy="42840"/>
                </a:xfrm>
                <a:custGeom>
                  <a:avLst/>
                  <a:gdLst/>
                  <a:ahLst/>
                  <a:rect l="l" t="t" r="r" b="b"/>
                  <a:pathLst>
                    <a:path w="21" h="27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1" y="24"/>
                      </a:lnTo>
                      <a:lnTo>
                        <a:pt x="21" y="23"/>
                      </a:lnTo>
                      <a:lnTo>
                        <a:pt x="21" y="22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887640" y="5327640"/>
                  <a:ext cx="34920" cy="42840"/>
                </a:xfrm>
                <a:custGeom>
                  <a:avLst/>
                  <a:gdLst/>
                  <a:ahLst/>
                  <a:rect l="l" t="t" r="r" b="b"/>
                  <a:pathLst>
                    <a:path w="22" h="27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7" y="25"/>
                      </a:lnTo>
                      <a:lnTo>
                        <a:pt x="18" y="26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1" y="26"/>
                      </a:lnTo>
                      <a:lnTo>
                        <a:pt x="22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22" y="22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930480" y="5384880"/>
                  <a:ext cx="34920" cy="4428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8"/>
                      </a:lnTo>
                      <a:lnTo>
                        <a:pt x="19" y="28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21" y="22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975120" y="5442120"/>
                  <a:ext cx="34920" cy="4428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5" y="3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5" y="27"/>
                      </a:lnTo>
                      <a:lnTo>
                        <a:pt x="16" y="28"/>
                      </a:lnTo>
                      <a:lnTo>
                        <a:pt x="17" y="28"/>
                      </a:lnTo>
                      <a:lnTo>
                        <a:pt x="18" y="28"/>
                      </a:lnTo>
                      <a:lnTo>
                        <a:pt x="20" y="28"/>
                      </a:lnTo>
                      <a:lnTo>
                        <a:pt x="21" y="27"/>
                      </a:lnTo>
                      <a:lnTo>
                        <a:pt x="22" y="26"/>
                      </a:lnTo>
                      <a:lnTo>
                        <a:pt x="22" y="24"/>
                      </a:lnTo>
                      <a:lnTo>
                        <a:pt x="21" y="2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017960" y="5499000"/>
                  <a:ext cx="34920" cy="4464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5" y="3"/>
                      </a:move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6" y="27"/>
                      </a:lnTo>
                      <a:lnTo>
                        <a:pt x="17" y="28"/>
                      </a:lnTo>
                      <a:lnTo>
                        <a:pt x="18" y="28"/>
                      </a:lnTo>
                      <a:lnTo>
                        <a:pt x="19" y="28"/>
                      </a:lnTo>
                      <a:lnTo>
                        <a:pt x="20" y="28"/>
                      </a:lnTo>
                      <a:lnTo>
                        <a:pt x="21" y="27"/>
                      </a:lnTo>
                      <a:lnTo>
                        <a:pt x="22" y="26"/>
                      </a:lnTo>
                      <a:lnTo>
                        <a:pt x="22" y="25"/>
                      </a:lnTo>
                      <a:lnTo>
                        <a:pt x="21" y="2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060800" y="5557680"/>
                  <a:ext cx="33480" cy="43200"/>
                </a:xfrm>
                <a:custGeom>
                  <a:avLst/>
                  <a:gdLst/>
                  <a:ahLst/>
                  <a:rect l="l" t="t" r="r" b="b"/>
                  <a:pathLst>
                    <a:path w="21" h="27">
                      <a:moveTo>
                        <a:pt x="6" y="2"/>
                      </a:move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6" y="26"/>
                      </a:lnTo>
                      <a:lnTo>
                        <a:pt x="17" y="27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1" y="26"/>
                      </a:lnTo>
                      <a:lnTo>
                        <a:pt x="21" y="25"/>
                      </a:lnTo>
                      <a:lnTo>
                        <a:pt x="21" y="24"/>
                      </a:lnTo>
                      <a:lnTo>
                        <a:pt x="21" y="23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103640" y="56167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1" y="19"/>
                      </a:lnTo>
                      <a:lnTo>
                        <a:pt x="12" y="19"/>
                      </a:lnTo>
                      <a:lnTo>
                        <a:pt x="13" y="20"/>
                      </a:lnTo>
                      <a:lnTo>
                        <a:pt x="13" y="20"/>
                      </a:lnTo>
                      <a:lnTo>
                        <a:pt x="14" y="19"/>
                      </a:lnTo>
                      <a:lnTo>
                        <a:pt x="15" y="17"/>
                      </a:lnTo>
                      <a:lnTo>
                        <a:pt x="17" y="16"/>
                      </a:lnTo>
                      <a:lnTo>
                        <a:pt x="17" y="16"/>
                      </a:lnTo>
                      <a:lnTo>
                        <a:pt x="17" y="15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 flipH="1">
                <a:off x="1641240" y="1882800"/>
                <a:ext cx="1360440" cy="3259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1770120" y="5141520"/>
                <a:ext cx="4102200" cy="374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500280" y="1882800"/>
                <a:ext cx="2497320" cy="2882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75000" y="1882800"/>
                <a:ext cx="623880" cy="1003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98920" y="3511440"/>
                <a:ext cx="1498680" cy="1379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1641600" y="3387240"/>
                <a:ext cx="2495520" cy="1879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4618080" y="2254320"/>
                <a:ext cx="1258920" cy="887400"/>
                <a:chOff x="4618080" y="2254320"/>
                <a:chExt cx="1258920" cy="8874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5834160" y="225432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6" y="6"/>
                      </a:moveTo>
                      <a:lnTo>
                        <a:pt x="26" y="4"/>
                      </a:lnTo>
                      <a:lnTo>
                        <a:pt x="27" y="3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3" y="1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775480" y="229536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6" y="6"/>
                      </a:move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" y="14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20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0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718240" y="2335320"/>
                  <a:ext cx="41040" cy="33120"/>
                </a:xfrm>
                <a:custGeom>
                  <a:avLst/>
                  <a:gdLst/>
                  <a:ahLst/>
                  <a:rect l="l" t="t" r="r" b="b"/>
                  <a:pathLst>
                    <a:path w="26" h="21">
                      <a:moveTo>
                        <a:pt x="25" y="7"/>
                      </a:moveTo>
                      <a:lnTo>
                        <a:pt x="26" y="6"/>
                      </a:lnTo>
                      <a:lnTo>
                        <a:pt x="26" y="5"/>
                      </a:lnTo>
                      <a:lnTo>
                        <a:pt x="26" y="4"/>
                      </a:lnTo>
                      <a:lnTo>
                        <a:pt x="26" y="3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659560" y="237816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5" y="5"/>
                      </a:moveTo>
                      <a:lnTo>
                        <a:pt x="26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19"/>
                      </a:lnTo>
                      <a:lnTo>
                        <a:pt x="25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600880" y="241776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5" y="6"/>
                      </a:move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541840" y="2459160"/>
                  <a:ext cx="44640" cy="331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5" y="6"/>
                      </a:moveTo>
                      <a:lnTo>
                        <a:pt x="26" y="5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" y="14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20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0"/>
                      </a:lnTo>
                      <a:lnTo>
                        <a:pt x="25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483160" y="2498760"/>
                  <a:ext cx="44640" cy="3492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27" y="7"/>
                      </a:move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2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2"/>
                      </a:lnTo>
                      <a:lnTo>
                        <a:pt x="4" y="22"/>
                      </a:lnTo>
                      <a:lnTo>
                        <a:pt x="6" y="21"/>
                      </a:lnTo>
                      <a:lnTo>
                        <a:pt x="27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424480" y="2541600"/>
                  <a:ext cx="4428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7" y="5"/>
                      </a:move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27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369040" y="258120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5" y="7"/>
                      </a:move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4" y="21"/>
                      </a:lnTo>
                      <a:lnTo>
                        <a:pt x="25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310360" y="262260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5" y="6"/>
                      </a:move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251320" y="266220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5" y="7"/>
                      </a:move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6" y="3"/>
                      </a:lnTo>
                      <a:lnTo>
                        <a:pt x="25" y="2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2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2"/>
                      </a:lnTo>
                      <a:lnTo>
                        <a:pt x="4" y="22"/>
                      </a:lnTo>
                      <a:lnTo>
                        <a:pt x="5" y="21"/>
                      </a:lnTo>
                      <a:lnTo>
                        <a:pt x="25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192640" y="270504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6" y="5"/>
                      </a:move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26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133960" y="274464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6" y="7"/>
                      </a:move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1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2"/>
                      </a:lnTo>
                      <a:lnTo>
                        <a:pt x="4" y="22"/>
                      </a:lnTo>
                      <a:lnTo>
                        <a:pt x="5" y="21"/>
                      </a:lnTo>
                      <a:lnTo>
                        <a:pt x="26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076720" y="2786040"/>
                  <a:ext cx="4464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5" y="6"/>
                      </a:moveTo>
                      <a:lnTo>
                        <a:pt x="26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018040" y="2827440"/>
                  <a:ext cx="44640" cy="331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6" y="6"/>
                      </a:move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0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959360" y="2868480"/>
                  <a:ext cx="4428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6" y="5"/>
                      </a:moveTo>
                      <a:lnTo>
                        <a:pt x="27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0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26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900680" y="2908440"/>
                  <a:ext cx="44280" cy="3492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27" y="7"/>
                      </a:moveTo>
                      <a:lnTo>
                        <a:pt x="28" y="6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1"/>
                      </a:lnTo>
                      <a:lnTo>
                        <a:pt x="3" y="15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3" y="21"/>
                      </a:lnTo>
                      <a:lnTo>
                        <a:pt x="4" y="22"/>
                      </a:lnTo>
                      <a:lnTo>
                        <a:pt x="5" y="22"/>
                      </a:lnTo>
                      <a:lnTo>
                        <a:pt x="6" y="21"/>
                      </a:lnTo>
                      <a:lnTo>
                        <a:pt x="27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843440" y="294948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6" y="6"/>
                      </a:move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786200" y="299088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5" y="6"/>
                      </a:move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4" y="20"/>
                      </a:lnTo>
                      <a:lnTo>
                        <a:pt x="25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727520" y="303228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5" y="5"/>
                      </a:moveTo>
                      <a:lnTo>
                        <a:pt x="26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668840" y="307188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5" y="7"/>
                      </a:move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" y="15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2"/>
                      </a:lnTo>
                      <a:lnTo>
                        <a:pt x="4" y="22"/>
                      </a:lnTo>
                      <a:lnTo>
                        <a:pt x="5" y="21"/>
                      </a:lnTo>
                      <a:lnTo>
                        <a:pt x="25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618080" y="3112920"/>
                  <a:ext cx="34920" cy="28800"/>
                </a:xfrm>
                <a:custGeom>
                  <a:avLst/>
                  <a:gdLst/>
                  <a:ahLst/>
                  <a:rect l="l" t="t" r="r" b="b"/>
                  <a:pathLst>
                    <a:path w="22" h="18">
                      <a:moveTo>
                        <a:pt x="21" y="6"/>
                      </a:move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2" y="3"/>
                      </a:lnTo>
                      <a:lnTo>
                        <a:pt x="22" y="2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2" y="12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6" y="18"/>
                      </a:lnTo>
                      <a:lnTo>
                        <a:pt x="21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370320" y="3510000"/>
                <a:ext cx="752400" cy="509400"/>
                <a:chOff x="3370320" y="3510000"/>
                <a:chExt cx="752400" cy="5094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370320" y="398628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" y="15"/>
                      </a:move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1" y="18"/>
                      </a:lnTo>
                      <a:lnTo>
                        <a:pt x="2" y="19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1"/>
                      </a:lnTo>
                      <a:lnTo>
                        <a:pt x="2" y="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429000" y="3944880"/>
                  <a:ext cx="4428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" y="16"/>
                      </a:move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26" y="7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2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489480" y="390672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1" y="15"/>
                      </a:move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0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548160" y="386712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1" y="14"/>
                      </a:move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0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606840" y="3827520"/>
                  <a:ext cx="44280" cy="331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" y="15"/>
                      </a:move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1"/>
                      </a:lnTo>
                      <a:lnTo>
                        <a:pt x="2" y="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666960" y="3787920"/>
                  <a:ext cx="4320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1" y="15"/>
                      </a:move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724200" y="3749760"/>
                  <a:ext cx="4464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" y="14"/>
                      </a:move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2" y="19"/>
                      </a:lnTo>
                      <a:lnTo>
                        <a:pt x="3" y="20"/>
                      </a:lnTo>
                      <a:lnTo>
                        <a:pt x="4" y="20"/>
                      </a:lnTo>
                      <a:lnTo>
                        <a:pt x="5" y="19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782880" y="3708360"/>
                  <a:ext cx="4464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" y="16"/>
                      </a:move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27" y="7"/>
                      </a:ln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1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843360" y="3668760"/>
                  <a:ext cx="44280" cy="331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1" y="16"/>
                      </a:move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26" y="7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902040" y="3630600"/>
                  <a:ext cx="4464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1" y="14"/>
                      </a:move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0"/>
                      </a:lnTo>
                      <a:lnTo>
                        <a:pt x="27" y="6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960720" y="359100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" y="14"/>
                      </a:move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1" y="18"/>
                      </a:lnTo>
                      <a:lnTo>
                        <a:pt x="2" y="20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0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021200" y="3551400"/>
                  <a:ext cx="42840" cy="31680"/>
                </a:xfrm>
                <a:custGeom>
                  <a:avLst/>
                  <a:gdLst/>
                  <a:ahLst/>
                  <a:rect l="l" t="t" r="r" b="b"/>
                  <a:pathLst>
                    <a:path w="27" h="20">
                      <a:moveTo>
                        <a:pt x="1" y="15"/>
                      </a:move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4" y="20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079880" y="351000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1" y="16"/>
                      </a:move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6" y="7"/>
                      </a:lnTo>
                      <a:lnTo>
                        <a:pt x="27" y="6"/>
                      </a:ln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1"/>
                      </a:lnTo>
                      <a:lnTo>
                        <a:pt x="1" y="1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3038400" y="1382760"/>
                <a:ext cx="104760" cy="374760"/>
                <a:chOff x="3038400" y="1382760"/>
                <a:chExt cx="104760" cy="374760"/>
              </a:xfrm>
            </p:grpSpPr>
            <p:sp>
              <p:nvSpPr>
                <p:cNvPr id="337" name=""/>
                <p:cNvSpPr/>
                <p:nvPr/>
              </p:nvSpPr>
              <p:spPr>
                <a:xfrm flipV="1">
                  <a:off x="3089160" y="1486080"/>
                  <a:ext cx="1440" cy="2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038400" y="138276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66" h="68">
                      <a:moveTo>
                        <a:pt x="66" y="68"/>
                      </a:moveTo>
                      <a:lnTo>
                        <a:pt x="32" y="0"/>
                      </a:lnTo>
                      <a:lnTo>
                        <a:pt x="0" y="68"/>
                      </a:lnTo>
                      <a:lnTo>
                        <a:pt x="66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5991120" y="4765680"/>
                <a:ext cx="104760" cy="376200"/>
                <a:chOff x="5991120" y="4765680"/>
                <a:chExt cx="104760" cy="376200"/>
              </a:xfrm>
            </p:grpSpPr>
            <p:sp>
              <p:nvSpPr>
                <p:cNvPr id="340" name=""/>
                <p:cNvSpPr/>
                <p:nvPr/>
              </p:nvSpPr>
              <p:spPr>
                <a:xfrm flipV="1">
                  <a:off x="6043320" y="4870440"/>
                  <a:ext cx="1080" cy="2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991120" y="476568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66" h="68">
                      <a:moveTo>
                        <a:pt x="66" y="68"/>
                      </a:moveTo>
                      <a:lnTo>
                        <a:pt x="33" y="0"/>
                      </a:lnTo>
                      <a:lnTo>
                        <a:pt x="0" y="68"/>
                      </a:lnTo>
                      <a:lnTo>
                        <a:pt x="66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075200" y="2992320"/>
                <a:ext cx="104760" cy="376200"/>
                <a:chOff x="4075200" y="2992320"/>
                <a:chExt cx="104760" cy="3762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127400" y="2992320"/>
                  <a:ext cx="1800" cy="2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075200" y="326052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66" h="68">
                      <a:moveTo>
                        <a:pt x="0" y="0"/>
                      </a:moveTo>
                      <a:lnTo>
                        <a:pt x="33" y="68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1266840" y="5267160"/>
                <a:ext cx="104760" cy="374760"/>
                <a:chOff x="1266840" y="5267160"/>
                <a:chExt cx="104760" cy="3747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1319400" y="5267160"/>
                  <a:ext cx="1440" cy="27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266840" y="553392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66" h="68">
                      <a:moveTo>
                        <a:pt x="0" y="0"/>
                      </a:moveTo>
                      <a:lnTo>
                        <a:pt x="33" y="68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1635120" y="1744560"/>
                <a:ext cx="1290600" cy="654120"/>
              </a:xfrm>
              <a:custGeom>
                <a:avLst/>
                <a:gdLst/>
                <a:ahLst/>
                <a:rect l="l" t="t" r="r" b="b"/>
                <a:pathLst>
                  <a:path w="813" h="412">
                    <a:moveTo>
                      <a:pt x="0" y="394"/>
                    </a:moveTo>
                    <a:lnTo>
                      <a:pt x="8" y="412"/>
                    </a:lnTo>
                    <a:lnTo>
                      <a:pt x="813" y="17"/>
                    </a:lnTo>
                    <a:lnTo>
                      <a:pt x="804" y="0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56080" y="1619280"/>
                <a:ext cx="2301840" cy="404640"/>
              </a:xfrm>
              <a:custGeom>
                <a:avLst/>
                <a:gdLst/>
                <a:ahLst/>
                <a:rect l="l" t="t" r="r" b="b"/>
                <a:pathLst>
                  <a:path w="1450" h="255">
                    <a:moveTo>
                      <a:pt x="3" y="0"/>
                    </a:moveTo>
                    <a:lnTo>
                      <a:pt x="0" y="18"/>
                    </a:lnTo>
                    <a:lnTo>
                      <a:pt x="1447" y="255"/>
                    </a:lnTo>
                    <a:lnTo>
                      <a:pt x="1450" y="23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768320" y="2746440"/>
                <a:ext cx="2176560" cy="406440"/>
              </a:xfrm>
              <a:custGeom>
                <a:avLst/>
                <a:gdLst/>
                <a:ahLst/>
                <a:rect l="l" t="t" r="r" b="b"/>
                <a:pathLst>
                  <a:path w="1371" h="256">
                    <a:moveTo>
                      <a:pt x="4" y="0"/>
                    </a:moveTo>
                    <a:lnTo>
                      <a:pt x="0" y="19"/>
                    </a:lnTo>
                    <a:lnTo>
                      <a:pt x="1367" y="256"/>
                    </a:lnTo>
                    <a:lnTo>
                      <a:pt x="1371" y="23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572000" y="2370240"/>
                <a:ext cx="1289160" cy="655560"/>
              </a:xfrm>
              <a:custGeom>
                <a:avLst/>
                <a:gdLst/>
                <a:ahLst/>
                <a:rect l="l" t="t" r="r" b="b"/>
                <a:pathLst>
                  <a:path w="812" h="413">
                    <a:moveTo>
                      <a:pt x="0" y="395"/>
                    </a:moveTo>
                    <a:lnTo>
                      <a:pt x="8" y="413"/>
                    </a:lnTo>
                    <a:lnTo>
                      <a:pt x="812" y="18"/>
                    </a:lnTo>
                    <a:lnTo>
                      <a:pt x="804" y="0"/>
                    </a:lnTo>
                    <a:lnTo>
                      <a:pt x="0" y="39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768320" y="5504040"/>
                <a:ext cx="2176560" cy="404640"/>
              </a:xfrm>
              <a:custGeom>
                <a:avLst/>
                <a:gdLst/>
                <a:ahLst/>
                <a:rect l="l" t="t" r="r" b="b"/>
                <a:pathLst>
                  <a:path w="1371" h="255">
                    <a:moveTo>
                      <a:pt x="4" y="0"/>
                    </a:moveTo>
                    <a:lnTo>
                      <a:pt x="0" y="18"/>
                    </a:lnTo>
                    <a:lnTo>
                      <a:pt x="1367" y="255"/>
                    </a:lnTo>
                    <a:lnTo>
                      <a:pt x="1371" y="23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00520" y="5129280"/>
                <a:ext cx="1162080" cy="777960"/>
              </a:xfrm>
              <a:custGeom>
                <a:avLst/>
                <a:gdLst/>
                <a:ahLst/>
                <a:rect l="l" t="t" r="r" b="b"/>
                <a:pathLst>
                  <a:path w="732" h="490">
                    <a:moveTo>
                      <a:pt x="0" y="474"/>
                    </a:moveTo>
                    <a:lnTo>
                      <a:pt x="9" y="490"/>
                    </a:lnTo>
                    <a:lnTo>
                      <a:pt x="732" y="16"/>
                    </a:lnTo>
                    <a:lnTo>
                      <a:pt x="723" y="0"/>
                    </a:lnTo>
                    <a:lnTo>
                      <a:pt x="0" y="47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3429000" y="4375080"/>
                <a:ext cx="2397240" cy="523800"/>
                <a:chOff x="3429000" y="4375080"/>
                <a:chExt cx="2397240" cy="52380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3429000" y="4375080"/>
                  <a:ext cx="122400" cy="5400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4" y="34"/>
                      </a:lnTo>
                      <a:lnTo>
                        <a:pt x="77" y="1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635280" y="441792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8"/>
                      </a:lnTo>
                      <a:lnTo>
                        <a:pt x="74" y="34"/>
                      </a:lnTo>
                      <a:lnTo>
                        <a:pt x="78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841920" y="4460760"/>
                  <a:ext cx="122040" cy="5400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4" y="34"/>
                      </a:lnTo>
                      <a:lnTo>
                        <a:pt x="77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048200" y="450216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5" y="34"/>
                      </a:lnTo>
                      <a:lnTo>
                        <a:pt x="78" y="1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255920" y="4546440"/>
                  <a:ext cx="122400" cy="5400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3" y="0"/>
                      </a:moveTo>
                      <a:lnTo>
                        <a:pt x="0" y="18"/>
                      </a:lnTo>
                      <a:lnTo>
                        <a:pt x="73" y="34"/>
                      </a:lnTo>
                      <a:lnTo>
                        <a:pt x="77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460760" y="458784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5" y="34"/>
                      </a:lnTo>
                      <a:lnTo>
                        <a:pt x="78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668840" y="463068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5" y="34"/>
                      </a:lnTo>
                      <a:lnTo>
                        <a:pt x="78" y="1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876920" y="4673520"/>
                  <a:ext cx="122040" cy="5400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3" y="0"/>
                      </a:moveTo>
                      <a:lnTo>
                        <a:pt x="0" y="18"/>
                      </a:lnTo>
                      <a:lnTo>
                        <a:pt x="73" y="34"/>
                      </a:lnTo>
                      <a:lnTo>
                        <a:pt x="77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081760" y="4716360"/>
                  <a:ext cx="12348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5" y="34"/>
                      </a:lnTo>
                      <a:lnTo>
                        <a:pt x="78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289480" y="4761000"/>
                  <a:ext cx="122400" cy="5400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3" y="0"/>
                      </a:moveTo>
                      <a:lnTo>
                        <a:pt x="0" y="18"/>
                      </a:lnTo>
                      <a:lnTo>
                        <a:pt x="74" y="34"/>
                      </a:lnTo>
                      <a:lnTo>
                        <a:pt x="77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495760" y="480204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8"/>
                      </a:lnTo>
                      <a:lnTo>
                        <a:pt x="74" y="34"/>
                      </a:lnTo>
                      <a:lnTo>
                        <a:pt x="78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702400" y="484488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5" y="34"/>
                      </a:lnTo>
                      <a:lnTo>
                        <a:pt x="78" y="1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1635120" y="4502160"/>
                <a:ext cx="1165320" cy="777960"/>
                <a:chOff x="1635120" y="4502160"/>
                <a:chExt cx="1165320" cy="7779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1635120" y="5186520"/>
                  <a:ext cx="115920" cy="93600"/>
                </a:xfrm>
                <a:custGeom>
                  <a:avLst/>
                  <a:gdLst/>
                  <a:ahLst/>
                  <a:rect l="l" t="t" r="r" b="b"/>
                  <a:pathLst>
                    <a:path w="73" h="59">
                      <a:moveTo>
                        <a:pt x="0" y="43"/>
                      </a:moveTo>
                      <a:lnTo>
                        <a:pt x="10" y="59"/>
                      </a:lnTo>
                      <a:lnTo>
                        <a:pt x="73" y="17"/>
                      </a:lnTo>
                      <a:lnTo>
                        <a:pt x="63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12960" y="5070600"/>
                  <a:ext cx="117360" cy="91800"/>
                </a:xfrm>
                <a:custGeom>
                  <a:avLst/>
                  <a:gdLst/>
                  <a:ahLst/>
                  <a:rect l="l" t="t" r="r" b="b"/>
                  <a:pathLst>
                    <a:path w="74" h="58">
                      <a:moveTo>
                        <a:pt x="0" y="41"/>
                      </a:moveTo>
                      <a:lnTo>
                        <a:pt x="9" y="58"/>
                      </a:lnTo>
                      <a:lnTo>
                        <a:pt x="74" y="16"/>
                      </a:lnTo>
                      <a:lnTo>
                        <a:pt x="64" y="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992240" y="4952880"/>
                  <a:ext cx="115920" cy="92160"/>
                </a:xfrm>
                <a:custGeom>
                  <a:avLst/>
                  <a:gdLst/>
                  <a:ahLst/>
                  <a:rect l="l" t="t" r="r" b="b"/>
                  <a:pathLst>
                    <a:path w="73" h="58">
                      <a:moveTo>
                        <a:pt x="0" y="42"/>
                      </a:moveTo>
                      <a:lnTo>
                        <a:pt x="9" y="58"/>
                      </a:lnTo>
                      <a:lnTo>
                        <a:pt x="73" y="17"/>
                      </a:lnTo>
                      <a:lnTo>
                        <a:pt x="64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168640" y="4836960"/>
                  <a:ext cx="117360" cy="92160"/>
                </a:xfrm>
                <a:custGeom>
                  <a:avLst/>
                  <a:gdLst/>
                  <a:ahLst/>
                  <a:rect l="l" t="t" r="r" b="b"/>
                  <a:pathLst>
                    <a:path w="74" h="58">
                      <a:moveTo>
                        <a:pt x="0" y="41"/>
                      </a:moveTo>
                      <a:lnTo>
                        <a:pt x="10" y="58"/>
                      </a:lnTo>
                      <a:lnTo>
                        <a:pt x="74" y="16"/>
                      </a:lnTo>
                      <a:lnTo>
                        <a:pt x="65" y="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347920" y="4719600"/>
                  <a:ext cx="117360" cy="92160"/>
                </a:xfrm>
                <a:custGeom>
                  <a:avLst/>
                  <a:gdLst/>
                  <a:ahLst/>
                  <a:rect l="l" t="t" r="r" b="b"/>
                  <a:pathLst>
                    <a:path w="74" h="58">
                      <a:moveTo>
                        <a:pt x="0" y="42"/>
                      </a:moveTo>
                      <a:lnTo>
                        <a:pt x="10" y="58"/>
                      </a:lnTo>
                      <a:lnTo>
                        <a:pt x="74" y="17"/>
                      </a:lnTo>
                      <a:lnTo>
                        <a:pt x="64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527200" y="4603680"/>
                  <a:ext cx="117720" cy="92160"/>
                </a:xfrm>
                <a:custGeom>
                  <a:avLst/>
                  <a:gdLst/>
                  <a:ahLst/>
                  <a:rect l="l" t="t" r="r" b="b"/>
                  <a:pathLst>
                    <a:path w="74" h="58">
                      <a:moveTo>
                        <a:pt x="0" y="42"/>
                      </a:moveTo>
                      <a:lnTo>
                        <a:pt x="9" y="58"/>
                      </a:lnTo>
                      <a:lnTo>
                        <a:pt x="74" y="16"/>
                      </a:lnTo>
                      <a:lnTo>
                        <a:pt x="64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705040" y="4502160"/>
                  <a:ext cx="95400" cy="77760"/>
                </a:xfrm>
                <a:custGeom>
                  <a:avLst/>
                  <a:gdLst/>
                  <a:ahLst/>
                  <a:rect l="l" t="t" r="r" b="b"/>
                  <a:pathLst>
                    <a:path w="60" h="49">
                      <a:moveTo>
                        <a:pt x="0" y="32"/>
                      </a:moveTo>
                      <a:lnTo>
                        <a:pt x="9" y="49"/>
                      </a:lnTo>
                      <a:lnTo>
                        <a:pt x="60" y="17"/>
                      </a:lnTo>
                      <a:lnTo>
                        <a:pt x="50" y="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" name=""/>
              <p:cNvSpPr/>
              <p:nvPr/>
            </p:nvSpPr>
            <p:spPr>
              <a:xfrm>
                <a:off x="1373040" y="3011400"/>
                <a:ext cx="30240" cy="2130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308480" y="3511440"/>
                <a:ext cx="30240" cy="2130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222960" y="2509920"/>
                <a:ext cx="30240" cy="2130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3159000" y="1882800"/>
                <a:ext cx="30240" cy="2004840"/>
                <a:chOff x="3159000" y="1882800"/>
                <a:chExt cx="30240" cy="200484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159000" y="188280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159000" y="2101680"/>
                  <a:ext cx="30240" cy="125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159000" y="2322360"/>
                  <a:ext cx="30240" cy="125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159000" y="254160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159000" y="276084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59000" y="297972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159000" y="319896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159000" y="3417840"/>
                  <a:ext cx="30240" cy="125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159000" y="363708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159000" y="3857760"/>
                  <a:ext cx="30240" cy="298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9" name=""/>
            <p:cNvSpPr/>
            <p:nvPr/>
          </p:nvSpPr>
          <p:spPr>
            <a:xfrm>
              <a:off x="611280" y="765000"/>
              <a:ext cx="612144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thogonal Coupling of Two D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Molecule makes Miracle 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FA2-35C8-4354-BF6A-AB5291B047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826920" y="189000"/>
            <a:ext cx="7631280" cy="6335640"/>
            <a:chOff x="826920" y="189000"/>
            <a:chExt cx="7631280" cy="6335640"/>
          </a:xfrm>
        </p:grpSpPr>
        <p:sp>
          <p:nvSpPr>
            <p:cNvPr id="391" name=""/>
            <p:cNvSpPr/>
            <p:nvPr/>
          </p:nvSpPr>
          <p:spPr>
            <a:xfrm>
              <a:off x="900000" y="189000"/>
              <a:ext cx="7315200" cy="11430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he Place where TSC is born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14400" y="1700280"/>
              <a:ext cx="7543800" cy="4824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1910c6"/>
                  </a:solidFill>
                  <a:latin typeface="Arial"/>
                </a:rPr>
                <a:t>1)In Natural Gas-Phase</a:t>
              </a: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 of D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 (H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): Very small probability for two D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(H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) molecules to make orthogonally coupled stat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ja-JP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 </a:t>
              </a:r>
              <a:r>
                <a:rPr b="0" lang="ja-JP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sible at very low temperatur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ja-JP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ja-JP" sz="2800" spc="-1" strike="noStrike">
                  <a:solidFill>
                    <a:srgbClr val="1910c6"/>
                  </a:solidFill>
                  <a:latin typeface="Arial"/>
                  <a:ea typeface="Arial"/>
                </a:rPr>
                <a:t>Bose-Einstein Condensation</a:t>
              </a:r>
              <a:r>
                <a:rPr b="0" lang="ja-JP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c442c1"/>
                  </a:solidFill>
                  <a:latin typeface="Arial"/>
                  <a:ea typeface="Arial"/>
                </a:rPr>
                <a:t>2)In Near-Surface-Lattice</a:t>
              </a:r>
              <a:r>
                <a:rPr b="0" lang="ja-JP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onditions: O(T)-Sites, Defect/Void; with phonon excit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3300"/>
                  </a:solidFill>
                  <a:latin typeface="Arial"/>
                  <a:ea typeface="Arial"/>
                </a:rPr>
                <a:t>3) On surface</a:t>
              </a:r>
              <a:r>
                <a:rPr b="0" lang="ja-JP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Fractal-surface (adatom +dimer + corner-hole) with two D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ja-JP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oupl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→ </a:t>
              </a:r>
              <a:r>
                <a:rPr b="0" lang="ja-JP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ja-JP" sz="2800" spc="-1" strike="noStrike">
                  <a:solidFill>
                    <a:srgbClr val="c442c1"/>
                  </a:solidFill>
                  <a:latin typeface="Arial"/>
                  <a:ea typeface="Arial"/>
                </a:rPr>
                <a:t>Dynamic Bose Condensation of TSC</a:t>
              </a:r>
              <a:r>
                <a:rPr b="0" lang="ja-JP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6920" y="1484280"/>
              <a:ext cx="7561440" cy="0"/>
            </a:xfrm>
            <a:prstGeom prst="line">
              <a:avLst/>
            </a:prstGeom>
            <a:ln w="57240">
              <a:solidFill>
                <a:srgbClr val="c44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900000" y="4076640"/>
            <a:ext cx="755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5A0-DE6C-42AB-A61C-7FB9E65229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atures of th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1371600"/>
            <a:ext cx="7848360" cy="66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D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gas permeation through the Pd comple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43400" y="419112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45120" y="1890720"/>
            <a:ext cx="100476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80040" y="2560680"/>
            <a:ext cx="1304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655640" y="2577960"/>
            <a:ext cx="169092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413080" y="6172200"/>
            <a:ext cx="3365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280040" y="2560680"/>
            <a:ext cx="1304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55640" y="2577960"/>
            <a:ext cx="169092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13080" y="6172200"/>
            <a:ext cx="3365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0720" y="2295360"/>
            <a:ext cx="3102120" cy="3241800"/>
          </a:xfrm>
          <a:prstGeom prst="rect">
            <a:avLst/>
          </a:prstGeom>
          <a:solidFill>
            <a:srgbClr val="ccecff"/>
          </a:solidFill>
          <a:ln cap="rnd"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0720" y="4410000"/>
            <a:ext cx="3102120" cy="1832040"/>
          </a:xfrm>
          <a:prstGeom prst="rect">
            <a:avLst/>
          </a:prstGeom>
          <a:solidFill>
            <a:srgbClr val="ffffff"/>
          </a:solidFill>
          <a:ln cap="rnd"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61840" y="5713560"/>
            <a:ext cx="757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13320" y="5765760"/>
            <a:ext cx="4428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ＭＳ Ｐゴシック"/>
              </a:rPr>
              <a:t>真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84120" y="3987720"/>
            <a:ext cx="1974960" cy="704880"/>
          </a:xfrm>
          <a:prstGeom prst="rect">
            <a:avLst/>
          </a:prstGeom>
          <a:solidFill>
            <a:srgbClr val="dddddd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284120" y="4127400"/>
            <a:ext cx="1974960" cy="141480"/>
            <a:chOff x="1284120" y="4127400"/>
            <a:chExt cx="1974960" cy="141480"/>
          </a:xfrm>
        </p:grpSpPr>
        <p:sp>
          <p:nvSpPr>
            <p:cNvPr id="411" name=""/>
            <p:cNvSpPr/>
            <p:nvPr/>
          </p:nvSpPr>
          <p:spPr>
            <a:xfrm>
              <a:off x="1284120" y="4127400"/>
              <a:ext cx="1974960" cy="1414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84120" y="4127400"/>
              <a:ext cx="1974960" cy="141480"/>
            </a:xfrm>
            <a:prstGeom prst="rect">
              <a:avLst/>
            </a:prstGeom>
            <a:noFill/>
            <a:ln cap="rnd"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496880" y="3916440"/>
            <a:ext cx="1549440" cy="141120"/>
            <a:chOff x="1496880" y="3916440"/>
            <a:chExt cx="1549440" cy="141120"/>
          </a:xfrm>
        </p:grpSpPr>
        <p:sp>
          <p:nvSpPr>
            <p:cNvPr id="414" name=""/>
            <p:cNvSpPr/>
            <p:nvPr/>
          </p:nvSpPr>
          <p:spPr>
            <a:xfrm>
              <a:off x="1496880" y="3916440"/>
              <a:ext cx="139680" cy="141120"/>
            </a:xfrm>
            <a:prstGeom prst="ellipse">
              <a:avLst/>
            </a:prstGeom>
            <a:solidFill>
              <a:srgbClr val="ff3300"/>
            </a:solidFill>
            <a:ln w="176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78040" y="3916440"/>
              <a:ext cx="141120" cy="141120"/>
            </a:xfrm>
            <a:prstGeom prst="ellipse">
              <a:avLst/>
            </a:prstGeom>
            <a:solidFill>
              <a:srgbClr val="ff3300"/>
            </a:solidFill>
            <a:ln w="176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60640" y="3916440"/>
              <a:ext cx="141120" cy="141120"/>
            </a:xfrm>
            <a:prstGeom prst="ellipse">
              <a:avLst/>
            </a:prstGeom>
            <a:solidFill>
              <a:srgbClr val="ff3300"/>
            </a:solidFill>
            <a:ln w="176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41440" y="3916440"/>
              <a:ext cx="141480" cy="141120"/>
            </a:xfrm>
            <a:prstGeom prst="ellipse">
              <a:avLst/>
            </a:prstGeom>
            <a:solidFill>
              <a:srgbClr val="ff3300"/>
            </a:solidFill>
            <a:ln w="176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24040" y="3916440"/>
              <a:ext cx="141480" cy="141120"/>
            </a:xfrm>
            <a:prstGeom prst="ellipse">
              <a:avLst/>
            </a:prstGeom>
            <a:solidFill>
              <a:srgbClr val="ff3300"/>
            </a:solidFill>
            <a:ln w="176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06640" y="3916440"/>
              <a:ext cx="139680" cy="141120"/>
            </a:xfrm>
            <a:prstGeom prst="ellipse">
              <a:avLst/>
            </a:prstGeom>
            <a:solidFill>
              <a:srgbClr val="ff3300"/>
            </a:solidFill>
            <a:ln w="176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619280" y="3618000"/>
            <a:ext cx="193680" cy="1407960"/>
            <a:chOff x="1619280" y="3618000"/>
            <a:chExt cx="193680" cy="1407960"/>
          </a:xfrm>
        </p:grpSpPr>
        <p:sp>
          <p:nvSpPr>
            <p:cNvPr id="421" name=""/>
            <p:cNvSpPr/>
            <p:nvPr/>
          </p:nvSpPr>
          <p:spPr>
            <a:xfrm>
              <a:off x="1708200" y="3618000"/>
              <a:ext cx="1440" cy="1268280"/>
            </a:xfrm>
            <a:prstGeom prst="line">
              <a:avLst/>
            </a:prstGeom>
            <a:ln cap="rnd" w="176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19280" y="4849920"/>
              <a:ext cx="193680" cy="176040"/>
            </a:xfrm>
            <a:custGeom>
              <a:avLst/>
              <a:gdLst/>
              <a:ahLst/>
              <a:rect l="l" t="t" r="r" b="b"/>
              <a:pathLst>
                <a:path w="122" h="111">
                  <a:moveTo>
                    <a:pt x="0" y="0"/>
                  </a:moveTo>
                  <a:lnTo>
                    <a:pt x="56" y="111"/>
                  </a:lnTo>
                  <a:lnTo>
                    <a:pt x="1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720720" y="2295360"/>
            <a:ext cx="24494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98920" y="2454120"/>
            <a:ext cx="11055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ＭＳ Ｐゴシック"/>
              </a:rPr>
              <a:t>重水素ガ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165400" y="3635280"/>
            <a:ext cx="193680" cy="1427400"/>
            <a:chOff x="2165400" y="3635280"/>
            <a:chExt cx="193680" cy="1427400"/>
          </a:xfrm>
        </p:grpSpPr>
        <p:sp>
          <p:nvSpPr>
            <p:cNvPr id="426" name=""/>
            <p:cNvSpPr/>
            <p:nvPr/>
          </p:nvSpPr>
          <p:spPr>
            <a:xfrm>
              <a:off x="2254320" y="3635280"/>
              <a:ext cx="1440" cy="1268640"/>
            </a:xfrm>
            <a:prstGeom prst="line">
              <a:avLst/>
            </a:prstGeom>
            <a:ln cap="rnd" w="176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65400" y="486900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0"/>
                  </a:moveTo>
                  <a:lnTo>
                    <a:pt x="67" y="122"/>
                  </a:lnTo>
                  <a:lnTo>
                    <a:pt x="1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747880" y="3670200"/>
            <a:ext cx="193680" cy="1427400"/>
            <a:chOff x="2747880" y="3670200"/>
            <a:chExt cx="193680" cy="1427400"/>
          </a:xfrm>
        </p:grpSpPr>
        <p:sp>
          <p:nvSpPr>
            <p:cNvPr id="429" name=""/>
            <p:cNvSpPr/>
            <p:nvPr/>
          </p:nvSpPr>
          <p:spPr>
            <a:xfrm>
              <a:off x="2835360" y="3670200"/>
              <a:ext cx="1440" cy="1268640"/>
            </a:xfrm>
            <a:prstGeom prst="line">
              <a:avLst/>
            </a:prstGeom>
            <a:ln cap="rnd" w="176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47880" y="49039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0"/>
                  </a:moveTo>
                  <a:lnTo>
                    <a:pt x="55" y="122"/>
                  </a:lnTo>
                  <a:lnTo>
                    <a:pt x="1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1162080" y="4973760"/>
            <a:ext cx="2219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340280" y="5132520"/>
            <a:ext cx="11055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ＭＳ Ｐゴシック"/>
              </a:rPr>
              <a:t>重陽子透過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66720" y="3071880"/>
            <a:ext cx="1462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72280" y="3228840"/>
            <a:ext cx="6638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ＭＳ Ｐゴシック"/>
              </a:rPr>
              <a:t>重陽子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75160" y="2295360"/>
            <a:ext cx="5040360" cy="3665880"/>
          </a:xfrm>
          <a:custGeom>
            <a:avLst/>
            <a:gdLst/>
            <a:ahLst/>
            <a:rect l="l" t="t" r="r" b="b"/>
            <a:pathLst>
              <a:path w="3175" h="2309">
                <a:moveTo>
                  <a:pt x="333" y="0"/>
                </a:moveTo>
                <a:lnTo>
                  <a:pt x="333" y="389"/>
                </a:lnTo>
                <a:lnTo>
                  <a:pt x="0" y="1055"/>
                </a:lnTo>
                <a:lnTo>
                  <a:pt x="333" y="966"/>
                </a:lnTo>
                <a:lnTo>
                  <a:pt x="333" y="2309"/>
                </a:lnTo>
                <a:lnTo>
                  <a:pt x="811" y="2309"/>
                </a:lnTo>
                <a:lnTo>
                  <a:pt x="811" y="2309"/>
                </a:lnTo>
                <a:lnTo>
                  <a:pt x="1521" y="2309"/>
                </a:lnTo>
                <a:lnTo>
                  <a:pt x="3175" y="2309"/>
                </a:lnTo>
                <a:lnTo>
                  <a:pt x="3175" y="966"/>
                </a:lnTo>
                <a:lnTo>
                  <a:pt x="3175" y="389"/>
                </a:lnTo>
                <a:lnTo>
                  <a:pt x="3175" y="389"/>
                </a:lnTo>
                <a:lnTo>
                  <a:pt x="3175" y="0"/>
                </a:lnTo>
                <a:lnTo>
                  <a:pt x="1521" y="0"/>
                </a:lnTo>
                <a:lnTo>
                  <a:pt x="811" y="0"/>
                </a:lnTo>
                <a:lnTo>
                  <a:pt x="811" y="0"/>
                </a:lnTo>
                <a:lnTo>
                  <a:pt x="333" y="0"/>
                </a:lnTo>
                <a:close/>
              </a:path>
            </a:pathLst>
          </a:custGeom>
          <a:solidFill>
            <a:srgbClr val="ffffff"/>
          </a:solidFill>
          <a:ln cap="rnd"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227480" y="3052800"/>
            <a:ext cx="4307040" cy="2735280"/>
            <a:chOff x="4227480" y="3052800"/>
            <a:chExt cx="4307040" cy="2735280"/>
          </a:xfrm>
        </p:grpSpPr>
        <p:pic>
          <p:nvPicPr>
            <p:cNvPr id="437" name="" descr=""/>
            <p:cNvPicPr/>
            <p:nvPr/>
          </p:nvPicPr>
          <p:blipFill>
            <a:blip r:embed="rId1"/>
            <a:stretch/>
          </p:blipFill>
          <p:spPr>
            <a:xfrm>
              <a:off x="4227480" y="3052800"/>
              <a:ext cx="430704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7178760" y="5256360"/>
              <a:ext cx="117324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52640" y="5327640"/>
              <a:ext cx="34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ffcc"/>
                  </a:solidFill>
                  <a:latin typeface="Times New Roman"/>
                </a:rPr>
                <a:t>Pd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69800" y="5340240"/>
              <a:ext cx="35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99ffcc"/>
                  </a:solidFill>
                  <a:latin typeface="ＭＳ Ｐゴシック"/>
                </a:rPr>
                <a:t>基板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84680" y="3089160"/>
              <a:ext cx="1123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10320" y="3186000"/>
              <a:ext cx="526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66"/>
                  </a:solidFill>
                  <a:latin typeface="ＭＳ Ｐゴシック"/>
                </a:rPr>
                <a:t>最表面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6043320" y="3355560"/>
              <a:ext cx="308160" cy="314640"/>
              <a:chOff x="6043320" y="3355560"/>
              <a:chExt cx="308160" cy="314640"/>
            </a:xfrm>
          </p:grpSpPr>
          <p:sp>
            <p:nvSpPr>
              <p:cNvPr id="444" name=""/>
              <p:cNvSpPr/>
              <p:nvPr/>
            </p:nvSpPr>
            <p:spPr>
              <a:xfrm flipH="1" flipV="1">
                <a:off x="6043320" y="3355560"/>
                <a:ext cx="245880" cy="243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215040" y="3525840"/>
                <a:ext cx="136440" cy="144360"/>
              </a:xfrm>
              <a:custGeom>
                <a:avLst/>
                <a:gdLst/>
                <a:ahLst/>
                <a:rect l="l" t="t" r="r" b="b"/>
                <a:pathLst>
                  <a:path w="86" h="91">
                    <a:moveTo>
                      <a:pt x="0" y="61"/>
                    </a:moveTo>
                    <a:lnTo>
                      <a:pt x="86" y="91"/>
                    </a:lnTo>
                    <a:lnTo>
                      <a:pt x="63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H="1">
              <a:off x="5721480" y="3355920"/>
              <a:ext cx="30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94440" y="4251240"/>
              <a:ext cx="11350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170480" y="4324320"/>
              <a:ext cx="586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imes New Roman"/>
                </a:rPr>
                <a:t>CaO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5931000" y="4081320"/>
              <a:ext cx="704880" cy="677880"/>
              <a:chOff x="5931000" y="4081320"/>
              <a:chExt cx="704880" cy="677880"/>
            </a:xfrm>
          </p:grpSpPr>
          <p:sp>
            <p:nvSpPr>
              <p:cNvPr id="450" name=""/>
              <p:cNvSpPr/>
              <p:nvPr/>
            </p:nvSpPr>
            <p:spPr>
              <a:xfrm>
                <a:off x="6043680" y="4191120"/>
                <a:ext cx="592200" cy="568080"/>
              </a:xfrm>
              <a:prstGeom prst="line">
                <a:avLst/>
              </a:prstGeom>
              <a:ln w="0">
                <a:solidFill>
                  <a:srgbClr val="99ff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931000" y="4081320"/>
                <a:ext cx="185760" cy="182880"/>
              </a:xfrm>
              <a:custGeom>
                <a:avLst/>
                <a:gdLst/>
                <a:ahLst/>
                <a:rect l="l" t="t" r="r" b="b"/>
                <a:pathLst>
                  <a:path w="117" h="115">
                    <a:moveTo>
                      <a:pt x="117" y="77"/>
                    </a:moveTo>
                    <a:lnTo>
                      <a:pt x="0" y="0"/>
                    </a:lnTo>
                    <a:lnTo>
                      <a:pt x="78" y="115"/>
                    </a:lnTo>
                    <a:lnTo>
                      <a:pt x="117" y="77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6488280" y="4699080"/>
              <a:ext cx="57924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73320" y="4772160"/>
              <a:ext cx="34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ffcc"/>
                  </a:solidFill>
                  <a:latin typeface="Times New Roman"/>
                </a:rPr>
                <a:t>Pd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6573960" y="3840120"/>
              <a:ext cx="519120" cy="496800"/>
              <a:chOff x="6573960" y="3840120"/>
              <a:chExt cx="519120" cy="496800"/>
            </a:xfrm>
          </p:grpSpPr>
          <p:sp>
            <p:nvSpPr>
              <p:cNvPr id="455" name=""/>
              <p:cNvSpPr/>
              <p:nvPr/>
            </p:nvSpPr>
            <p:spPr>
              <a:xfrm>
                <a:off x="6684840" y="3936960"/>
                <a:ext cx="408240" cy="3999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73960" y="3840120"/>
                <a:ext cx="185760" cy="169920"/>
              </a:xfrm>
              <a:custGeom>
                <a:avLst/>
                <a:gdLst/>
                <a:ahLst/>
                <a:rect l="l" t="t" r="r" b="b"/>
                <a:pathLst>
                  <a:path w="117" h="107">
                    <a:moveTo>
                      <a:pt x="117" y="69"/>
                    </a:moveTo>
                    <a:lnTo>
                      <a:pt x="0" y="0"/>
                    </a:lnTo>
                    <a:lnTo>
                      <a:pt x="78" y="107"/>
                    </a:lnTo>
                    <a:lnTo>
                      <a:pt x="117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7" name="" descr=""/>
            <p:cNvPicPr/>
            <p:nvPr/>
          </p:nvPicPr>
          <p:blipFill>
            <a:blip r:embed="rId2"/>
            <a:stretch/>
          </p:blipFill>
          <p:spPr>
            <a:xfrm>
              <a:off x="4227480" y="3052800"/>
              <a:ext cx="430704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7178760" y="5256360"/>
              <a:ext cx="117324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52640" y="5327640"/>
              <a:ext cx="34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ffcc"/>
                  </a:solidFill>
                  <a:latin typeface="Times New Roman"/>
                </a:rPr>
                <a:t>Pd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669800" y="5340240"/>
              <a:ext cx="35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99ffcc"/>
                  </a:solidFill>
                  <a:latin typeface="ＭＳ Ｐゴシック"/>
                </a:rPr>
                <a:t>基板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684680" y="3089160"/>
              <a:ext cx="1123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10320" y="3186000"/>
              <a:ext cx="526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66"/>
                  </a:solidFill>
                  <a:latin typeface="ＭＳ Ｐゴシック"/>
                </a:rPr>
                <a:t>最表面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043320" y="3355560"/>
              <a:ext cx="308160" cy="314640"/>
              <a:chOff x="6043320" y="3355560"/>
              <a:chExt cx="308160" cy="314640"/>
            </a:xfrm>
          </p:grpSpPr>
          <p:sp>
            <p:nvSpPr>
              <p:cNvPr id="464" name=""/>
              <p:cNvSpPr/>
              <p:nvPr/>
            </p:nvSpPr>
            <p:spPr>
              <a:xfrm flipH="1" flipV="1">
                <a:off x="6043320" y="3355560"/>
                <a:ext cx="245880" cy="243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215040" y="3525840"/>
                <a:ext cx="136440" cy="144360"/>
              </a:xfrm>
              <a:custGeom>
                <a:avLst/>
                <a:gdLst/>
                <a:ahLst/>
                <a:rect l="l" t="t" r="r" b="b"/>
                <a:pathLst>
                  <a:path w="86" h="91">
                    <a:moveTo>
                      <a:pt x="0" y="61"/>
                    </a:moveTo>
                    <a:lnTo>
                      <a:pt x="86" y="91"/>
                    </a:lnTo>
                    <a:lnTo>
                      <a:pt x="63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 flipH="1">
              <a:off x="5721480" y="3355920"/>
              <a:ext cx="30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94440" y="4251240"/>
              <a:ext cx="11350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170480" y="4324320"/>
              <a:ext cx="586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imes New Roman"/>
                </a:rPr>
                <a:t>CaO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5931000" y="4081320"/>
              <a:ext cx="704880" cy="677880"/>
              <a:chOff x="5931000" y="4081320"/>
              <a:chExt cx="704880" cy="677880"/>
            </a:xfrm>
          </p:grpSpPr>
          <p:sp>
            <p:nvSpPr>
              <p:cNvPr id="470" name=""/>
              <p:cNvSpPr/>
              <p:nvPr/>
            </p:nvSpPr>
            <p:spPr>
              <a:xfrm>
                <a:off x="6043680" y="4191120"/>
                <a:ext cx="592200" cy="568080"/>
              </a:xfrm>
              <a:prstGeom prst="line">
                <a:avLst/>
              </a:prstGeom>
              <a:ln w="0">
                <a:solidFill>
                  <a:srgbClr val="99ff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931000" y="4081320"/>
                <a:ext cx="185760" cy="182880"/>
              </a:xfrm>
              <a:custGeom>
                <a:avLst/>
                <a:gdLst/>
                <a:ahLst/>
                <a:rect l="l" t="t" r="r" b="b"/>
                <a:pathLst>
                  <a:path w="117" h="115">
                    <a:moveTo>
                      <a:pt x="117" y="77"/>
                    </a:moveTo>
                    <a:lnTo>
                      <a:pt x="0" y="0"/>
                    </a:lnTo>
                    <a:lnTo>
                      <a:pt x="78" y="115"/>
                    </a:lnTo>
                    <a:lnTo>
                      <a:pt x="117" y="77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>
              <a:off x="6488280" y="4699080"/>
              <a:ext cx="57924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73320" y="4772160"/>
              <a:ext cx="34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ffcc"/>
                  </a:solidFill>
                  <a:latin typeface="Times New Roman"/>
                </a:rPr>
                <a:t>Pd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6573960" y="3840120"/>
              <a:ext cx="519120" cy="496800"/>
              <a:chOff x="6573960" y="3840120"/>
              <a:chExt cx="519120" cy="496800"/>
            </a:xfrm>
          </p:grpSpPr>
          <p:sp>
            <p:nvSpPr>
              <p:cNvPr id="475" name=""/>
              <p:cNvSpPr/>
              <p:nvPr/>
            </p:nvSpPr>
            <p:spPr>
              <a:xfrm>
                <a:off x="6684840" y="3936960"/>
                <a:ext cx="408240" cy="3999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573960" y="3840120"/>
                <a:ext cx="185760" cy="169920"/>
              </a:xfrm>
              <a:custGeom>
                <a:avLst/>
                <a:gdLst/>
                <a:ahLst/>
                <a:rect l="l" t="t" r="r" b="b"/>
                <a:pathLst>
                  <a:path w="117" h="107">
                    <a:moveTo>
                      <a:pt x="117" y="69"/>
                    </a:moveTo>
                    <a:lnTo>
                      <a:pt x="0" y="0"/>
                    </a:lnTo>
                    <a:lnTo>
                      <a:pt x="78" y="107"/>
                    </a:lnTo>
                    <a:lnTo>
                      <a:pt x="117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"/>
          <p:cNvSpPr/>
          <p:nvPr/>
        </p:nvSpPr>
        <p:spPr>
          <a:xfrm>
            <a:off x="4103640" y="2295360"/>
            <a:ext cx="43531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304520" y="2454120"/>
            <a:ext cx="8845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ＭＳ Ｐゴシック"/>
              </a:rPr>
              <a:t>独自開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666040" y="2454120"/>
            <a:ext cx="15476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ＭＳ Ｐゴシック"/>
              </a:rPr>
              <a:t>ナノ構造反応膜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245120" y="1890720"/>
            <a:ext cx="100476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280040" y="2560680"/>
            <a:ext cx="1304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55640" y="2577960"/>
            <a:ext cx="169092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413080" y="6172200"/>
            <a:ext cx="3365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280040" y="2560680"/>
            <a:ext cx="1304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655640" y="2577960"/>
            <a:ext cx="169092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413080" y="6172200"/>
            <a:ext cx="3365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20720" y="2295360"/>
            <a:ext cx="3102120" cy="3241800"/>
          </a:xfrm>
          <a:prstGeom prst="rect">
            <a:avLst/>
          </a:prstGeom>
          <a:solidFill>
            <a:srgbClr val="ccecff"/>
          </a:solidFill>
          <a:ln cap="rnd"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20720" y="4410000"/>
            <a:ext cx="3102120" cy="1832040"/>
          </a:xfrm>
          <a:prstGeom prst="rect">
            <a:avLst/>
          </a:prstGeom>
          <a:solidFill>
            <a:srgbClr val="ffffff"/>
          </a:solidFill>
          <a:ln cap="rnd"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61840" y="5713560"/>
            <a:ext cx="757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84120" y="3987720"/>
            <a:ext cx="1974960" cy="704880"/>
          </a:xfrm>
          <a:prstGeom prst="rect">
            <a:avLst/>
          </a:prstGeom>
          <a:solidFill>
            <a:srgbClr val="dddddd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284120" y="4127400"/>
            <a:ext cx="1974960" cy="141480"/>
            <a:chOff x="1284120" y="4127400"/>
            <a:chExt cx="1974960" cy="141480"/>
          </a:xfrm>
        </p:grpSpPr>
        <p:sp>
          <p:nvSpPr>
            <p:cNvPr id="492" name=""/>
            <p:cNvSpPr/>
            <p:nvPr/>
          </p:nvSpPr>
          <p:spPr>
            <a:xfrm>
              <a:off x="1284120" y="4127400"/>
              <a:ext cx="1974960" cy="141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84120" y="4127400"/>
              <a:ext cx="1974960" cy="141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cap="rnd"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1496880" y="3916440"/>
            <a:ext cx="13968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778040" y="3916440"/>
            <a:ext cx="14112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060640" y="3916440"/>
            <a:ext cx="14112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41440" y="3916440"/>
            <a:ext cx="14148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624040" y="3916440"/>
            <a:ext cx="14148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906640" y="3916440"/>
            <a:ext cx="13968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496880" y="3916440"/>
            <a:ext cx="13968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778040" y="3916440"/>
            <a:ext cx="14112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060640" y="3916440"/>
            <a:ext cx="14112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41440" y="3916440"/>
            <a:ext cx="14148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624040" y="3916440"/>
            <a:ext cx="14148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906640" y="3916440"/>
            <a:ext cx="13968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619280" y="3618000"/>
            <a:ext cx="193680" cy="1407960"/>
            <a:chOff x="1619280" y="3618000"/>
            <a:chExt cx="193680" cy="1407960"/>
          </a:xfrm>
        </p:grpSpPr>
        <p:sp>
          <p:nvSpPr>
            <p:cNvPr id="507" name=""/>
            <p:cNvSpPr/>
            <p:nvPr/>
          </p:nvSpPr>
          <p:spPr>
            <a:xfrm>
              <a:off x="1708200" y="3618000"/>
              <a:ext cx="1440" cy="1268280"/>
            </a:xfrm>
            <a:prstGeom prst="line">
              <a:avLst/>
            </a:prstGeom>
            <a:ln cap="rnd" w="176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19280" y="4849920"/>
              <a:ext cx="193680" cy="176040"/>
            </a:xfrm>
            <a:custGeom>
              <a:avLst/>
              <a:gdLst/>
              <a:ahLst/>
              <a:rect l="l" t="t" r="r" b="b"/>
              <a:pathLst>
                <a:path w="122" h="111">
                  <a:moveTo>
                    <a:pt x="0" y="0"/>
                  </a:moveTo>
                  <a:lnTo>
                    <a:pt x="56" y="111"/>
                  </a:lnTo>
                  <a:lnTo>
                    <a:pt x="1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720720" y="2295360"/>
            <a:ext cx="24494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165400" y="3635280"/>
            <a:ext cx="193680" cy="1427400"/>
            <a:chOff x="2165400" y="3635280"/>
            <a:chExt cx="193680" cy="1427400"/>
          </a:xfrm>
        </p:grpSpPr>
        <p:sp>
          <p:nvSpPr>
            <p:cNvPr id="511" name=""/>
            <p:cNvSpPr/>
            <p:nvPr/>
          </p:nvSpPr>
          <p:spPr>
            <a:xfrm>
              <a:off x="2254320" y="3635280"/>
              <a:ext cx="1440" cy="1268640"/>
            </a:xfrm>
            <a:prstGeom prst="line">
              <a:avLst/>
            </a:prstGeom>
            <a:ln cap="rnd" w="176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165400" y="486900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0"/>
                  </a:moveTo>
                  <a:lnTo>
                    <a:pt x="67" y="122"/>
                  </a:lnTo>
                  <a:lnTo>
                    <a:pt x="1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747880" y="3670200"/>
            <a:ext cx="193680" cy="1427400"/>
            <a:chOff x="2747880" y="3670200"/>
            <a:chExt cx="193680" cy="1427400"/>
          </a:xfrm>
        </p:grpSpPr>
        <p:sp>
          <p:nvSpPr>
            <p:cNvPr id="514" name=""/>
            <p:cNvSpPr/>
            <p:nvPr/>
          </p:nvSpPr>
          <p:spPr>
            <a:xfrm>
              <a:off x="2835360" y="3670200"/>
              <a:ext cx="1440" cy="1268640"/>
            </a:xfrm>
            <a:prstGeom prst="line">
              <a:avLst/>
            </a:prstGeom>
            <a:ln cap="rnd" w="176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747880" y="49039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0"/>
                  </a:moveTo>
                  <a:lnTo>
                    <a:pt x="55" y="122"/>
                  </a:lnTo>
                  <a:lnTo>
                    <a:pt x="1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1162080" y="4973760"/>
            <a:ext cx="2219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566720" y="3071880"/>
            <a:ext cx="1462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575160" y="2295360"/>
            <a:ext cx="5040360" cy="3665880"/>
          </a:xfrm>
          <a:custGeom>
            <a:avLst/>
            <a:gdLst/>
            <a:ahLst/>
            <a:rect l="l" t="t" r="r" b="b"/>
            <a:pathLst>
              <a:path w="3175" h="2309">
                <a:moveTo>
                  <a:pt x="333" y="0"/>
                </a:moveTo>
                <a:lnTo>
                  <a:pt x="333" y="389"/>
                </a:lnTo>
                <a:lnTo>
                  <a:pt x="0" y="1055"/>
                </a:lnTo>
                <a:lnTo>
                  <a:pt x="333" y="966"/>
                </a:lnTo>
                <a:lnTo>
                  <a:pt x="333" y="2309"/>
                </a:lnTo>
                <a:lnTo>
                  <a:pt x="811" y="2309"/>
                </a:lnTo>
                <a:lnTo>
                  <a:pt x="811" y="2309"/>
                </a:lnTo>
                <a:lnTo>
                  <a:pt x="1521" y="2309"/>
                </a:lnTo>
                <a:lnTo>
                  <a:pt x="3175" y="2309"/>
                </a:lnTo>
                <a:lnTo>
                  <a:pt x="3175" y="966"/>
                </a:lnTo>
                <a:lnTo>
                  <a:pt x="3175" y="389"/>
                </a:lnTo>
                <a:lnTo>
                  <a:pt x="3175" y="389"/>
                </a:lnTo>
                <a:lnTo>
                  <a:pt x="3175" y="0"/>
                </a:lnTo>
                <a:lnTo>
                  <a:pt x="1521" y="0"/>
                </a:lnTo>
                <a:lnTo>
                  <a:pt x="811" y="0"/>
                </a:lnTo>
                <a:lnTo>
                  <a:pt x="811" y="0"/>
                </a:lnTo>
                <a:lnTo>
                  <a:pt x="333" y="0"/>
                </a:lnTo>
                <a:close/>
              </a:path>
            </a:pathLst>
          </a:custGeom>
          <a:solidFill>
            <a:srgbClr val="ffffff"/>
          </a:solidFill>
          <a:ln cap="rnd"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4227480" y="3052800"/>
            <a:ext cx="4307040" cy="273528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7178760" y="5256360"/>
            <a:ext cx="11732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288560" y="5327640"/>
            <a:ext cx="34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ffcc"/>
                </a:solidFill>
                <a:latin typeface="Times New Roman"/>
              </a:rPr>
              <a:t>P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753680" y="5340240"/>
            <a:ext cx="35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99ffcc"/>
                </a:solidFill>
                <a:latin typeface="ＭＳ Ｐゴシック"/>
              </a:rPr>
              <a:t>基板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684680" y="3089160"/>
            <a:ext cx="1123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973040" y="3186000"/>
            <a:ext cx="526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66"/>
                </a:solidFill>
                <a:latin typeface="ＭＳ Ｐゴシック"/>
              </a:rPr>
              <a:t>最表面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6043320" y="3355560"/>
            <a:ext cx="308160" cy="314640"/>
            <a:chOff x="6043320" y="3355560"/>
            <a:chExt cx="308160" cy="314640"/>
          </a:xfrm>
        </p:grpSpPr>
        <p:sp>
          <p:nvSpPr>
            <p:cNvPr id="526" name=""/>
            <p:cNvSpPr/>
            <p:nvPr/>
          </p:nvSpPr>
          <p:spPr>
            <a:xfrm flipH="1" flipV="1">
              <a:off x="6043320" y="3355560"/>
              <a:ext cx="245880" cy="24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5040" y="3525840"/>
              <a:ext cx="136440" cy="14436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0" y="61"/>
                  </a:moveTo>
                  <a:lnTo>
                    <a:pt x="86" y="91"/>
                  </a:lnTo>
                  <a:lnTo>
                    <a:pt x="63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 flipH="1">
            <a:off x="5721480" y="3355920"/>
            <a:ext cx="30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994440" y="4251240"/>
            <a:ext cx="1135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104960" y="4324320"/>
            <a:ext cx="586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a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5931000" y="4081320"/>
            <a:ext cx="704880" cy="677880"/>
            <a:chOff x="5931000" y="4081320"/>
            <a:chExt cx="704880" cy="677880"/>
          </a:xfrm>
        </p:grpSpPr>
        <p:sp>
          <p:nvSpPr>
            <p:cNvPr id="532" name=""/>
            <p:cNvSpPr/>
            <p:nvPr/>
          </p:nvSpPr>
          <p:spPr>
            <a:xfrm>
              <a:off x="6043680" y="4191120"/>
              <a:ext cx="592200" cy="568080"/>
            </a:xfrm>
            <a:prstGeom prst="line">
              <a:avLst/>
            </a:prstGeom>
            <a:ln w="0">
              <a:solidFill>
                <a:srgbClr val="99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31000" y="4081320"/>
              <a:ext cx="185760" cy="182880"/>
            </a:xfrm>
            <a:custGeom>
              <a:avLst/>
              <a:gdLst/>
              <a:ahLst/>
              <a:rect l="l" t="t" r="r" b="b"/>
              <a:pathLst>
                <a:path w="117" h="115">
                  <a:moveTo>
                    <a:pt x="117" y="77"/>
                  </a:moveTo>
                  <a:lnTo>
                    <a:pt x="0" y="0"/>
                  </a:lnTo>
                  <a:lnTo>
                    <a:pt x="78" y="115"/>
                  </a:lnTo>
                  <a:lnTo>
                    <a:pt x="117" y="77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6488280" y="4699080"/>
            <a:ext cx="5792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609240" y="4772160"/>
            <a:ext cx="34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ffcc"/>
                </a:solidFill>
                <a:latin typeface="Times New Roman"/>
              </a:rPr>
              <a:t>P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6573960" y="3840120"/>
            <a:ext cx="519120" cy="496800"/>
            <a:chOff x="6573960" y="3840120"/>
            <a:chExt cx="519120" cy="496800"/>
          </a:xfrm>
        </p:grpSpPr>
        <p:sp>
          <p:nvSpPr>
            <p:cNvPr id="537" name=""/>
            <p:cNvSpPr/>
            <p:nvPr/>
          </p:nvSpPr>
          <p:spPr>
            <a:xfrm>
              <a:off x="6684840" y="3936960"/>
              <a:ext cx="408240" cy="399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73960" y="3840120"/>
              <a:ext cx="185760" cy="169920"/>
            </a:xfrm>
            <a:custGeom>
              <a:avLst/>
              <a:gdLst/>
              <a:ahLst/>
              <a:rect l="l" t="t" r="r" b="b"/>
              <a:pathLst>
                <a:path w="117" h="107">
                  <a:moveTo>
                    <a:pt x="117" y="69"/>
                  </a:moveTo>
                  <a:lnTo>
                    <a:pt x="0" y="0"/>
                  </a:lnTo>
                  <a:lnTo>
                    <a:pt x="78" y="107"/>
                  </a:lnTo>
                  <a:lnTo>
                    <a:pt x="117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9" name="" descr=""/>
          <p:cNvPicPr/>
          <p:nvPr/>
        </p:nvPicPr>
        <p:blipFill>
          <a:blip r:embed="rId6"/>
          <a:stretch/>
        </p:blipFill>
        <p:spPr>
          <a:xfrm>
            <a:off x="4227480" y="3052800"/>
            <a:ext cx="4307040" cy="273528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7178760" y="5256360"/>
            <a:ext cx="11732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55480" y="5364000"/>
            <a:ext cx="1570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ffcc"/>
                </a:solidFill>
                <a:latin typeface="Times New Roman"/>
              </a:rPr>
              <a:t>Pd substr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84680" y="3089160"/>
            <a:ext cx="1123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6043320" y="3355560"/>
            <a:ext cx="308160" cy="314640"/>
            <a:chOff x="6043320" y="3355560"/>
            <a:chExt cx="308160" cy="314640"/>
          </a:xfrm>
        </p:grpSpPr>
        <p:sp>
          <p:nvSpPr>
            <p:cNvPr id="544" name=""/>
            <p:cNvSpPr/>
            <p:nvPr/>
          </p:nvSpPr>
          <p:spPr>
            <a:xfrm flipH="1" flipV="1">
              <a:off x="6043320" y="3355560"/>
              <a:ext cx="245880" cy="24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215040" y="3525840"/>
              <a:ext cx="136440" cy="14436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0" y="61"/>
                  </a:moveTo>
                  <a:lnTo>
                    <a:pt x="86" y="91"/>
                  </a:lnTo>
                  <a:lnTo>
                    <a:pt x="63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 flipH="1">
            <a:off x="5721480" y="3355920"/>
            <a:ext cx="30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994440" y="4251240"/>
            <a:ext cx="1135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104960" y="4324320"/>
            <a:ext cx="586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a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5931000" y="4081320"/>
            <a:ext cx="704880" cy="677880"/>
            <a:chOff x="5931000" y="4081320"/>
            <a:chExt cx="704880" cy="677880"/>
          </a:xfrm>
        </p:grpSpPr>
        <p:sp>
          <p:nvSpPr>
            <p:cNvPr id="550" name=""/>
            <p:cNvSpPr/>
            <p:nvPr/>
          </p:nvSpPr>
          <p:spPr>
            <a:xfrm>
              <a:off x="6043680" y="4191120"/>
              <a:ext cx="592200" cy="568080"/>
            </a:xfrm>
            <a:prstGeom prst="line">
              <a:avLst/>
            </a:prstGeom>
            <a:ln w="0">
              <a:solidFill>
                <a:srgbClr val="99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31000" y="4081320"/>
              <a:ext cx="185760" cy="182880"/>
            </a:xfrm>
            <a:custGeom>
              <a:avLst/>
              <a:gdLst/>
              <a:ahLst/>
              <a:rect l="l" t="t" r="r" b="b"/>
              <a:pathLst>
                <a:path w="117" h="115">
                  <a:moveTo>
                    <a:pt x="117" y="77"/>
                  </a:moveTo>
                  <a:lnTo>
                    <a:pt x="0" y="0"/>
                  </a:lnTo>
                  <a:lnTo>
                    <a:pt x="78" y="115"/>
                  </a:lnTo>
                  <a:lnTo>
                    <a:pt x="117" y="77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6488280" y="4699080"/>
            <a:ext cx="5792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609240" y="4772160"/>
            <a:ext cx="34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ffcc"/>
                </a:solidFill>
                <a:latin typeface="Times New Roman"/>
              </a:rPr>
              <a:t>P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6573960" y="3840120"/>
            <a:ext cx="519120" cy="496800"/>
            <a:chOff x="6573960" y="3840120"/>
            <a:chExt cx="519120" cy="496800"/>
          </a:xfrm>
        </p:grpSpPr>
        <p:sp>
          <p:nvSpPr>
            <p:cNvPr id="555" name=""/>
            <p:cNvSpPr/>
            <p:nvPr/>
          </p:nvSpPr>
          <p:spPr>
            <a:xfrm>
              <a:off x="6684840" y="3936960"/>
              <a:ext cx="408240" cy="399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573960" y="3840120"/>
              <a:ext cx="185760" cy="169920"/>
            </a:xfrm>
            <a:custGeom>
              <a:avLst/>
              <a:gdLst/>
              <a:ahLst/>
              <a:rect l="l" t="t" r="r" b="b"/>
              <a:pathLst>
                <a:path w="117" h="107">
                  <a:moveTo>
                    <a:pt x="117" y="69"/>
                  </a:moveTo>
                  <a:lnTo>
                    <a:pt x="0" y="0"/>
                  </a:lnTo>
                  <a:lnTo>
                    <a:pt x="78" y="107"/>
                  </a:lnTo>
                  <a:lnTo>
                    <a:pt x="117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6933600" y="4724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40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175360" y="42530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716240" y="424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2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523880" y="5105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Fl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80480" y="57913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715400" y="2362320"/>
            <a:ext cx="93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066680" y="2895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Perm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677120" y="3124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114800" y="237636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oss Section of Pd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3840" y="3429000"/>
            <a:ext cx="155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5050"/>
                </a:solidFill>
                <a:latin typeface="Times New Roman"/>
              </a:rPr>
              <a:t>Cs,B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818D-FDC3-41E4-A5D0-1F3BC2EBA6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755280" y="260280"/>
            <a:ext cx="8388720" cy="6191280"/>
            <a:chOff x="755280" y="260280"/>
            <a:chExt cx="8388720" cy="6191280"/>
          </a:xfrm>
        </p:grpSpPr>
        <p:sp>
          <p:nvSpPr>
            <p:cNvPr id="568" name=""/>
            <p:cNvSpPr/>
            <p:nvPr/>
          </p:nvSpPr>
          <p:spPr>
            <a:xfrm flipH="1">
              <a:off x="755280" y="48690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2120" y="2124000"/>
              <a:ext cx="627120" cy="2803680"/>
            </a:xfrm>
            <a:custGeom>
              <a:avLst/>
              <a:gdLst/>
              <a:ahLst/>
              <a:rect l="l" t="t" r="r" b="b"/>
              <a:pathLst>
                <a:path w="395" h="1766">
                  <a:moveTo>
                    <a:pt x="48" y="24"/>
                  </a:moveTo>
                  <a:cubicBezTo>
                    <a:pt x="45" y="292"/>
                    <a:pt x="52" y="383"/>
                    <a:pt x="30" y="582"/>
                  </a:cubicBezTo>
                  <a:cubicBezTo>
                    <a:pt x="29" y="706"/>
                    <a:pt x="50" y="1113"/>
                    <a:pt x="0" y="1314"/>
                  </a:cubicBezTo>
                  <a:cubicBezTo>
                    <a:pt x="7" y="1381"/>
                    <a:pt x="0" y="1351"/>
                    <a:pt x="18" y="1404"/>
                  </a:cubicBezTo>
                  <a:cubicBezTo>
                    <a:pt x="22" y="1416"/>
                    <a:pt x="30" y="1440"/>
                    <a:pt x="30" y="1440"/>
                  </a:cubicBezTo>
                  <a:cubicBezTo>
                    <a:pt x="32" y="1498"/>
                    <a:pt x="33" y="1556"/>
                    <a:pt x="36" y="1614"/>
                  </a:cubicBezTo>
                  <a:cubicBezTo>
                    <a:pt x="44" y="1766"/>
                    <a:pt x="61" y="1721"/>
                    <a:pt x="234" y="1728"/>
                  </a:cubicBezTo>
                  <a:cubicBezTo>
                    <a:pt x="278" y="1726"/>
                    <a:pt x="324" y="1737"/>
                    <a:pt x="366" y="1722"/>
                  </a:cubicBezTo>
                  <a:cubicBezTo>
                    <a:pt x="378" y="1718"/>
                    <a:pt x="354" y="1686"/>
                    <a:pt x="354" y="1686"/>
                  </a:cubicBezTo>
                  <a:cubicBezTo>
                    <a:pt x="351" y="1611"/>
                    <a:pt x="353" y="1546"/>
                    <a:pt x="330" y="1476"/>
                  </a:cubicBezTo>
                  <a:cubicBezTo>
                    <a:pt x="326" y="1389"/>
                    <a:pt x="326" y="1356"/>
                    <a:pt x="318" y="1278"/>
                  </a:cubicBezTo>
                  <a:cubicBezTo>
                    <a:pt x="313" y="1224"/>
                    <a:pt x="315" y="1240"/>
                    <a:pt x="300" y="1194"/>
                  </a:cubicBezTo>
                  <a:cubicBezTo>
                    <a:pt x="298" y="1188"/>
                    <a:pt x="294" y="1176"/>
                    <a:pt x="294" y="1176"/>
                  </a:cubicBezTo>
                  <a:cubicBezTo>
                    <a:pt x="296" y="1140"/>
                    <a:pt x="296" y="1104"/>
                    <a:pt x="300" y="1068"/>
                  </a:cubicBezTo>
                  <a:cubicBezTo>
                    <a:pt x="304" y="1040"/>
                    <a:pt x="332" y="953"/>
                    <a:pt x="342" y="924"/>
                  </a:cubicBezTo>
                  <a:cubicBezTo>
                    <a:pt x="356" y="795"/>
                    <a:pt x="355" y="670"/>
                    <a:pt x="336" y="540"/>
                  </a:cubicBezTo>
                  <a:cubicBezTo>
                    <a:pt x="342" y="522"/>
                    <a:pt x="348" y="504"/>
                    <a:pt x="354" y="486"/>
                  </a:cubicBezTo>
                  <a:cubicBezTo>
                    <a:pt x="356" y="480"/>
                    <a:pt x="360" y="468"/>
                    <a:pt x="360" y="468"/>
                  </a:cubicBezTo>
                  <a:cubicBezTo>
                    <a:pt x="364" y="426"/>
                    <a:pt x="368" y="384"/>
                    <a:pt x="372" y="342"/>
                  </a:cubicBezTo>
                  <a:cubicBezTo>
                    <a:pt x="374" y="318"/>
                    <a:pt x="378" y="270"/>
                    <a:pt x="378" y="270"/>
                  </a:cubicBezTo>
                  <a:cubicBezTo>
                    <a:pt x="376" y="226"/>
                    <a:pt x="395" y="83"/>
                    <a:pt x="342" y="48"/>
                  </a:cubicBezTo>
                  <a:cubicBezTo>
                    <a:pt x="313" y="5"/>
                    <a:pt x="332" y="9"/>
                    <a:pt x="294" y="18"/>
                  </a:cubicBezTo>
                  <a:cubicBezTo>
                    <a:pt x="246" y="12"/>
                    <a:pt x="198" y="5"/>
                    <a:pt x="150" y="0"/>
                  </a:cubicBezTo>
                  <a:cubicBezTo>
                    <a:pt x="89" y="8"/>
                    <a:pt x="117" y="1"/>
                    <a:pt x="66" y="18"/>
                  </a:cubicBezTo>
                  <a:cubicBezTo>
                    <a:pt x="60" y="20"/>
                    <a:pt x="48" y="24"/>
                    <a:pt x="48" y="24"/>
                  </a:cubicBezTo>
                  <a:close/>
                </a:path>
              </a:pathLst>
            </a:cu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1280" y="5661000"/>
              <a:ext cx="28908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59280" y="5587920"/>
              <a:ext cx="432000" cy="432000"/>
            </a:xfrm>
            <a:prstGeom prst="ellipse">
              <a:avLst/>
            </a:prstGeom>
            <a:solidFill>
              <a:srgbClr val="46a444"/>
            </a:solidFill>
            <a:ln w="9360">
              <a:solidFill>
                <a:srgbClr val="46a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40360" y="573264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780000" y="6164280"/>
              <a:ext cx="431640" cy="287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59280" y="6164280"/>
              <a:ext cx="432000" cy="287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96000" y="6164280"/>
              <a:ext cx="431640" cy="287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2411280" y="1700280"/>
              <a:ext cx="136872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11280" y="3429000"/>
              <a:ext cx="11527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826560" y="22050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93920" y="2185920"/>
              <a:ext cx="1035000" cy="2781360"/>
            </a:xfrm>
            <a:custGeom>
              <a:avLst/>
              <a:gdLst/>
              <a:ahLst/>
              <a:rect l="l" t="t" r="r" b="b"/>
              <a:pathLst>
                <a:path w="652" h="1752">
                  <a:moveTo>
                    <a:pt x="16" y="1734"/>
                  </a:moveTo>
                  <a:cubicBezTo>
                    <a:pt x="22" y="1705"/>
                    <a:pt x="41" y="1686"/>
                    <a:pt x="28" y="1656"/>
                  </a:cubicBezTo>
                  <a:cubicBezTo>
                    <a:pt x="22" y="1643"/>
                    <a:pt x="4" y="1620"/>
                    <a:pt x="4" y="1620"/>
                  </a:cubicBezTo>
                  <a:cubicBezTo>
                    <a:pt x="9" y="1593"/>
                    <a:pt x="15" y="1569"/>
                    <a:pt x="22" y="1542"/>
                  </a:cubicBezTo>
                  <a:cubicBezTo>
                    <a:pt x="27" y="1390"/>
                    <a:pt x="44" y="1238"/>
                    <a:pt x="22" y="1086"/>
                  </a:cubicBezTo>
                  <a:cubicBezTo>
                    <a:pt x="27" y="944"/>
                    <a:pt x="23" y="782"/>
                    <a:pt x="46" y="642"/>
                  </a:cubicBezTo>
                  <a:cubicBezTo>
                    <a:pt x="39" y="577"/>
                    <a:pt x="32" y="516"/>
                    <a:pt x="28" y="450"/>
                  </a:cubicBezTo>
                  <a:cubicBezTo>
                    <a:pt x="36" y="314"/>
                    <a:pt x="46" y="178"/>
                    <a:pt x="52" y="42"/>
                  </a:cubicBezTo>
                  <a:cubicBezTo>
                    <a:pt x="98" y="73"/>
                    <a:pt x="48" y="29"/>
                    <a:pt x="40" y="24"/>
                  </a:cubicBezTo>
                  <a:cubicBezTo>
                    <a:pt x="77" y="12"/>
                    <a:pt x="110" y="12"/>
                    <a:pt x="148" y="18"/>
                  </a:cubicBezTo>
                  <a:cubicBezTo>
                    <a:pt x="213" y="16"/>
                    <a:pt x="306" y="23"/>
                    <a:pt x="376" y="0"/>
                  </a:cubicBezTo>
                  <a:cubicBezTo>
                    <a:pt x="421" y="4"/>
                    <a:pt x="450" y="5"/>
                    <a:pt x="490" y="18"/>
                  </a:cubicBezTo>
                  <a:cubicBezTo>
                    <a:pt x="518" y="16"/>
                    <a:pt x="546" y="15"/>
                    <a:pt x="574" y="12"/>
                  </a:cubicBezTo>
                  <a:cubicBezTo>
                    <a:pt x="580" y="11"/>
                    <a:pt x="586" y="5"/>
                    <a:pt x="592" y="6"/>
                  </a:cubicBezTo>
                  <a:cubicBezTo>
                    <a:pt x="605" y="7"/>
                    <a:pt x="628" y="18"/>
                    <a:pt x="628" y="18"/>
                  </a:cubicBezTo>
                  <a:cubicBezTo>
                    <a:pt x="635" y="38"/>
                    <a:pt x="639" y="58"/>
                    <a:pt x="646" y="78"/>
                  </a:cubicBezTo>
                  <a:cubicBezTo>
                    <a:pt x="638" y="111"/>
                    <a:pt x="633" y="135"/>
                    <a:pt x="640" y="168"/>
                  </a:cubicBezTo>
                  <a:cubicBezTo>
                    <a:pt x="638" y="184"/>
                    <a:pt x="638" y="200"/>
                    <a:pt x="634" y="216"/>
                  </a:cubicBezTo>
                  <a:cubicBezTo>
                    <a:pt x="632" y="223"/>
                    <a:pt x="622" y="227"/>
                    <a:pt x="622" y="234"/>
                  </a:cubicBezTo>
                  <a:cubicBezTo>
                    <a:pt x="622" y="247"/>
                    <a:pt x="636" y="257"/>
                    <a:pt x="640" y="270"/>
                  </a:cubicBezTo>
                  <a:cubicBezTo>
                    <a:pt x="603" y="282"/>
                    <a:pt x="629" y="288"/>
                    <a:pt x="640" y="312"/>
                  </a:cubicBezTo>
                  <a:cubicBezTo>
                    <a:pt x="645" y="324"/>
                    <a:pt x="652" y="348"/>
                    <a:pt x="652" y="348"/>
                  </a:cubicBezTo>
                  <a:cubicBezTo>
                    <a:pt x="623" y="367"/>
                    <a:pt x="634" y="393"/>
                    <a:pt x="616" y="420"/>
                  </a:cubicBezTo>
                  <a:cubicBezTo>
                    <a:pt x="628" y="456"/>
                    <a:pt x="649" y="531"/>
                    <a:pt x="604" y="546"/>
                  </a:cubicBezTo>
                  <a:cubicBezTo>
                    <a:pt x="620" y="595"/>
                    <a:pt x="614" y="569"/>
                    <a:pt x="622" y="624"/>
                  </a:cubicBezTo>
                  <a:cubicBezTo>
                    <a:pt x="613" y="650"/>
                    <a:pt x="606" y="660"/>
                    <a:pt x="622" y="684"/>
                  </a:cubicBezTo>
                  <a:cubicBezTo>
                    <a:pt x="632" y="724"/>
                    <a:pt x="630" y="700"/>
                    <a:pt x="616" y="756"/>
                  </a:cubicBezTo>
                  <a:cubicBezTo>
                    <a:pt x="614" y="764"/>
                    <a:pt x="610" y="780"/>
                    <a:pt x="610" y="780"/>
                  </a:cubicBezTo>
                  <a:cubicBezTo>
                    <a:pt x="631" y="794"/>
                    <a:pt x="638" y="804"/>
                    <a:pt x="646" y="828"/>
                  </a:cubicBezTo>
                  <a:cubicBezTo>
                    <a:pt x="638" y="840"/>
                    <a:pt x="630" y="852"/>
                    <a:pt x="622" y="864"/>
                  </a:cubicBezTo>
                  <a:cubicBezTo>
                    <a:pt x="594" y="906"/>
                    <a:pt x="626" y="972"/>
                    <a:pt x="598" y="1014"/>
                  </a:cubicBezTo>
                  <a:cubicBezTo>
                    <a:pt x="611" y="1065"/>
                    <a:pt x="600" y="1128"/>
                    <a:pt x="628" y="1170"/>
                  </a:cubicBezTo>
                  <a:cubicBezTo>
                    <a:pt x="624" y="1184"/>
                    <a:pt x="614" y="1198"/>
                    <a:pt x="616" y="1212"/>
                  </a:cubicBezTo>
                  <a:cubicBezTo>
                    <a:pt x="618" y="1225"/>
                    <a:pt x="630" y="1235"/>
                    <a:pt x="634" y="1248"/>
                  </a:cubicBezTo>
                  <a:cubicBezTo>
                    <a:pt x="627" y="1281"/>
                    <a:pt x="621" y="1292"/>
                    <a:pt x="628" y="1326"/>
                  </a:cubicBezTo>
                  <a:cubicBezTo>
                    <a:pt x="623" y="1358"/>
                    <a:pt x="611" y="1372"/>
                    <a:pt x="628" y="1398"/>
                  </a:cubicBezTo>
                  <a:cubicBezTo>
                    <a:pt x="625" y="1433"/>
                    <a:pt x="609" y="1471"/>
                    <a:pt x="628" y="1500"/>
                  </a:cubicBezTo>
                  <a:cubicBezTo>
                    <a:pt x="625" y="1518"/>
                    <a:pt x="616" y="1536"/>
                    <a:pt x="616" y="1554"/>
                  </a:cubicBezTo>
                  <a:cubicBezTo>
                    <a:pt x="616" y="1578"/>
                    <a:pt x="630" y="1614"/>
                    <a:pt x="634" y="1638"/>
                  </a:cubicBezTo>
                  <a:cubicBezTo>
                    <a:pt x="621" y="1677"/>
                    <a:pt x="622" y="1728"/>
                    <a:pt x="586" y="1752"/>
                  </a:cubicBezTo>
                  <a:cubicBezTo>
                    <a:pt x="541" y="1737"/>
                    <a:pt x="566" y="1732"/>
                    <a:pt x="508" y="1740"/>
                  </a:cubicBezTo>
                  <a:cubicBezTo>
                    <a:pt x="482" y="1749"/>
                    <a:pt x="474" y="1741"/>
                    <a:pt x="466" y="1716"/>
                  </a:cubicBezTo>
                  <a:cubicBezTo>
                    <a:pt x="452" y="1718"/>
                    <a:pt x="438" y="1721"/>
                    <a:pt x="424" y="1722"/>
                  </a:cubicBezTo>
                  <a:cubicBezTo>
                    <a:pt x="390" y="1725"/>
                    <a:pt x="356" y="1724"/>
                    <a:pt x="322" y="1728"/>
                  </a:cubicBezTo>
                  <a:cubicBezTo>
                    <a:pt x="309" y="1730"/>
                    <a:pt x="286" y="1740"/>
                    <a:pt x="286" y="1740"/>
                  </a:cubicBezTo>
                  <a:cubicBezTo>
                    <a:pt x="268" y="1738"/>
                    <a:pt x="250" y="1738"/>
                    <a:pt x="232" y="1734"/>
                  </a:cubicBezTo>
                  <a:cubicBezTo>
                    <a:pt x="225" y="1732"/>
                    <a:pt x="221" y="1723"/>
                    <a:pt x="214" y="1722"/>
                  </a:cubicBezTo>
                  <a:cubicBezTo>
                    <a:pt x="202" y="1721"/>
                    <a:pt x="190" y="1725"/>
                    <a:pt x="178" y="1728"/>
                  </a:cubicBezTo>
                  <a:cubicBezTo>
                    <a:pt x="166" y="1731"/>
                    <a:pt x="142" y="1740"/>
                    <a:pt x="142" y="1740"/>
                  </a:cubicBezTo>
                  <a:cubicBezTo>
                    <a:pt x="110" y="1738"/>
                    <a:pt x="78" y="1734"/>
                    <a:pt x="46" y="1734"/>
                  </a:cubicBezTo>
                  <a:cubicBezTo>
                    <a:pt x="14" y="1734"/>
                    <a:pt x="0" y="1750"/>
                    <a:pt x="16" y="1734"/>
                  </a:cubicBezTo>
                  <a:close/>
                </a:path>
              </a:pathLst>
            </a:cu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28680" y="2193840"/>
              <a:ext cx="239760" cy="2770200"/>
            </a:xfrm>
            <a:custGeom>
              <a:avLst/>
              <a:gdLst/>
              <a:ahLst/>
              <a:rect l="l" t="t" r="r" b="b"/>
              <a:pathLst>
                <a:path w="151" h="1745">
                  <a:moveTo>
                    <a:pt x="72" y="19"/>
                  </a:moveTo>
                  <a:cubicBezTo>
                    <a:pt x="58" y="61"/>
                    <a:pt x="65" y="66"/>
                    <a:pt x="72" y="109"/>
                  </a:cubicBezTo>
                  <a:cubicBezTo>
                    <a:pt x="77" y="137"/>
                    <a:pt x="84" y="193"/>
                    <a:pt x="84" y="193"/>
                  </a:cubicBezTo>
                  <a:cubicBezTo>
                    <a:pt x="82" y="255"/>
                    <a:pt x="82" y="317"/>
                    <a:pt x="78" y="379"/>
                  </a:cubicBezTo>
                  <a:cubicBezTo>
                    <a:pt x="76" y="423"/>
                    <a:pt x="70" y="467"/>
                    <a:pt x="66" y="511"/>
                  </a:cubicBezTo>
                  <a:cubicBezTo>
                    <a:pt x="64" y="533"/>
                    <a:pt x="60" y="577"/>
                    <a:pt x="60" y="577"/>
                  </a:cubicBezTo>
                  <a:cubicBezTo>
                    <a:pt x="57" y="693"/>
                    <a:pt x="73" y="901"/>
                    <a:pt x="42" y="1015"/>
                  </a:cubicBezTo>
                  <a:cubicBezTo>
                    <a:pt x="34" y="1044"/>
                    <a:pt x="10" y="1070"/>
                    <a:pt x="0" y="1099"/>
                  </a:cubicBezTo>
                  <a:cubicBezTo>
                    <a:pt x="6" y="1145"/>
                    <a:pt x="19" y="1186"/>
                    <a:pt x="30" y="1231"/>
                  </a:cubicBezTo>
                  <a:cubicBezTo>
                    <a:pt x="34" y="1317"/>
                    <a:pt x="32" y="1406"/>
                    <a:pt x="60" y="1489"/>
                  </a:cubicBezTo>
                  <a:cubicBezTo>
                    <a:pt x="64" y="1573"/>
                    <a:pt x="50" y="1660"/>
                    <a:pt x="72" y="1741"/>
                  </a:cubicBezTo>
                  <a:cubicBezTo>
                    <a:pt x="73" y="1745"/>
                    <a:pt x="114" y="1731"/>
                    <a:pt x="120" y="1729"/>
                  </a:cubicBezTo>
                  <a:cubicBezTo>
                    <a:pt x="128" y="1704"/>
                    <a:pt x="122" y="1696"/>
                    <a:pt x="108" y="1675"/>
                  </a:cubicBezTo>
                  <a:cubicBezTo>
                    <a:pt x="111" y="1569"/>
                    <a:pt x="101" y="1487"/>
                    <a:pt x="132" y="1393"/>
                  </a:cubicBezTo>
                  <a:cubicBezTo>
                    <a:pt x="129" y="1291"/>
                    <a:pt x="104" y="1066"/>
                    <a:pt x="132" y="955"/>
                  </a:cubicBezTo>
                  <a:cubicBezTo>
                    <a:pt x="147" y="770"/>
                    <a:pt x="144" y="587"/>
                    <a:pt x="126" y="403"/>
                  </a:cubicBezTo>
                  <a:cubicBezTo>
                    <a:pt x="130" y="293"/>
                    <a:pt x="128" y="164"/>
                    <a:pt x="150" y="55"/>
                  </a:cubicBezTo>
                  <a:cubicBezTo>
                    <a:pt x="148" y="43"/>
                    <a:pt x="151" y="29"/>
                    <a:pt x="144" y="19"/>
                  </a:cubicBezTo>
                  <a:cubicBezTo>
                    <a:pt x="130" y="0"/>
                    <a:pt x="83" y="19"/>
                    <a:pt x="66" y="25"/>
                  </a:cubicBezTo>
                  <a:cubicBezTo>
                    <a:pt x="48" y="51"/>
                    <a:pt x="50" y="49"/>
                    <a:pt x="72" y="19"/>
                  </a:cubicBez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56000" y="1844640"/>
              <a:ext cx="28908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84720" y="2349360"/>
              <a:ext cx="288720" cy="28764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11640" y="3068640"/>
              <a:ext cx="28908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11640" y="3429000"/>
              <a:ext cx="28908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932360" y="1844640"/>
              <a:ext cx="28908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32360" y="2349360"/>
              <a:ext cx="289080" cy="28764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32360" y="3068640"/>
              <a:ext cx="28908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932360" y="3429000"/>
              <a:ext cx="28908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84720" y="4221000"/>
              <a:ext cx="288720" cy="28764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932360" y="4221000"/>
              <a:ext cx="289080" cy="28764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08720" y="184464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508720" y="242100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508720" y="299556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08720" y="357192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508720" y="414828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12000" y="198756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12000" y="234792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012000" y="371628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012000" y="407664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00720" y="2060640"/>
              <a:ext cx="432000" cy="431640"/>
            </a:xfrm>
            <a:prstGeom prst="ellipse">
              <a:avLst/>
            </a:prstGeom>
            <a:solidFill>
              <a:srgbClr val="46a444"/>
            </a:solidFill>
            <a:ln w="9360">
              <a:solidFill>
                <a:srgbClr val="46a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00720" y="3787920"/>
              <a:ext cx="432000" cy="431640"/>
            </a:xfrm>
            <a:prstGeom prst="ellipse">
              <a:avLst/>
            </a:prstGeom>
            <a:solidFill>
              <a:srgbClr val="46a444"/>
            </a:solidFill>
            <a:ln w="9360">
              <a:solidFill>
                <a:srgbClr val="46a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940360" y="335592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292720" y="335592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40360" y="2852640"/>
              <a:ext cx="142920" cy="14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292720" y="220500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716360" y="220500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96000" y="220500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148360" y="278136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43280" y="299736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96000" y="393228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48360" y="3933720"/>
              <a:ext cx="142920" cy="14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716360" y="407664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300720" y="2779560"/>
              <a:ext cx="142920" cy="14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300720" y="342900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00680" y="2646360"/>
              <a:ext cx="839880" cy="1025640"/>
            </a:xfrm>
            <a:custGeom>
              <a:avLst/>
              <a:gdLst/>
              <a:ahLst/>
              <a:rect l="l" t="t" r="r" b="b"/>
              <a:pathLst>
                <a:path w="529" h="646">
                  <a:moveTo>
                    <a:pt x="18" y="142"/>
                  </a:moveTo>
                  <a:cubicBezTo>
                    <a:pt x="20" y="130"/>
                    <a:pt x="20" y="118"/>
                    <a:pt x="24" y="106"/>
                  </a:cubicBezTo>
                  <a:cubicBezTo>
                    <a:pt x="34" y="76"/>
                    <a:pt x="66" y="70"/>
                    <a:pt x="90" y="58"/>
                  </a:cubicBezTo>
                  <a:cubicBezTo>
                    <a:pt x="151" y="28"/>
                    <a:pt x="181" y="24"/>
                    <a:pt x="252" y="16"/>
                  </a:cubicBezTo>
                  <a:cubicBezTo>
                    <a:pt x="301" y="0"/>
                    <a:pt x="326" y="6"/>
                    <a:pt x="384" y="10"/>
                  </a:cubicBezTo>
                  <a:cubicBezTo>
                    <a:pt x="392" y="12"/>
                    <a:pt x="400" y="14"/>
                    <a:pt x="408" y="16"/>
                  </a:cubicBezTo>
                  <a:cubicBezTo>
                    <a:pt x="420" y="20"/>
                    <a:pt x="444" y="28"/>
                    <a:pt x="444" y="28"/>
                  </a:cubicBezTo>
                  <a:cubicBezTo>
                    <a:pt x="473" y="57"/>
                    <a:pt x="486" y="81"/>
                    <a:pt x="498" y="118"/>
                  </a:cubicBezTo>
                  <a:cubicBezTo>
                    <a:pt x="502" y="130"/>
                    <a:pt x="506" y="142"/>
                    <a:pt x="510" y="154"/>
                  </a:cubicBezTo>
                  <a:cubicBezTo>
                    <a:pt x="512" y="160"/>
                    <a:pt x="516" y="172"/>
                    <a:pt x="516" y="172"/>
                  </a:cubicBezTo>
                  <a:cubicBezTo>
                    <a:pt x="522" y="276"/>
                    <a:pt x="529" y="354"/>
                    <a:pt x="522" y="460"/>
                  </a:cubicBezTo>
                  <a:cubicBezTo>
                    <a:pt x="520" y="495"/>
                    <a:pt x="509" y="540"/>
                    <a:pt x="486" y="568"/>
                  </a:cubicBezTo>
                  <a:cubicBezTo>
                    <a:pt x="455" y="605"/>
                    <a:pt x="410" y="620"/>
                    <a:pt x="372" y="646"/>
                  </a:cubicBezTo>
                  <a:cubicBezTo>
                    <a:pt x="258" y="638"/>
                    <a:pt x="150" y="621"/>
                    <a:pt x="36" y="616"/>
                  </a:cubicBezTo>
                  <a:cubicBezTo>
                    <a:pt x="5" y="606"/>
                    <a:pt x="6" y="573"/>
                    <a:pt x="0" y="544"/>
                  </a:cubicBezTo>
                  <a:cubicBezTo>
                    <a:pt x="2" y="520"/>
                    <a:pt x="0" y="495"/>
                    <a:pt x="6" y="472"/>
                  </a:cubicBezTo>
                  <a:cubicBezTo>
                    <a:pt x="10" y="458"/>
                    <a:pt x="30" y="436"/>
                    <a:pt x="30" y="436"/>
                  </a:cubicBezTo>
                  <a:cubicBezTo>
                    <a:pt x="28" y="380"/>
                    <a:pt x="18" y="309"/>
                    <a:pt x="18" y="2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227640" y="1197000"/>
              <a:ext cx="649440" cy="360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di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300720" y="1555560"/>
              <a:ext cx="14292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380360" y="2060640"/>
              <a:ext cx="914400" cy="360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adat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04000" y="2205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308720" y="2781360"/>
              <a:ext cx="1584360" cy="863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rner-ho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ngling-bon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732720" y="3213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6443280" y="2852640"/>
              <a:ext cx="289080" cy="0"/>
            </a:xfrm>
            <a:prstGeom prst="line">
              <a:avLst/>
            </a:prstGeom>
            <a:ln w="9360">
              <a:solidFill>
                <a:srgbClr val="1910c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443280" y="3500280"/>
              <a:ext cx="289080" cy="0"/>
            </a:xfrm>
            <a:prstGeom prst="line">
              <a:avLst/>
            </a:prstGeom>
            <a:ln w="9360">
              <a:solidFill>
                <a:srgbClr val="1910c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6156000" y="3284280"/>
              <a:ext cx="144360" cy="144360"/>
            </a:xfrm>
            <a:prstGeom prst="line">
              <a:avLst/>
            </a:prstGeom>
            <a:ln w="9360">
              <a:solidFill>
                <a:srgbClr val="1910c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6156000" y="2852640"/>
              <a:ext cx="144360" cy="142920"/>
            </a:xfrm>
            <a:prstGeom prst="line">
              <a:avLst/>
            </a:prstGeom>
            <a:ln w="9360">
              <a:solidFill>
                <a:srgbClr val="1910c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258920" y="5661000"/>
              <a:ext cx="288720" cy="2872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116000" y="6164280"/>
              <a:ext cx="647640" cy="287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Ca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042920" y="260280"/>
              <a:ext cx="3672000" cy="576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Image of Surfa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780000" y="414972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780000" y="357336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780000" y="299736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80000" y="242100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276720" y="357336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276720" y="299736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84720" y="3933720"/>
              <a:ext cx="142920" cy="14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995640" y="335772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84720" y="278136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067280" y="220500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64000" y="335772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64000" y="3933720"/>
              <a:ext cx="142920" cy="14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00720" y="3213000"/>
              <a:ext cx="431640" cy="432000"/>
            </a:xfrm>
            <a:prstGeom prst="ellipse">
              <a:avLst/>
            </a:prstGeom>
            <a:solidFill>
              <a:srgbClr val="46a444"/>
            </a:solidFill>
            <a:ln w="9360">
              <a:solidFill>
                <a:srgbClr val="46a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643280" y="371628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6360" y="263700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564000" y="278136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76720" y="242100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76720" y="414972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771640" y="2997360"/>
              <a:ext cx="28908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71640" y="3573360"/>
              <a:ext cx="28908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80000" y="184464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132000" y="335772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32000" y="3933720"/>
              <a:ext cx="142920" cy="14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132000" y="278136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564000" y="220500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64000" y="472428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80000" y="1700280"/>
              <a:ext cx="21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300720" y="4292640"/>
              <a:ext cx="284328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910c6"/>
                  </a:solidFill>
                  <a:latin typeface="Tahoma"/>
                </a:rPr>
                <a:t>TSC is born here!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 flipV="1">
              <a:off x="6804000" y="3644640"/>
              <a:ext cx="50472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97240" y="3678120"/>
              <a:ext cx="1349640" cy="619200"/>
            </a:xfrm>
            <a:custGeom>
              <a:avLst/>
              <a:gdLst/>
              <a:ahLst/>
              <a:rect l="l" t="t" r="r" b="b"/>
              <a:pathLst>
                <a:path w="850" h="390">
                  <a:moveTo>
                    <a:pt x="20" y="131"/>
                  </a:moveTo>
                  <a:cubicBezTo>
                    <a:pt x="41" y="124"/>
                    <a:pt x="57" y="112"/>
                    <a:pt x="79" y="105"/>
                  </a:cubicBezTo>
                  <a:cubicBezTo>
                    <a:pt x="92" y="101"/>
                    <a:pt x="118" y="92"/>
                    <a:pt x="118" y="92"/>
                  </a:cubicBezTo>
                  <a:cubicBezTo>
                    <a:pt x="190" y="45"/>
                    <a:pt x="81" y="118"/>
                    <a:pt x="157" y="59"/>
                  </a:cubicBezTo>
                  <a:cubicBezTo>
                    <a:pt x="192" y="31"/>
                    <a:pt x="234" y="15"/>
                    <a:pt x="275" y="0"/>
                  </a:cubicBezTo>
                  <a:cubicBezTo>
                    <a:pt x="323" y="5"/>
                    <a:pt x="371" y="6"/>
                    <a:pt x="419" y="13"/>
                  </a:cubicBezTo>
                  <a:cubicBezTo>
                    <a:pt x="453" y="18"/>
                    <a:pt x="490" y="37"/>
                    <a:pt x="524" y="46"/>
                  </a:cubicBezTo>
                  <a:cubicBezTo>
                    <a:pt x="578" y="61"/>
                    <a:pt x="632" y="72"/>
                    <a:pt x="688" y="79"/>
                  </a:cubicBezTo>
                  <a:cubicBezTo>
                    <a:pt x="721" y="89"/>
                    <a:pt x="753" y="101"/>
                    <a:pt x="786" y="111"/>
                  </a:cubicBezTo>
                  <a:cubicBezTo>
                    <a:pt x="803" y="137"/>
                    <a:pt x="850" y="153"/>
                    <a:pt x="792" y="170"/>
                  </a:cubicBezTo>
                  <a:cubicBezTo>
                    <a:pt x="773" y="190"/>
                    <a:pt x="745" y="222"/>
                    <a:pt x="720" y="229"/>
                  </a:cubicBezTo>
                  <a:cubicBezTo>
                    <a:pt x="716" y="236"/>
                    <a:pt x="713" y="244"/>
                    <a:pt x="707" y="249"/>
                  </a:cubicBezTo>
                  <a:cubicBezTo>
                    <a:pt x="703" y="253"/>
                    <a:pt x="638" y="279"/>
                    <a:pt x="629" y="282"/>
                  </a:cubicBezTo>
                  <a:cubicBezTo>
                    <a:pt x="601" y="322"/>
                    <a:pt x="550" y="332"/>
                    <a:pt x="504" y="340"/>
                  </a:cubicBezTo>
                  <a:cubicBezTo>
                    <a:pt x="463" y="355"/>
                    <a:pt x="438" y="361"/>
                    <a:pt x="393" y="367"/>
                  </a:cubicBezTo>
                  <a:cubicBezTo>
                    <a:pt x="315" y="390"/>
                    <a:pt x="320" y="352"/>
                    <a:pt x="269" y="327"/>
                  </a:cubicBezTo>
                  <a:cubicBezTo>
                    <a:pt x="244" y="315"/>
                    <a:pt x="167" y="314"/>
                    <a:pt x="164" y="314"/>
                  </a:cubicBezTo>
                  <a:cubicBezTo>
                    <a:pt x="124" y="307"/>
                    <a:pt x="95" y="299"/>
                    <a:pt x="53" y="295"/>
                  </a:cubicBezTo>
                  <a:cubicBezTo>
                    <a:pt x="44" y="293"/>
                    <a:pt x="33" y="295"/>
                    <a:pt x="27" y="288"/>
                  </a:cubicBezTo>
                  <a:cubicBezTo>
                    <a:pt x="8" y="266"/>
                    <a:pt x="19" y="235"/>
                    <a:pt x="0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 flipV="1">
              <a:off x="5246280" y="4149360"/>
              <a:ext cx="1035000" cy="53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1F7-1A58-45AE-BB72-0527378A6B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1116000" y="260280"/>
            <a:ext cx="6840720" cy="5275440"/>
            <a:chOff x="1116000" y="260280"/>
            <a:chExt cx="6840720" cy="5275440"/>
          </a:xfrm>
        </p:grpSpPr>
        <p:pic>
          <p:nvPicPr>
            <p:cNvPr id="661" name="" descr=""/>
            <p:cNvPicPr/>
            <p:nvPr/>
          </p:nvPicPr>
          <p:blipFill>
            <a:blip r:embed="rId1"/>
            <a:stretch/>
          </p:blipFill>
          <p:spPr>
            <a:xfrm>
              <a:off x="1187280" y="876240"/>
              <a:ext cx="6769440" cy="46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1116000" y="260280"/>
              <a:ext cx="3095640" cy="432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ocal D/Pd = 1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32360" y="260280"/>
              <a:ext cx="2952720" cy="432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ocal D/Pd =2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A693-FCB3-4621-ADB4-F2C17AB952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"/>
          <p:cNvGrpSpPr/>
          <p:nvPr/>
        </p:nvGrpSpPr>
        <p:grpSpPr>
          <a:xfrm>
            <a:off x="625320" y="3240"/>
            <a:ext cx="8290080" cy="6854760"/>
            <a:chOff x="625320" y="3240"/>
            <a:chExt cx="8290080" cy="6854760"/>
          </a:xfrm>
        </p:grpSpPr>
        <p:sp>
          <p:nvSpPr>
            <p:cNvPr id="665" name=""/>
            <p:cNvSpPr/>
            <p:nvPr/>
          </p:nvSpPr>
          <p:spPr>
            <a:xfrm>
              <a:off x="625320" y="3240"/>
              <a:ext cx="7712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1040" y="441360"/>
              <a:ext cx="6832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910c6"/>
                  </a:solidFill>
                  <a:latin typeface="Tahoma"/>
                </a:rPr>
                <a:t>Tetrahedral Condensation of D-Clus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120" y="1093680"/>
              <a:ext cx="3895560" cy="576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681440" y="1139760"/>
              <a:ext cx="3897360" cy="49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56280" y="1201680"/>
              <a:ext cx="1977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1910c6"/>
                  </a:solidFill>
                  <a:latin typeface="Tahoma"/>
                </a:rPr>
                <a:t>Transient Bos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52320" y="1517760"/>
              <a:ext cx="3646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1910c6"/>
                  </a:solidFill>
                  <a:latin typeface="Tahoma"/>
                </a:rPr>
                <a:t>Condensation of Deuteron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89040" y="2021040"/>
              <a:ext cx="2693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1910c6"/>
                  </a:solidFill>
                  <a:latin typeface="Tahoma"/>
                </a:rPr>
                <a:t>From O-site to T-sit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49800" y="2525760"/>
              <a:ext cx="3765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1910c6"/>
                  </a:solidFill>
                  <a:latin typeface="Tahoma"/>
                </a:rPr>
                <a:t>Associating Transien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99840" y="2841480"/>
              <a:ext cx="341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100" spc="-1" strike="noStrike">
                  <a:solidFill>
                    <a:srgbClr val="1910c6"/>
                  </a:solidFill>
                  <a:latin typeface="Tahoma"/>
                </a:rPr>
                <a:t>Squeezing (</a:t>
              </a:r>
              <a:r>
                <a:rPr b="1" lang="ja-JP" sz="2100" spc="-1" strike="noStrike">
                  <a:solidFill>
                    <a:srgbClr val="ff3399"/>
                  </a:solidFill>
                  <a:latin typeface="Tahoma"/>
                </a:rPr>
                <a:t>Bosonozation</a:t>
              </a:r>
              <a:r>
                <a:rPr b="1" lang="ja-JP" sz="2100" spc="-1" strike="noStrike">
                  <a:solidFill>
                    <a:srgbClr val="1910c6"/>
                  </a:solidFill>
                  <a:latin typeface="Tahoma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85800" y="3156120"/>
              <a:ext cx="2675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1910c6"/>
                  </a:solidFill>
                  <a:latin typeface="Tahoma"/>
                </a:rPr>
                <a:t>of 4d-shell Electron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1760" y="3660840"/>
              <a:ext cx="321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1910c6"/>
                  </a:solidFill>
                  <a:latin typeface="Tahoma"/>
                </a:rPr>
                <a:t>Generation of Short-Lif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80760" y="3975120"/>
              <a:ext cx="2795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3399"/>
                  </a:solidFill>
                  <a:latin typeface="Tahoma"/>
                </a:rPr>
                <a:t>Quasi-Particle e* lik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63840" y="4290840"/>
              <a:ext cx="1562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3399"/>
                  </a:solidFill>
                  <a:latin typeface="Tahoma"/>
                </a:rPr>
                <a:t>Cooper-pai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0320" y="4795920"/>
              <a:ext cx="3062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1910c6"/>
                  </a:solidFill>
                  <a:latin typeface="Tahoma"/>
                </a:rPr>
                <a:t>D-Cluster as Mixture of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49800" y="5110200"/>
              <a:ext cx="361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100" spc="-1" strike="noStrike">
                  <a:solidFill>
                    <a:srgbClr val="ff3399"/>
                  </a:solidFill>
                  <a:latin typeface="Tahoma"/>
                </a:rPr>
                <a:t>DDe, DDee, DDe*,DDe*e*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25320" y="844560"/>
              <a:ext cx="8272440" cy="666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88920" y="6045120"/>
              <a:ext cx="258300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458000" y="6080040"/>
              <a:ext cx="6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00400" y="6095880"/>
              <a:ext cx="19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0000"/>
                  </a:solidFill>
                  <a:latin typeface="Tahoma"/>
                </a:rPr>
                <a:t>Some FC Pd omit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24120" y="4889520"/>
              <a:ext cx="1224000" cy="33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61640" y="4948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Tahoma"/>
                </a:rPr>
                <a:t>2.8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192400" y="4948200"/>
              <a:ext cx="817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Tahoma"/>
                </a:rPr>
                <a:t>angst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28800" y="5403960"/>
              <a:ext cx="838080" cy="21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10000"/>
                  </a:solidFill>
                  <a:latin typeface="Tahoma"/>
                </a:rPr>
                <a:t>  </a:t>
              </a:r>
              <a:r>
                <a:rPr b="0" lang="ja-JP" sz="1400" spc="-1" strike="noStrike">
                  <a:solidFill>
                    <a:srgbClr val="010000"/>
                  </a:solidFill>
                  <a:latin typeface="Tahoma"/>
                </a:rPr>
                <a:t>O-site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673440" y="5391000"/>
              <a:ext cx="762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854880" y="5405400"/>
              <a:ext cx="45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Tahoma"/>
                </a:rPr>
                <a:t>T-s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424160" y="5405400"/>
              <a:ext cx="261720" cy="3096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351240" y="5443560"/>
              <a:ext cx="17604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870200" y="1173240"/>
              <a:ext cx="610920" cy="617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784680" y="1173240"/>
              <a:ext cx="611280" cy="617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21560" y="135900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Century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79680" y="1481040"/>
              <a:ext cx="1305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912960" y="2249640"/>
              <a:ext cx="610920" cy="617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21040" y="246708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Century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1347480" y="1633680"/>
              <a:ext cx="60948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087720" y="2249640"/>
              <a:ext cx="611280" cy="617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14880" y="246384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Century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3522600" y="1787400"/>
              <a:ext cx="34920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22440" y="2557440"/>
              <a:ext cx="1565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174840" y="4248000"/>
              <a:ext cx="611280" cy="617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02360" y="444492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Century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436920" y="2863800"/>
              <a:ext cx="1440" cy="13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912960" y="4248000"/>
              <a:ext cx="610920" cy="617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121040" y="446400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Century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522440" y="4556160"/>
              <a:ext cx="1652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174680" y="2863800"/>
              <a:ext cx="1800" cy="13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871800" y="3325680"/>
              <a:ext cx="609840" cy="615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89600" y="353052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Century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132440" y="1787400"/>
              <a:ext cx="1440" cy="15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3697200" y="3940200"/>
              <a:ext cx="34776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70200" y="3325680"/>
              <a:ext cx="610920" cy="615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78280" y="354348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Century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1446120" y="3782880"/>
              <a:ext cx="515880" cy="603360"/>
              <a:chOff x="1446120" y="3782880"/>
              <a:chExt cx="515880" cy="603360"/>
            </a:xfrm>
          </p:grpSpPr>
          <p:sp>
            <p:nvSpPr>
              <p:cNvPr id="717" name=""/>
              <p:cNvSpPr/>
              <p:nvPr/>
            </p:nvSpPr>
            <p:spPr>
              <a:xfrm>
                <a:off x="1925640" y="3782880"/>
                <a:ext cx="36360" cy="42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23" y="5"/>
                    </a:moveTo>
                    <a:lnTo>
                      <a:pt x="23" y="3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4" y="26"/>
                    </a:lnTo>
                    <a:lnTo>
                      <a:pt x="5" y="25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876320" y="3838680"/>
                <a:ext cx="36720" cy="4104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5"/>
                    </a:move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7" y="25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830240" y="3895560"/>
                <a:ext cx="36720" cy="4140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2" y="4"/>
                    </a:moveTo>
                    <a:lnTo>
                      <a:pt x="23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781280" y="3949560"/>
                <a:ext cx="36360" cy="44640"/>
              </a:xfrm>
              <a:custGeom>
                <a:avLst/>
                <a:gdLst/>
                <a:ahLst/>
                <a:rect l="l" t="t" r="r" b="b"/>
                <a:pathLst>
                  <a:path w="23" h="28">
                    <a:moveTo>
                      <a:pt x="23" y="6"/>
                    </a:moveTo>
                    <a:lnTo>
                      <a:pt x="23" y="5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8"/>
                    </a:lnTo>
                    <a:lnTo>
                      <a:pt x="3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7" y="2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735200" y="4006800"/>
                <a:ext cx="36360" cy="42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22" y="5"/>
                    </a:moveTo>
                    <a:lnTo>
                      <a:pt x="23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4" y="26"/>
                    </a:lnTo>
                    <a:lnTo>
                      <a:pt x="5" y="25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685880" y="4062240"/>
                <a:ext cx="36720" cy="44640"/>
              </a:xfrm>
              <a:custGeom>
                <a:avLst/>
                <a:gdLst/>
                <a:ahLst/>
                <a:rect l="l" t="t" r="r" b="b"/>
                <a:pathLst>
                  <a:path w="23" h="28">
                    <a:moveTo>
                      <a:pt x="23" y="6"/>
                    </a:moveTo>
                    <a:lnTo>
                      <a:pt x="23" y="5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7"/>
                    </a:lnTo>
                    <a:lnTo>
                      <a:pt x="3" y="28"/>
                    </a:lnTo>
                    <a:lnTo>
                      <a:pt x="4" y="28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638360" y="4119480"/>
                <a:ext cx="38160" cy="42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23" y="4"/>
                    </a:moveTo>
                    <a:lnTo>
                      <a:pt x="24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6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5" y="26"/>
                    </a:lnTo>
                    <a:lnTo>
                      <a:pt x="6" y="25"/>
                    </a:lnTo>
                    <a:lnTo>
                      <a:pt x="2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590840" y="4175280"/>
                <a:ext cx="36360" cy="42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23" y="5"/>
                    </a:moveTo>
                    <a:lnTo>
                      <a:pt x="23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5" y="26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542960" y="423216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23" y="4"/>
                    </a:moveTo>
                    <a:lnTo>
                      <a:pt x="24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6" y="25"/>
                    </a:lnTo>
                    <a:lnTo>
                      <a:pt x="2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495440" y="4286160"/>
                <a:ext cx="36360" cy="44640"/>
              </a:xfrm>
              <a:custGeom>
                <a:avLst/>
                <a:gdLst/>
                <a:ahLst/>
                <a:rect l="l" t="t" r="r" b="b"/>
                <a:pathLst>
                  <a:path w="23" h="28">
                    <a:moveTo>
                      <a:pt x="23" y="6"/>
                    </a:moveTo>
                    <a:lnTo>
                      <a:pt x="23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3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2" y="28"/>
                    </a:lnTo>
                    <a:lnTo>
                      <a:pt x="3" y="28"/>
                    </a:lnTo>
                    <a:lnTo>
                      <a:pt x="4" y="27"/>
                    </a:lnTo>
                    <a:lnTo>
                      <a:pt x="5" y="2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446120" y="4343400"/>
                <a:ext cx="39960" cy="4284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4" y="6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7" y="25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2475000" y="3627360"/>
              <a:ext cx="1384200" cy="11160"/>
              <a:chOff x="2475000" y="3627360"/>
              <a:chExt cx="1384200" cy="11160"/>
            </a:xfrm>
          </p:grpSpPr>
          <p:sp>
            <p:nvSpPr>
              <p:cNvPr id="729" name=""/>
              <p:cNvSpPr/>
              <p:nvPr/>
            </p:nvSpPr>
            <p:spPr>
              <a:xfrm>
                <a:off x="2475000" y="3627360"/>
                <a:ext cx="48960" cy="111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6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544840" y="3627360"/>
                <a:ext cx="48960" cy="111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6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61468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68452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755800" y="3627360"/>
                <a:ext cx="49320" cy="111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6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82564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89548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96532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036960" y="3627360"/>
                <a:ext cx="49320" cy="111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6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10680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17664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247920" y="3627360"/>
                <a:ext cx="49320" cy="111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6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317760" y="3627360"/>
                <a:ext cx="49320" cy="111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6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38760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45744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529080" y="3627360"/>
                <a:ext cx="49320" cy="111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6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59892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66876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73860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809880" y="3627360"/>
                <a:ext cx="49320" cy="111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6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2125800" y="1782720"/>
              <a:ext cx="10800" cy="1548000"/>
              <a:chOff x="2125800" y="1782720"/>
              <a:chExt cx="10800" cy="1548000"/>
            </a:xfrm>
          </p:grpSpPr>
          <p:sp>
            <p:nvSpPr>
              <p:cNvPr id="750" name=""/>
              <p:cNvSpPr/>
              <p:nvPr/>
            </p:nvSpPr>
            <p:spPr>
              <a:xfrm>
                <a:off x="2125800" y="1782720"/>
                <a:ext cx="10800" cy="540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5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125800" y="1859040"/>
                <a:ext cx="10800" cy="554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4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125800" y="1935000"/>
                <a:ext cx="10800" cy="5580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4"/>
                    </a:moveTo>
                    <a:lnTo>
                      <a:pt x="7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4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6" y="34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125800" y="201312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3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125800" y="2089080"/>
                <a:ext cx="10800" cy="540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3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125800" y="2165400"/>
                <a:ext cx="10800" cy="540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3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125800" y="2241720"/>
                <a:ext cx="10800" cy="554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4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125800" y="2317680"/>
                <a:ext cx="10800" cy="5580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4"/>
                    </a:moveTo>
                    <a:lnTo>
                      <a:pt x="7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4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6" y="34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125800" y="2394000"/>
                <a:ext cx="10800" cy="554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4"/>
                    </a:moveTo>
                    <a:lnTo>
                      <a:pt x="7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2" y="34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6" y="34"/>
                    </a:lnTo>
                    <a:lnTo>
                      <a:pt x="7" y="33"/>
                    </a:lnTo>
                    <a:lnTo>
                      <a:pt x="7" y="31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125800" y="2471760"/>
                <a:ext cx="10800" cy="540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3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125800" y="2548080"/>
                <a:ext cx="10800" cy="540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3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125800" y="2624040"/>
                <a:ext cx="10800" cy="540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3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125800" y="2700360"/>
                <a:ext cx="10800" cy="554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4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125800" y="2776680"/>
                <a:ext cx="10800" cy="554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4"/>
                    </a:moveTo>
                    <a:lnTo>
                      <a:pt x="7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4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6" y="34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25800" y="2854440"/>
                <a:ext cx="10800" cy="540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3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125800" y="2930400"/>
                <a:ext cx="10800" cy="540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3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125800" y="3006720"/>
                <a:ext cx="10800" cy="540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3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125800" y="3083040"/>
                <a:ext cx="10800" cy="540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3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125800" y="3159000"/>
                <a:ext cx="10800" cy="5580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4"/>
                    </a:moveTo>
                    <a:lnTo>
                      <a:pt x="7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125800" y="3235320"/>
                <a:ext cx="10800" cy="554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4"/>
                    </a:moveTo>
                    <a:lnTo>
                      <a:pt x="7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2" y="34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6" y="34"/>
                    </a:lnTo>
                    <a:lnTo>
                      <a:pt x="7" y="33"/>
                    </a:lnTo>
                    <a:lnTo>
                      <a:pt x="7" y="31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125800" y="3313080"/>
                <a:ext cx="10800" cy="17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7" y="3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1522440" y="1787400"/>
              <a:ext cx="262080" cy="3096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131920" y="2403360"/>
              <a:ext cx="262080" cy="308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16120" y="3017880"/>
              <a:ext cx="263520" cy="3096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87560" y="3325680"/>
              <a:ext cx="261720" cy="3096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652840" y="2709720"/>
              <a:ext cx="17604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305080" y="2095560"/>
              <a:ext cx="176040" cy="15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82720" y="2709720"/>
              <a:ext cx="176400" cy="157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002040" y="2095560"/>
              <a:ext cx="174600" cy="15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782720" y="3479760"/>
              <a:ext cx="176400" cy="15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652840" y="3479760"/>
              <a:ext cx="176040" cy="15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002040" y="2863800"/>
              <a:ext cx="174600" cy="15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305080" y="2863800"/>
              <a:ext cx="176040" cy="15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002040" y="1325520"/>
              <a:ext cx="261720" cy="30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959280" y="2403360"/>
              <a:ext cx="261720" cy="308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262320" y="3479760"/>
              <a:ext cx="263520" cy="30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784680" y="3940200"/>
              <a:ext cx="261720" cy="30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17600" y="4402080"/>
              <a:ext cx="263520" cy="30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09560" y="3940200"/>
              <a:ext cx="262080" cy="30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1338120" y="2863800"/>
              <a:ext cx="444600" cy="474840"/>
              <a:chOff x="1338120" y="2863800"/>
              <a:chExt cx="444600" cy="474840"/>
            </a:xfrm>
          </p:grpSpPr>
          <p:sp>
            <p:nvSpPr>
              <p:cNvPr id="790" name=""/>
              <p:cNvSpPr/>
              <p:nvPr/>
            </p:nvSpPr>
            <p:spPr>
              <a:xfrm>
                <a:off x="1338120" y="2967120"/>
                <a:ext cx="347760" cy="371520"/>
              </a:xfrm>
              <a:custGeom>
                <a:avLst/>
                <a:gdLst/>
                <a:ahLst/>
                <a:rect l="l" t="t" r="r" b="b"/>
                <a:pathLst>
                  <a:path w="219" h="234">
                    <a:moveTo>
                      <a:pt x="0" y="219"/>
                    </a:moveTo>
                    <a:lnTo>
                      <a:pt x="13" y="234"/>
                    </a:lnTo>
                    <a:lnTo>
                      <a:pt x="219" y="15"/>
                    </a:lnTo>
                    <a:lnTo>
                      <a:pt x="207" y="0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619280" y="2863800"/>
                <a:ext cx="163440" cy="179280"/>
              </a:xfrm>
              <a:custGeom>
                <a:avLst/>
                <a:gdLst/>
                <a:ahLst/>
                <a:rect l="l" t="t" r="r" b="b"/>
                <a:pathLst>
                  <a:path w="103" h="113">
                    <a:moveTo>
                      <a:pt x="69" y="113"/>
                    </a:moveTo>
                    <a:lnTo>
                      <a:pt x="103" y="0"/>
                    </a:lnTo>
                    <a:lnTo>
                      <a:pt x="0" y="36"/>
                    </a:lnTo>
                    <a:lnTo>
                      <a:pt x="69" y="1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1682640" y="2092320"/>
              <a:ext cx="216000" cy="617400"/>
              <a:chOff x="1682640" y="2092320"/>
              <a:chExt cx="216000" cy="617400"/>
            </a:xfrm>
          </p:grpSpPr>
          <p:sp>
            <p:nvSpPr>
              <p:cNvPr id="793" name=""/>
              <p:cNvSpPr/>
              <p:nvPr/>
            </p:nvSpPr>
            <p:spPr>
              <a:xfrm>
                <a:off x="1682640" y="2092320"/>
                <a:ext cx="157320" cy="466560"/>
              </a:xfrm>
              <a:custGeom>
                <a:avLst/>
                <a:gdLst/>
                <a:ahLst/>
                <a:rect l="l" t="t" r="r" b="b"/>
                <a:pathLst>
                  <a:path w="99" h="294">
                    <a:moveTo>
                      <a:pt x="18" y="0"/>
                    </a:moveTo>
                    <a:lnTo>
                      <a:pt x="0" y="6"/>
                    </a:lnTo>
                    <a:lnTo>
                      <a:pt x="81" y="294"/>
                    </a:lnTo>
                    <a:lnTo>
                      <a:pt x="99" y="28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749600" y="2525760"/>
                <a:ext cx="149040" cy="183960"/>
              </a:xfrm>
              <a:custGeom>
                <a:avLst/>
                <a:gdLst/>
                <a:ahLst/>
                <a:rect l="l" t="t" r="r" b="b"/>
                <a:pathLst>
                  <a:path w="94" h="116">
                    <a:moveTo>
                      <a:pt x="0" y="31"/>
                    </a:moveTo>
                    <a:lnTo>
                      <a:pt x="76" y="116"/>
                    </a:lnTo>
                    <a:lnTo>
                      <a:pt x="94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1957320" y="2538360"/>
              <a:ext cx="184320" cy="171360"/>
              <a:chOff x="1957320" y="2538360"/>
              <a:chExt cx="184320" cy="171360"/>
            </a:xfrm>
          </p:grpSpPr>
          <p:sp>
            <p:nvSpPr>
              <p:cNvPr id="796" name=""/>
              <p:cNvSpPr/>
              <p:nvPr/>
            </p:nvSpPr>
            <p:spPr>
              <a:xfrm>
                <a:off x="2065320" y="254484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16"/>
                    </a:moveTo>
                    <a:lnTo>
                      <a:pt x="36" y="0"/>
                    </a:lnTo>
                    <a:lnTo>
                      <a:pt x="0" y="32"/>
                    </a:lnTo>
                    <a:lnTo>
                      <a:pt x="12" y="48"/>
                    </a:lnTo>
                    <a:lnTo>
                      <a:pt x="48" y="1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957320" y="2538360"/>
                <a:ext cx="168480" cy="171360"/>
              </a:xfrm>
              <a:custGeom>
                <a:avLst/>
                <a:gdLst/>
                <a:ahLst/>
                <a:rect l="l" t="t" r="r" b="b"/>
                <a:pathLst>
                  <a:path w="106" h="108">
                    <a:moveTo>
                      <a:pt x="44" y="0"/>
                    </a:moveTo>
                    <a:lnTo>
                      <a:pt x="0" y="108"/>
                    </a:lnTo>
                    <a:lnTo>
                      <a:pt x="106" y="8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1957320" y="2851200"/>
              <a:ext cx="665280" cy="334800"/>
              <a:chOff x="1957320" y="2851200"/>
              <a:chExt cx="665280" cy="334800"/>
            </a:xfrm>
          </p:grpSpPr>
          <p:sp>
            <p:nvSpPr>
              <p:cNvPr id="799" name=""/>
              <p:cNvSpPr/>
              <p:nvPr/>
            </p:nvSpPr>
            <p:spPr>
              <a:xfrm>
                <a:off x="2090880" y="2916360"/>
                <a:ext cx="531720" cy="269640"/>
              </a:xfrm>
              <a:custGeom>
                <a:avLst/>
                <a:gdLst/>
                <a:ahLst/>
                <a:rect l="l" t="t" r="r" b="b"/>
                <a:pathLst>
                  <a:path w="335" h="170">
                    <a:moveTo>
                      <a:pt x="328" y="170"/>
                    </a:moveTo>
                    <a:lnTo>
                      <a:pt x="335" y="152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328" y="17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957320" y="2851200"/>
                <a:ext cx="171360" cy="155520"/>
              </a:xfrm>
              <a:custGeom>
                <a:avLst/>
                <a:gdLst/>
                <a:ahLst/>
                <a:rect l="l" t="t" r="r" b="b"/>
                <a:pathLst>
                  <a:path w="108" h="98">
                    <a:moveTo>
                      <a:pt x="108" y="0"/>
                    </a:moveTo>
                    <a:lnTo>
                      <a:pt x="0" y="8"/>
                    </a:lnTo>
                    <a:lnTo>
                      <a:pt x="71" y="98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3063960" y="4960800"/>
              <a:ext cx="447480" cy="114480"/>
              <a:chOff x="3063960" y="4960800"/>
              <a:chExt cx="447480" cy="114480"/>
            </a:xfrm>
          </p:grpSpPr>
          <p:sp>
            <p:nvSpPr>
              <p:cNvPr id="802" name=""/>
              <p:cNvSpPr/>
              <p:nvPr/>
            </p:nvSpPr>
            <p:spPr>
              <a:xfrm>
                <a:off x="3063960" y="5016600"/>
                <a:ext cx="347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408480" y="4960800"/>
                <a:ext cx="102960" cy="114480"/>
              </a:xfrm>
              <a:custGeom>
                <a:avLst/>
                <a:gdLst/>
                <a:ahLst/>
                <a:rect l="l" t="t" r="r" b="b"/>
                <a:pathLst>
                  <a:path w="65" h="72">
                    <a:moveTo>
                      <a:pt x="0" y="72"/>
                    </a:moveTo>
                    <a:lnTo>
                      <a:pt x="65" y="35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1273320" y="4959360"/>
              <a:ext cx="298440" cy="114120"/>
              <a:chOff x="1273320" y="4959360"/>
              <a:chExt cx="298440" cy="114120"/>
            </a:xfrm>
          </p:grpSpPr>
          <p:sp>
            <p:nvSpPr>
              <p:cNvPr id="805" name=""/>
              <p:cNvSpPr/>
              <p:nvPr/>
            </p:nvSpPr>
            <p:spPr>
              <a:xfrm flipH="1">
                <a:off x="1373040" y="5016600"/>
                <a:ext cx="198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273320" y="4959360"/>
                <a:ext cx="102960" cy="114120"/>
              </a:xfrm>
              <a:custGeom>
                <a:avLst/>
                <a:gdLst/>
                <a:ahLst/>
                <a:rect l="l" t="t" r="r" b="b"/>
                <a:pathLst>
                  <a:path w="65" h="72">
                    <a:moveTo>
                      <a:pt x="65" y="0"/>
                    </a:moveTo>
                    <a:lnTo>
                      <a:pt x="0" y="36"/>
                    </a:lnTo>
                    <a:lnTo>
                      <a:pt x="65" y="7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"/>
            <p:cNvSpPr/>
            <p:nvPr/>
          </p:nvSpPr>
          <p:spPr>
            <a:xfrm>
              <a:off x="2467080" y="1787400"/>
              <a:ext cx="610920" cy="617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94240" y="200340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Century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467080" y="3787920"/>
              <a:ext cx="610920" cy="615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694240" y="398952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Century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981080" y="1343160"/>
              <a:ext cx="3812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Century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EA8-8B1B-4093-955D-5C4B4F8E5E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(1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sidering the world energy needs and problems in various energy resources, especially problems in nuclear energy resources and fuel-cycle (FBR)/wastes, </a:t>
            </a:r>
            <a:r>
              <a:rPr b="0" lang="en-US" sz="4000" spc="-1" strike="noStrike">
                <a:solidFill>
                  <a:srgbClr val="cc00cc"/>
                </a:solidFill>
                <a:latin typeface="Arial"/>
              </a:rPr>
              <a:t>innovative technology is truly needed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052640"/>
            <a:ext cx="8351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156D-617D-4589-A2A2-6968F1E97D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 rot="10800000">
            <a:off x="914400" y="205704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98400" y="471600"/>
            <a:ext cx="7317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55640" y="260280"/>
            <a:ext cx="7581960" cy="305280"/>
          </a:xfrm>
          <a:prstGeom prst="rect">
            <a:avLst/>
          </a:prstGeom>
          <a:solidFill>
            <a:srgbClr val="fc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1910c6"/>
                </a:solidFill>
                <a:latin typeface="Tahoma"/>
              </a:rPr>
              <a:t>Tetrahedral Condensation of Deuterons in Pd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971640" y="765000"/>
            <a:ext cx="7543800" cy="5399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84360" y="620640"/>
            <a:ext cx="7632720" cy="572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2685960" y="3873600"/>
            <a:ext cx="1558800" cy="928080"/>
            <a:chOff x="2685960" y="3873600"/>
            <a:chExt cx="1558800" cy="928080"/>
          </a:xfrm>
        </p:grpSpPr>
        <p:sp>
          <p:nvSpPr>
            <p:cNvPr id="819" name=""/>
            <p:cNvSpPr/>
            <p:nvPr/>
          </p:nvSpPr>
          <p:spPr>
            <a:xfrm>
              <a:off x="2685960" y="3955680"/>
              <a:ext cx="1388880" cy="846000"/>
            </a:xfrm>
            <a:custGeom>
              <a:avLst/>
              <a:gdLst/>
              <a:ahLst/>
              <a:rect l="l" t="t" r="r" b="b"/>
              <a:pathLst>
                <a:path w="875" h="533">
                  <a:moveTo>
                    <a:pt x="0" y="503"/>
                  </a:moveTo>
                  <a:lnTo>
                    <a:pt x="18" y="533"/>
                  </a:lnTo>
                  <a:lnTo>
                    <a:pt x="875" y="30"/>
                  </a:lnTo>
                  <a:lnTo>
                    <a:pt x="857" y="0"/>
                  </a:lnTo>
                  <a:lnTo>
                    <a:pt x="0" y="50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001760" y="3873600"/>
              <a:ext cx="243000" cy="204480"/>
            </a:xfrm>
            <a:custGeom>
              <a:avLst/>
              <a:gdLst/>
              <a:ahLst/>
              <a:rect l="l" t="t" r="r" b="b"/>
              <a:pathLst>
                <a:path w="153" h="129">
                  <a:moveTo>
                    <a:pt x="70" y="129"/>
                  </a:moveTo>
                  <a:lnTo>
                    <a:pt x="153" y="0"/>
                  </a:lnTo>
                  <a:lnTo>
                    <a:pt x="0" y="10"/>
                  </a:lnTo>
                  <a:lnTo>
                    <a:pt x="70" y="1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7353360" y="2286000"/>
            <a:ext cx="431280" cy="159840"/>
            <a:chOff x="7353360" y="2286000"/>
            <a:chExt cx="431280" cy="159840"/>
          </a:xfrm>
        </p:grpSpPr>
        <p:sp>
          <p:nvSpPr>
            <p:cNvPr id="822" name=""/>
            <p:cNvSpPr/>
            <p:nvPr/>
          </p:nvSpPr>
          <p:spPr>
            <a:xfrm flipH="1" flipV="1">
              <a:off x="7443360" y="2333160"/>
              <a:ext cx="341280" cy="11268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353360" y="2286000"/>
              <a:ext cx="109080" cy="9360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69" y="0"/>
                  </a:moveTo>
                  <a:lnTo>
                    <a:pt x="0" y="10"/>
                  </a:lnTo>
                  <a:lnTo>
                    <a:pt x="49" y="5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1235160" y="1130400"/>
            <a:ext cx="7085520" cy="5062320"/>
            <a:chOff x="1235160" y="1130400"/>
            <a:chExt cx="7085520" cy="5062320"/>
          </a:xfrm>
        </p:grpSpPr>
        <p:sp>
          <p:nvSpPr>
            <p:cNvPr id="825" name=""/>
            <p:cNvSpPr/>
            <p:nvPr/>
          </p:nvSpPr>
          <p:spPr>
            <a:xfrm>
              <a:off x="7827840" y="2319480"/>
              <a:ext cx="49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Tahoma"/>
                </a:rPr>
                <a:t>O-s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"/>
            <p:cNvGrpSpPr/>
            <p:nvPr/>
          </p:nvGrpSpPr>
          <p:grpSpPr>
            <a:xfrm>
              <a:off x="1235160" y="1130400"/>
              <a:ext cx="6281640" cy="5062320"/>
              <a:chOff x="1235160" y="1130400"/>
              <a:chExt cx="6281640" cy="5062320"/>
            </a:xfrm>
          </p:grpSpPr>
          <p:sp>
            <p:nvSpPr>
              <p:cNvPr id="827" name=""/>
              <p:cNvSpPr/>
              <p:nvPr/>
            </p:nvSpPr>
            <p:spPr>
              <a:xfrm>
                <a:off x="4591080" y="5052960"/>
                <a:ext cx="517320" cy="49392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788360" y="5207040"/>
                <a:ext cx="113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892040" y="510228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09680" y="2678040"/>
                <a:ext cx="515880" cy="49536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407320" y="2814480"/>
                <a:ext cx="113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498040" y="269244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565600" y="2575080"/>
                <a:ext cx="517680" cy="49500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50640" y="2759040"/>
                <a:ext cx="113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69800" y="266400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297160" y="4711680"/>
                <a:ext cx="430200" cy="412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461680" y="4759200"/>
                <a:ext cx="105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529360" y="4648320"/>
                <a:ext cx="83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10000"/>
                    </a:solidFill>
                    <a:latin typeface="Century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591080" y="3297240"/>
                <a:ext cx="431640" cy="412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765320" y="3468600"/>
                <a:ext cx="105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37320" y="3362400"/>
                <a:ext cx="83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10000"/>
                    </a:solidFill>
                    <a:latin typeface="Century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6000" y="2162160"/>
                <a:ext cx="430200" cy="412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857760" y="225756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908520" y="2238480"/>
                <a:ext cx="152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86280" y="2133720"/>
                <a:ext cx="83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10000"/>
                    </a:solidFill>
                    <a:latin typeface="Century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565600" y="4330800"/>
                <a:ext cx="430200" cy="4125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729040" y="4425840"/>
                <a:ext cx="105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813280" y="4343400"/>
                <a:ext cx="211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10000"/>
                    </a:solidFill>
                    <a:latin typeface="Century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267080" y="3711600"/>
                <a:ext cx="173160" cy="16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"/>
              <p:cNvGrpSpPr/>
              <p:nvPr/>
            </p:nvGrpSpPr>
            <p:grpSpPr>
              <a:xfrm>
                <a:off x="2743200" y="3075120"/>
                <a:ext cx="1523520" cy="744480"/>
                <a:chOff x="2743200" y="3075120"/>
                <a:chExt cx="1523520" cy="74448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2743200" y="3075120"/>
                  <a:ext cx="1380960" cy="684000"/>
                </a:xfrm>
                <a:custGeom>
                  <a:avLst/>
                  <a:gdLst/>
                  <a:ahLst/>
                  <a:rect l="l" t="t" r="r" b="b"/>
                  <a:pathLst>
                    <a:path w="870" h="431">
                      <a:moveTo>
                        <a:pt x="10" y="0"/>
                      </a:moveTo>
                      <a:lnTo>
                        <a:pt x="0" y="21"/>
                      </a:lnTo>
                      <a:lnTo>
                        <a:pt x="860" y="431"/>
                      </a:lnTo>
                      <a:lnTo>
                        <a:pt x="870" y="4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4076280" y="3665520"/>
                  <a:ext cx="190440" cy="154080"/>
                </a:xfrm>
                <a:custGeom>
                  <a:avLst/>
                  <a:gdLst/>
                  <a:ahLst/>
                  <a:rect l="l" t="t" r="r" b="b"/>
                  <a:pathLst>
                    <a:path w="120" h="97">
                      <a:moveTo>
                        <a:pt x="0" y="97"/>
                      </a:moveTo>
                      <a:lnTo>
                        <a:pt x="120" y="94"/>
                      </a:lnTo>
                      <a:lnTo>
                        <a:pt x="46" y="0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037040" y="3917880"/>
                <a:ext cx="229680" cy="220680"/>
                <a:chOff x="4037040" y="3917880"/>
                <a:chExt cx="229680" cy="22068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037040" y="4019400"/>
                  <a:ext cx="122040" cy="119160"/>
                </a:xfrm>
                <a:custGeom>
                  <a:avLst/>
                  <a:gdLst/>
                  <a:ahLst/>
                  <a:rect l="l" t="t" r="r" b="b"/>
                  <a:pathLst>
                    <a:path w="77" h="75">
                      <a:moveTo>
                        <a:pt x="0" y="58"/>
                      </a:moveTo>
                      <a:lnTo>
                        <a:pt x="16" y="75"/>
                      </a:lnTo>
                      <a:lnTo>
                        <a:pt x="77" y="17"/>
                      </a:lnTo>
                      <a:lnTo>
                        <a:pt x="61" y="0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086000" y="3917880"/>
                  <a:ext cx="180720" cy="179280"/>
                </a:xfrm>
                <a:custGeom>
                  <a:avLst/>
                  <a:gdLst/>
                  <a:ahLst/>
                  <a:rect l="l" t="t" r="r" b="b"/>
                  <a:pathLst>
                    <a:path w="114" h="113">
                      <a:moveTo>
                        <a:pt x="74" y="113"/>
                      </a:moveTo>
                      <a:lnTo>
                        <a:pt x="114" y="0"/>
                      </a:lnTo>
                      <a:lnTo>
                        <a:pt x="0" y="35"/>
                      </a:lnTo>
                      <a:lnTo>
                        <a:pt x="74" y="11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4483080" y="2889360"/>
                <a:ext cx="1170000" cy="822240"/>
                <a:chOff x="4483080" y="2889360"/>
                <a:chExt cx="1170000" cy="82224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4610160" y="2889360"/>
                  <a:ext cx="1042920" cy="744480"/>
                </a:xfrm>
                <a:custGeom>
                  <a:avLst/>
                  <a:gdLst/>
                  <a:ahLst/>
                  <a:rect l="l" t="t" r="r" b="b"/>
                  <a:pathLst>
                    <a:path w="657" h="469">
                      <a:moveTo>
                        <a:pt x="657" y="19"/>
                      </a:moveTo>
                      <a:lnTo>
                        <a:pt x="644" y="0"/>
                      </a:lnTo>
                      <a:lnTo>
                        <a:pt x="0" y="450"/>
                      </a:lnTo>
                      <a:lnTo>
                        <a:pt x="13" y="469"/>
                      </a:lnTo>
                      <a:lnTo>
                        <a:pt x="657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483080" y="3544920"/>
                  <a:ext cx="187560" cy="166680"/>
                </a:xfrm>
                <a:custGeom>
                  <a:avLst/>
                  <a:gdLst/>
                  <a:ahLst/>
                  <a:rect l="l" t="t" r="r" b="b"/>
                  <a:pathLst>
                    <a:path w="118" h="105">
                      <a:moveTo>
                        <a:pt x="57" y="0"/>
                      </a:moveTo>
                      <a:lnTo>
                        <a:pt x="0" y="105"/>
                      </a:lnTo>
                      <a:lnTo>
                        <a:pt x="118" y="88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4351320" y="3917880"/>
                <a:ext cx="406440" cy="1074960"/>
                <a:chOff x="4351320" y="3917880"/>
                <a:chExt cx="406440" cy="107496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4413240" y="4068720"/>
                  <a:ext cx="344520" cy="924120"/>
                </a:xfrm>
                <a:custGeom>
                  <a:avLst/>
                  <a:gdLst/>
                  <a:ahLst/>
                  <a:rect l="l" t="t" r="r" b="b"/>
                  <a:pathLst>
                    <a:path w="217" h="582">
                      <a:moveTo>
                        <a:pt x="195" y="582"/>
                      </a:moveTo>
                      <a:lnTo>
                        <a:pt x="217" y="574"/>
                      </a:lnTo>
                      <a:lnTo>
                        <a:pt x="22" y="0"/>
                      </a:lnTo>
                      <a:lnTo>
                        <a:pt x="0" y="8"/>
                      </a:lnTo>
                      <a:lnTo>
                        <a:pt x="195" y="58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351320" y="3917880"/>
                  <a:ext cx="160560" cy="187560"/>
                </a:xfrm>
                <a:custGeom>
                  <a:avLst/>
                  <a:gdLst/>
                  <a:ahLst/>
                  <a:rect l="l" t="t" r="r" b="b"/>
                  <a:pathLst>
                    <a:path w="101" h="118">
                      <a:moveTo>
                        <a:pt x="101" y="83"/>
                      </a:moveTo>
                      <a:lnTo>
                        <a:pt x="15" y="0"/>
                      </a:lnTo>
                      <a:lnTo>
                        <a:pt x="0" y="118"/>
                      </a:lnTo>
                      <a:lnTo>
                        <a:pt x="101" y="8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4483080" y="3511440"/>
                <a:ext cx="243000" cy="200160"/>
                <a:chOff x="4483080" y="3511440"/>
                <a:chExt cx="243000" cy="20016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4656240" y="3584520"/>
                  <a:ext cx="39600" cy="49320"/>
                </a:xfrm>
                <a:custGeom>
                  <a:avLst/>
                  <a:gdLst/>
                  <a:ahLst/>
                  <a:rect l="l" t="t" r="r" b="b"/>
                  <a:pathLst>
                    <a:path w="25" h="31">
                      <a:moveTo>
                        <a:pt x="25" y="28"/>
                      </a:move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21" y="31"/>
                      </a:lnTo>
                      <a:lnTo>
                        <a:pt x="25" y="2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483080" y="3511440"/>
                  <a:ext cx="243000" cy="200160"/>
                </a:xfrm>
                <a:custGeom>
                  <a:avLst/>
                  <a:gdLst/>
                  <a:ahLst/>
                  <a:rect l="l" t="t" r="r" b="b"/>
                  <a:pathLst>
                    <a:path w="153" h="126">
                      <a:moveTo>
                        <a:pt x="88" y="0"/>
                      </a:moveTo>
                      <a:lnTo>
                        <a:pt x="0" y="126"/>
                      </a:lnTo>
                      <a:lnTo>
                        <a:pt x="153" y="121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4483080" y="3913200"/>
                <a:ext cx="1095480" cy="546120"/>
                <a:chOff x="4483080" y="3913200"/>
                <a:chExt cx="1095480" cy="546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4664160" y="3986280"/>
                  <a:ext cx="914400" cy="473040"/>
                </a:xfrm>
                <a:custGeom>
                  <a:avLst/>
                  <a:gdLst/>
                  <a:ahLst/>
                  <a:rect l="l" t="t" r="r" b="b"/>
                  <a:pathLst>
                    <a:path w="576" h="298">
                      <a:moveTo>
                        <a:pt x="560" y="298"/>
                      </a:moveTo>
                      <a:lnTo>
                        <a:pt x="576" y="266"/>
                      </a:lnTo>
                      <a:lnTo>
                        <a:pt x="16" y="0"/>
                      </a:lnTo>
                      <a:lnTo>
                        <a:pt x="0" y="32"/>
                      </a:lnTo>
                      <a:lnTo>
                        <a:pt x="560" y="29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4483080" y="3913200"/>
                  <a:ext cx="243000" cy="195120"/>
                </a:xfrm>
                <a:custGeom>
                  <a:avLst/>
                  <a:gdLst/>
                  <a:ahLst/>
                  <a:rect l="l" t="t" r="r" b="b"/>
                  <a:pathLst>
                    <a:path w="153" h="123">
                      <a:moveTo>
                        <a:pt x="153" y="0"/>
                      </a:moveTo>
                      <a:lnTo>
                        <a:pt x="0" y="3"/>
                      </a:lnTo>
                      <a:lnTo>
                        <a:pt x="94" y="123"/>
                      </a:lnTo>
                      <a:lnTo>
                        <a:pt x="153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4022640" y="2567160"/>
                <a:ext cx="395280" cy="1144440"/>
                <a:chOff x="4022640" y="2567160"/>
                <a:chExt cx="395280" cy="114444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4022640" y="2567160"/>
                  <a:ext cx="318960" cy="946080"/>
                </a:xfrm>
                <a:custGeom>
                  <a:avLst/>
                  <a:gdLst/>
                  <a:ahLst/>
                  <a:rect l="l" t="t" r="r" b="b"/>
                  <a:pathLst>
                    <a:path w="201" h="596">
                      <a:moveTo>
                        <a:pt x="34" y="0"/>
                      </a:moveTo>
                      <a:lnTo>
                        <a:pt x="0" y="10"/>
                      </a:lnTo>
                      <a:lnTo>
                        <a:pt x="167" y="596"/>
                      </a:lnTo>
                      <a:lnTo>
                        <a:pt x="201" y="586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4209840" y="3473280"/>
                  <a:ext cx="208080" cy="238320"/>
                </a:xfrm>
                <a:custGeom>
                  <a:avLst/>
                  <a:gdLst/>
                  <a:ahLst/>
                  <a:rect l="l" t="t" r="r" b="b"/>
                  <a:pathLst>
                    <a:path w="131" h="150">
                      <a:moveTo>
                        <a:pt x="0" y="37"/>
                      </a:moveTo>
                      <a:lnTo>
                        <a:pt x="104" y="150"/>
                      </a:lnTo>
                      <a:lnTo>
                        <a:pt x="131" y="0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3813120" y="2246400"/>
                <a:ext cx="100080" cy="247680"/>
                <a:chOff x="3813120" y="2246400"/>
                <a:chExt cx="100080" cy="24768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3862080" y="2341440"/>
                  <a:ext cx="180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3813120" y="2246400"/>
                  <a:ext cx="100080" cy="98280"/>
                </a:xfrm>
                <a:custGeom>
                  <a:avLst/>
                  <a:gdLst/>
                  <a:ahLst/>
                  <a:rect l="l" t="t" r="r" b="b"/>
                  <a:pathLst>
                    <a:path w="63" h="62">
                      <a:moveTo>
                        <a:pt x="63" y="62"/>
                      </a:moveTo>
                      <a:lnTo>
                        <a:pt x="31" y="0"/>
                      </a:lnTo>
                      <a:lnTo>
                        <a:pt x="0" y="62"/>
                      </a:lnTo>
                      <a:lnTo>
                        <a:pt x="63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637240" y="4419720"/>
                <a:ext cx="100080" cy="245520"/>
                <a:chOff x="5637240" y="4419720"/>
                <a:chExt cx="100080" cy="24552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5686560" y="4514760"/>
                  <a:ext cx="1440" cy="15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637240" y="4419720"/>
                  <a:ext cx="100080" cy="98280"/>
                </a:xfrm>
                <a:custGeom>
                  <a:avLst/>
                  <a:gdLst/>
                  <a:ahLst/>
                  <a:rect l="l" t="t" r="r" b="b"/>
                  <a:pathLst>
                    <a:path w="63" h="62">
                      <a:moveTo>
                        <a:pt x="63" y="62"/>
                      </a:moveTo>
                      <a:lnTo>
                        <a:pt x="31" y="0"/>
                      </a:lnTo>
                      <a:lnTo>
                        <a:pt x="0" y="62"/>
                      </a:lnTo>
                      <a:lnTo>
                        <a:pt x="63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4646520" y="3333600"/>
                <a:ext cx="100080" cy="247680"/>
                <a:chOff x="4646520" y="3333600"/>
                <a:chExt cx="100080" cy="24768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4697280" y="3333600"/>
                  <a:ext cx="18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4646520" y="3482640"/>
                  <a:ext cx="100080" cy="98640"/>
                </a:xfrm>
                <a:custGeom>
                  <a:avLst/>
                  <a:gdLst/>
                  <a:ahLst/>
                  <a:rect l="l" t="t" r="r" b="b"/>
                  <a:pathLst>
                    <a:path w="63" h="62">
                      <a:moveTo>
                        <a:pt x="0" y="0"/>
                      </a:moveTo>
                      <a:lnTo>
                        <a:pt x="32" y="62"/>
                      </a:lnTo>
                      <a:lnTo>
                        <a:pt x="6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384280" y="4794120"/>
                <a:ext cx="99720" cy="247680"/>
                <a:chOff x="2384280" y="4794120"/>
                <a:chExt cx="99720" cy="24768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2435040" y="4794120"/>
                  <a:ext cx="144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384280" y="4943520"/>
                  <a:ext cx="99720" cy="98280"/>
                </a:xfrm>
                <a:custGeom>
                  <a:avLst/>
                  <a:gdLst/>
                  <a:ahLst/>
                  <a:rect l="l" t="t" r="r" b="b"/>
                  <a:pathLst>
                    <a:path w="63" h="62">
                      <a:moveTo>
                        <a:pt x="0" y="0"/>
                      </a:moveTo>
                      <a:lnTo>
                        <a:pt x="32" y="62"/>
                      </a:lnTo>
                      <a:lnTo>
                        <a:pt x="6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3" name=""/>
              <p:cNvSpPr/>
              <p:nvPr/>
            </p:nvSpPr>
            <p:spPr>
              <a:xfrm>
                <a:off x="2744640" y="2355840"/>
                <a:ext cx="998640" cy="541440"/>
              </a:xfrm>
              <a:custGeom>
                <a:avLst/>
                <a:gdLst/>
                <a:ahLst/>
                <a:rect l="l" t="t" r="r" b="b"/>
                <a:pathLst>
                  <a:path w="629" h="341">
                    <a:moveTo>
                      <a:pt x="0" y="325"/>
                    </a:moveTo>
                    <a:lnTo>
                      <a:pt x="8" y="341"/>
                    </a:lnTo>
                    <a:lnTo>
                      <a:pt x="629" y="16"/>
                    </a:lnTo>
                    <a:lnTo>
                      <a:pt x="621" y="0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56200" y="2355840"/>
                <a:ext cx="1412640" cy="336600"/>
              </a:xfrm>
              <a:custGeom>
                <a:avLst/>
                <a:gdLst/>
                <a:ahLst/>
                <a:rect l="l" t="t" r="r" b="b"/>
                <a:pathLst>
                  <a:path w="890" h="212">
                    <a:moveTo>
                      <a:pt x="4" y="0"/>
                    </a:moveTo>
                    <a:lnTo>
                      <a:pt x="0" y="17"/>
                    </a:lnTo>
                    <a:lnTo>
                      <a:pt x="886" y="212"/>
                    </a:lnTo>
                    <a:lnTo>
                      <a:pt x="890" y="19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747880" y="2975040"/>
                <a:ext cx="1846440" cy="439560"/>
              </a:xfrm>
              <a:custGeom>
                <a:avLst/>
                <a:gdLst/>
                <a:ahLst/>
                <a:rect l="l" t="t" r="r" b="b"/>
                <a:pathLst>
                  <a:path w="1163" h="277">
                    <a:moveTo>
                      <a:pt x="4" y="0"/>
                    </a:moveTo>
                    <a:lnTo>
                      <a:pt x="0" y="17"/>
                    </a:lnTo>
                    <a:lnTo>
                      <a:pt x="1159" y="277"/>
                    </a:lnTo>
                    <a:lnTo>
                      <a:pt x="1163" y="26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733480" y="4946760"/>
                <a:ext cx="1860840" cy="326880"/>
              </a:xfrm>
              <a:custGeom>
                <a:avLst/>
                <a:gdLst/>
                <a:ahLst/>
                <a:rect l="l" t="t" r="r" b="b"/>
                <a:pathLst>
                  <a:path w="1172" h="206">
                    <a:moveTo>
                      <a:pt x="3" y="0"/>
                    </a:moveTo>
                    <a:lnTo>
                      <a:pt x="0" y="17"/>
                    </a:lnTo>
                    <a:lnTo>
                      <a:pt x="1169" y="206"/>
                    </a:lnTo>
                    <a:lnTo>
                      <a:pt x="1172" y="18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018040" y="4732200"/>
                <a:ext cx="663480" cy="412920"/>
              </a:xfrm>
              <a:custGeom>
                <a:avLst/>
                <a:gdLst/>
                <a:ahLst/>
                <a:rect l="l" t="t" r="r" b="b"/>
                <a:pathLst>
                  <a:path w="418" h="260">
                    <a:moveTo>
                      <a:pt x="0" y="245"/>
                    </a:moveTo>
                    <a:lnTo>
                      <a:pt x="9" y="260"/>
                    </a:lnTo>
                    <a:lnTo>
                      <a:pt x="418" y="15"/>
                    </a:lnTo>
                    <a:lnTo>
                      <a:pt x="409" y="0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8" name=""/>
              <p:cNvGrpSpPr/>
              <p:nvPr/>
            </p:nvGrpSpPr>
            <p:grpSpPr>
              <a:xfrm>
                <a:off x="3875040" y="4205160"/>
                <a:ext cx="1673280" cy="357480"/>
                <a:chOff x="3875040" y="4205160"/>
                <a:chExt cx="1673280" cy="35748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3875040" y="4205160"/>
                  <a:ext cx="115920" cy="47880"/>
                </a:xfrm>
                <a:custGeom>
                  <a:avLst/>
                  <a:gdLst/>
                  <a:ahLst/>
                  <a:rect l="l" t="t" r="r" b="b"/>
                  <a:pathLst>
                    <a:path w="73" h="30">
                      <a:moveTo>
                        <a:pt x="3" y="0"/>
                      </a:moveTo>
                      <a:lnTo>
                        <a:pt x="0" y="17"/>
                      </a:lnTo>
                      <a:lnTo>
                        <a:pt x="70" y="30"/>
                      </a:lnTo>
                      <a:lnTo>
                        <a:pt x="73" y="1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070520" y="4243320"/>
                  <a:ext cx="117360" cy="49320"/>
                </a:xfrm>
                <a:custGeom>
                  <a:avLst/>
                  <a:gdLst/>
                  <a:ahLst/>
                  <a:rect l="l" t="t" r="r" b="b"/>
                  <a:pathLst>
                    <a:path w="74" h="31">
                      <a:moveTo>
                        <a:pt x="3" y="0"/>
                      </a:moveTo>
                      <a:lnTo>
                        <a:pt x="0" y="17"/>
                      </a:lnTo>
                      <a:lnTo>
                        <a:pt x="71" y="31"/>
                      </a:lnTo>
                      <a:lnTo>
                        <a:pt x="74" y="1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267440" y="4281480"/>
                  <a:ext cx="115920" cy="49320"/>
                </a:xfrm>
                <a:custGeom>
                  <a:avLst/>
                  <a:gdLst/>
                  <a:ahLst/>
                  <a:rect l="l" t="t" r="r" b="b"/>
                  <a:pathLst>
                    <a:path w="73" h="31">
                      <a:moveTo>
                        <a:pt x="3" y="0"/>
                      </a:moveTo>
                      <a:lnTo>
                        <a:pt x="0" y="17"/>
                      </a:lnTo>
                      <a:lnTo>
                        <a:pt x="70" y="31"/>
                      </a:lnTo>
                      <a:lnTo>
                        <a:pt x="73" y="1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462560" y="4321080"/>
                  <a:ext cx="117360" cy="49320"/>
                </a:xfrm>
                <a:custGeom>
                  <a:avLst/>
                  <a:gdLst/>
                  <a:ahLst/>
                  <a:rect l="l" t="t" r="r" b="b"/>
                  <a:pathLst>
                    <a:path w="74" h="31">
                      <a:moveTo>
                        <a:pt x="3" y="0"/>
                      </a:moveTo>
                      <a:lnTo>
                        <a:pt x="0" y="17"/>
                      </a:lnTo>
                      <a:lnTo>
                        <a:pt x="71" y="31"/>
                      </a:lnTo>
                      <a:lnTo>
                        <a:pt x="74" y="1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659480" y="4359240"/>
                  <a:ext cx="117360" cy="49320"/>
                </a:xfrm>
                <a:custGeom>
                  <a:avLst/>
                  <a:gdLst/>
                  <a:ahLst/>
                  <a:rect l="l" t="t" r="r" b="b"/>
                  <a:pathLst>
                    <a:path w="74" h="31">
                      <a:moveTo>
                        <a:pt x="3" y="0"/>
                      </a:moveTo>
                      <a:lnTo>
                        <a:pt x="0" y="17"/>
                      </a:lnTo>
                      <a:lnTo>
                        <a:pt x="71" y="31"/>
                      </a:lnTo>
                      <a:lnTo>
                        <a:pt x="74" y="1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4856400" y="4398840"/>
                  <a:ext cx="115920" cy="49320"/>
                </a:xfrm>
                <a:custGeom>
                  <a:avLst/>
                  <a:gdLst/>
                  <a:ahLst/>
                  <a:rect l="l" t="t" r="r" b="b"/>
                  <a:pathLst>
                    <a:path w="73" h="31">
                      <a:moveTo>
                        <a:pt x="3" y="0"/>
                      </a:moveTo>
                      <a:lnTo>
                        <a:pt x="0" y="17"/>
                      </a:lnTo>
                      <a:lnTo>
                        <a:pt x="70" y="31"/>
                      </a:lnTo>
                      <a:lnTo>
                        <a:pt x="73" y="1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5051520" y="4437000"/>
                  <a:ext cx="117360" cy="49320"/>
                </a:xfrm>
                <a:custGeom>
                  <a:avLst/>
                  <a:gdLst/>
                  <a:ahLst/>
                  <a:rect l="l" t="t" r="r" b="b"/>
                  <a:pathLst>
                    <a:path w="74" h="31">
                      <a:moveTo>
                        <a:pt x="3" y="0"/>
                      </a:moveTo>
                      <a:lnTo>
                        <a:pt x="0" y="17"/>
                      </a:lnTo>
                      <a:lnTo>
                        <a:pt x="71" y="31"/>
                      </a:lnTo>
                      <a:lnTo>
                        <a:pt x="74" y="1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5248440" y="4476600"/>
                  <a:ext cx="115920" cy="49320"/>
                </a:xfrm>
                <a:custGeom>
                  <a:avLst/>
                  <a:gdLst/>
                  <a:ahLst/>
                  <a:rect l="l" t="t" r="r" b="b"/>
                  <a:pathLst>
                    <a:path w="73" h="31">
                      <a:moveTo>
                        <a:pt x="3" y="0"/>
                      </a:moveTo>
                      <a:lnTo>
                        <a:pt x="0" y="17"/>
                      </a:lnTo>
                      <a:lnTo>
                        <a:pt x="70" y="31"/>
                      </a:lnTo>
                      <a:lnTo>
                        <a:pt x="73" y="1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5443560" y="4514760"/>
                  <a:ext cx="104760" cy="47880"/>
                </a:xfrm>
                <a:custGeom>
                  <a:avLst/>
                  <a:gdLst/>
                  <a:ahLst/>
                  <a:rect l="l" t="t" r="r" b="b"/>
                  <a:pathLst>
                    <a:path w="66" h="30">
                      <a:moveTo>
                        <a:pt x="3" y="0"/>
                      </a:moveTo>
                      <a:lnTo>
                        <a:pt x="0" y="17"/>
                      </a:lnTo>
                      <a:lnTo>
                        <a:pt x="63" y="30"/>
                      </a:lnTo>
                      <a:lnTo>
                        <a:pt x="66" y="1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8" name=""/>
              <p:cNvSpPr/>
              <p:nvPr/>
            </p:nvSpPr>
            <p:spPr>
              <a:xfrm>
                <a:off x="2459160" y="3314880"/>
                <a:ext cx="28440" cy="13968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94120" y="3711600"/>
                <a:ext cx="28800" cy="1398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769000" y="3090960"/>
                <a:ext cx="28440" cy="1239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1" name=""/>
              <p:cNvGrpSpPr/>
              <p:nvPr/>
            </p:nvGrpSpPr>
            <p:grpSpPr>
              <a:xfrm>
                <a:off x="3884400" y="2643120"/>
                <a:ext cx="28440" cy="1314360"/>
                <a:chOff x="3884400" y="2643120"/>
                <a:chExt cx="28440" cy="131436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884400" y="2643120"/>
                  <a:ext cx="28440" cy="1144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884400" y="2843280"/>
                  <a:ext cx="28440" cy="114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884400" y="3043080"/>
                  <a:ext cx="28440" cy="1144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884400" y="3243240"/>
                  <a:ext cx="28440" cy="1144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884400" y="3443400"/>
                  <a:ext cx="28440" cy="114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884400" y="3643200"/>
                  <a:ext cx="28440" cy="1144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884400" y="3843360"/>
                  <a:ext cx="28440" cy="114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9" name=""/>
              <p:cNvSpPr/>
              <p:nvPr/>
            </p:nvSpPr>
            <p:spPr>
              <a:xfrm flipV="1">
                <a:off x="1668600" y="1542960"/>
                <a:ext cx="1949400" cy="9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101680" y="22654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668600" y="2471760"/>
                <a:ext cx="1440" cy="28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668600" y="5362560"/>
                <a:ext cx="3463920" cy="61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618000" y="1542960"/>
                <a:ext cx="3463920" cy="61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668600" y="2471760"/>
                <a:ext cx="3463920" cy="61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V="1">
                <a:off x="5132520" y="2162160"/>
                <a:ext cx="1949400" cy="9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5132520" y="5052960"/>
                <a:ext cx="1949400" cy="9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"/>
              <p:cNvGrpSpPr/>
              <p:nvPr/>
            </p:nvGrpSpPr>
            <p:grpSpPr>
              <a:xfrm>
                <a:off x="1663560" y="4429080"/>
                <a:ext cx="1958760" cy="938160"/>
                <a:chOff x="1663560" y="4429080"/>
                <a:chExt cx="1958760" cy="93816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1663560" y="5342040"/>
                  <a:ext cx="44280" cy="2520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1723680" y="531324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" y="10"/>
                      </a:moveTo>
                      <a:lnTo>
                        <a:pt x="1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1784160" y="528480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" y="10"/>
                      </a:moveTo>
                      <a:lnTo>
                        <a:pt x="1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844280" y="5254560"/>
                  <a:ext cx="42840" cy="2700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2" y="11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1904760" y="5226120"/>
                  <a:ext cx="42840" cy="2700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2" y="11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1965240" y="5197320"/>
                  <a:ext cx="42840" cy="2700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2" y="11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2025360" y="5168880"/>
                  <a:ext cx="42840" cy="2700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2" y="11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2084040" y="5140440"/>
                  <a:ext cx="44640" cy="2700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3" y="11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4" y="17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2144520" y="511164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2204640" y="508320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2265120" y="5054760"/>
                  <a:ext cx="44280" cy="2520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2325600" y="502596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2385720" y="499752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2446200" y="496872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2506320" y="494028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2566800" y="4911840"/>
                  <a:ext cx="42840" cy="25200"/>
                </a:xfrm>
                <a:custGeom>
                  <a:avLst/>
                  <a:gdLst/>
                  <a:ahLst/>
                  <a:rect l="l" t="t" r="r" b="b"/>
                  <a:pathLst>
                    <a:path w="27" h="16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2626920" y="4883040"/>
                  <a:ext cx="42840" cy="25560"/>
                </a:xfrm>
                <a:custGeom>
                  <a:avLst/>
                  <a:gdLst/>
                  <a:ahLst/>
                  <a:rect l="l" t="t" r="r" b="b"/>
                  <a:pathLst>
                    <a:path w="27" h="16">
                      <a:moveTo>
                        <a:pt x="2" y="10"/>
                      </a:moveTo>
                      <a:lnTo>
                        <a:pt x="1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2687400" y="4854600"/>
                  <a:ext cx="42840" cy="25200"/>
                </a:xfrm>
                <a:custGeom>
                  <a:avLst/>
                  <a:gdLst/>
                  <a:ahLst/>
                  <a:rect l="l" t="t" r="r" b="b"/>
                  <a:pathLst>
                    <a:path w="27" h="16">
                      <a:moveTo>
                        <a:pt x="2" y="10"/>
                      </a:moveTo>
                      <a:lnTo>
                        <a:pt x="1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2747520" y="4826160"/>
                  <a:ext cx="43200" cy="25200"/>
                </a:xfrm>
                <a:custGeom>
                  <a:avLst/>
                  <a:gdLst/>
                  <a:ahLst/>
                  <a:rect l="l" t="t" r="r" b="b"/>
                  <a:pathLst>
                    <a:path w="27" h="16">
                      <a:moveTo>
                        <a:pt x="2" y="10"/>
                      </a:moveTo>
                      <a:lnTo>
                        <a:pt x="1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2806560" y="4795920"/>
                  <a:ext cx="44280" cy="2700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3" y="11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4" y="17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2866680" y="4767120"/>
                  <a:ext cx="44640" cy="2700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3" y="11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4" y="17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2927160" y="4738680"/>
                  <a:ext cx="44280" cy="2700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3" y="11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4" y="17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2987280" y="4710240"/>
                  <a:ext cx="44640" cy="2700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3" y="11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4" y="17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3047760" y="4681440"/>
                  <a:ext cx="44280" cy="2700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3" y="11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4" y="17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3108240" y="4653000"/>
                  <a:ext cx="44280" cy="2520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3168360" y="462456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228840" y="459576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3288960" y="4567320"/>
                  <a:ext cx="42840" cy="25200"/>
                </a:xfrm>
                <a:custGeom>
                  <a:avLst/>
                  <a:gdLst/>
                  <a:ahLst/>
                  <a:rect l="l" t="t" r="r" b="b"/>
                  <a:pathLst>
                    <a:path w="27" h="16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3349440" y="4538520"/>
                  <a:ext cx="42840" cy="25560"/>
                </a:xfrm>
                <a:custGeom>
                  <a:avLst/>
                  <a:gdLst/>
                  <a:ahLst/>
                  <a:rect l="l" t="t" r="r" b="b"/>
                  <a:pathLst>
                    <a:path w="27" h="16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409560" y="4510080"/>
                  <a:ext cx="42840" cy="25560"/>
                </a:xfrm>
                <a:custGeom>
                  <a:avLst/>
                  <a:gdLst/>
                  <a:ahLst/>
                  <a:rect l="l" t="t" r="r" b="b"/>
                  <a:pathLst>
                    <a:path w="27" h="16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470040" y="4481640"/>
                  <a:ext cx="42840" cy="25200"/>
                </a:xfrm>
                <a:custGeom>
                  <a:avLst/>
                  <a:gdLst/>
                  <a:ahLst/>
                  <a:rect l="l" t="t" r="r" b="b"/>
                  <a:pathLst>
                    <a:path w="27" h="16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3528720" y="445284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3589200" y="4429080"/>
                  <a:ext cx="33120" cy="20520"/>
                </a:xfrm>
                <a:custGeom>
                  <a:avLst/>
                  <a:gdLst/>
                  <a:ahLst/>
                  <a:rect l="l" t="t" r="r" b="b"/>
                  <a:pathLst>
                    <a:path w="21" h="13">
                      <a:moveTo>
                        <a:pt x="3" y="7"/>
                      </a:move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1" y="11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4" y="13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1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3612960" y="4429080"/>
                <a:ext cx="3460680" cy="625680"/>
                <a:chOff x="3612960" y="4429080"/>
                <a:chExt cx="3460680" cy="62568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3612960" y="442908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678120" y="4440240"/>
                  <a:ext cx="47520" cy="17640"/>
                </a:xfrm>
                <a:custGeom>
                  <a:avLst/>
                  <a:gdLst/>
                  <a:ahLst/>
                  <a:rect l="l" t="t" r="r" b="b"/>
                  <a:pathLst>
                    <a:path w="30" h="11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6" y="11"/>
                      </a:lnTo>
                      <a:lnTo>
                        <a:pt x="27" y="11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3744720" y="445284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3809880" y="446400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874680" y="4476600"/>
                  <a:ext cx="47880" cy="1620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30" y="5"/>
                      </a:lnTo>
                      <a:lnTo>
                        <a:pt x="29" y="4"/>
                      </a:lnTo>
                      <a:lnTo>
                        <a:pt x="28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3941640" y="4487760"/>
                  <a:ext cx="4572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4006440" y="4498920"/>
                  <a:ext cx="47880" cy="17640"/>
                </a:xfrm>
                <a:custGeom>
                  <a:avLst/>
                  <a:gdLst/>
                  <a:ahLst/>
                  <a:rect l="l" t="t" r="r" b="b"/>
                  <a:pathLst>
                    <a:path w="30" h="11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6" y="11"/>
                      </a:lnTo>
                      <a:lnTo>
                        <a:pt x="27" y="11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071600" y="4511520"/>
                  <a:ext cx="47520" cy="1620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30" y="5"/>
                      </a:lnTo>
                      <a:lnTo>
                        <a:pt x="29" y="4"/>
                      </a:lnTo>
                      <a:lnTo>
                        <a:pt x="28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4138200" y="452268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4203360" y="4535640"/>
                  <a:ext cx="4788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4268520" y="4546440"/>
                  <a:ext cx="47520" cy="1620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10"/>
                      </a:lnTo>
                      <a:lnTo>
                        <a:pt x="30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4335120" y="4557600"/>
                  <a:ext cx="46080" cy="17640"/>
                </a:xfrm>
                <a:custGeom>
                  <a:avLst/>
                  <a:gdLst/>
                  <a:ahLst/>
                  <a:rect l="l" t="t" r="r" b="b"/>
                  <a:pathLst>
                    <a:path w="29" h="11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1"/>
                      </a:lnTo>
                      <a:lnTo>
                        <a:pt x="27" y="11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4400280" y="457056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4465440" y="4581360"/>
                  <a:ext cx="47520" cy="1620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10"/>
                      </a:lnTo>
                      <a:lnTo>
                        <a:pt x="30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4532040" y="4592520"/>
                  <a:ext cx="46080" cy="17640"/>
                </a:xfrm>
                <a:custGeom>
                  <a:avLst/>
                  <a:gdLst/>
                  <a:ahLst/>
                  <a:rect l="l" t="t" r="r" b="b"/>
                  <a:pathLst>
                    <a:path w="29" h="11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1"/>
                      </a:lnTo>
                      <a:lnTo>
                        <a:pt x="27" y="11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4597200" y="460548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4663800" y="4616280"/>
                  <a:ext cx="46080" cy="1620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4728960" y="462924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4794120" y="464040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860720" y="4651200"/>
                  <a:ext cx="46080" cy="17640"/>
                </a:xfrm>
                <a:custGeom>
                  <a:avLst/>
                  <a:gdLst/>
                  <a:ahLst/>
                  <a:rect l="l" t="t" r="r" b="b"/>
                  <a:pathLst>
                    <a:path w="29" h="11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1"/>
                      </a:lnTo>
                      <a:lnTo>
                        <a:pt x="27" y="11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4925880" y="466416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4990680" y="4675320"/>
                  <a:ext cx="4788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057640" y="468792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122440" y="4699080"/>
                  <a:ext cx="4788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187600" y="4710240"/>
                  <a:ext cx="47880" cy="17280"/>
                </a:xfrm>
                <a:custGeom>
                  <a:avLst/>
                  <a:gdLst/>
                  <a:ahLst/>
                  <a:rect l="l" t="t" r="r" b="b"/>
                  <a:pathLst>
                    <a:path w="30" h="11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6" y="11"/>
                      </a:lnTo>
                      <a:lnTo>
                        <a:pt x="27" y="11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254200" y="472284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319360" y="4734000"/>
                  <a:ext cx="4788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384520" y="474660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451120" y="475776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5516280" y="4768920"/>
                  <a:ext cx="47520" cy="17280"/>
                </a:xfrm>
                <a:custGeom>
                  <a:avLst/>
                  <a:gdLst/>
                  <a:ahLst/>
                  <a:rect l="l" t="t" r="r" b="b"/>
                  <a:pathLst>
                    <a:path w="30" h="11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1"/>
                      </a:lnTo>
                      <a:lnTo>
                        <a:pt x="27" y="11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581440" y="478152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648040" y="479268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713200" y="4803840"/>
                  <a:ext cx="47520" cy="17280"/>
                </a:xfrm>
                <a:custGeom>
                  <a:avLst/>
                  <a:gdLst/>
                  <a:ahLst/>
                  <a:rect l="l" t="t" r="r" b="b"/>
                  <a:pathLst>
                    <a:path w="30" h="11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6" y="11"/>
                      </a:lnTo>
                      <a:lnTo>
                        <a:pt x="27" y="11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778360" y="481644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10"/>
                      </a:lnTo>
                      <a:lnTo>
                        <a:pt x="30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844960" y="482760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910120" y="484020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974920" y="4851360"/>
                  <a:ext cx="4788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10"/>
                      </a:lnTo>
                      <a:lnTo>
                        <a:pt x="30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041880" y="4862520"/>
                  <a:ext cx="46080" cy="17280"/>
                </a:xfrm>
                <a:custGeom>
                  <a:avLst/>
                  <a:gdLst/>
                  <a:ahLst/>
                  <a:rect l="l" t="t" r="r" b="b"/>
                  <a:pathLst>
                    <a:path w="29" h="11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1"/>
                      </a:lnTo>
                      <a:lnTo>
                        <a:pt x="27" y="11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106680" y="4875120"/>
                  <a:ext cx="4788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6171840" y="4886280"/>
                  <a:ext cx="4788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10"/>
                      </a:lnTo>
                      <a:lnTo>
                        <a:pt x="30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6238440" y="4898880"/>
                  <a:ext cx="46080" cy="1620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303600" y="4910040"/>
                  <a:ext cx="4788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6368760" y="4921200"/>
                  <a:ext cx="47520" cy="17640"/>
                </a:xfrm>
                <a:custGeom>
                  <a:avLst/>
                  <a:gdLst/>
                  <a:ahLst/>
                  <a:rect l="l" t="t" r="r" b="b"/>
                  <a:pathLst>
                    <a:path w="30" h="11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7" y="11"/>
                      </a:lnTo>
                      <a:lnTo>
                        <a:pt x="28" y="11"/>
                      </a:lnTo>
                      <a:lnTo>
                        <a:pt x="29" y="10"/>
                      </a:lnTo>
                      <a:lnTo>
                        <a:pt x="30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435360" y="4933800"/>
                  <a:ext cx="46080" cy="1620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6500520" y="494496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567120" y="495792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632280" y="4968720"/>
                  <a:ext cx="46080" cy="1620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697440" y="4979880"/>
                  <a:ext cx="47520" cy="17640"/>
                </a:xfrm>
                <a:custGeom>
                  <a:avLst/>
                  <a:gdLst/>
                  <a:ahLst/>
                  <a:rect l="l" t="t" r="r" b="b"/>
                  <a:pathLst>
                    <a:path w="30" h="11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6" y="11"/>
                      </a:lnTo>
                      <a:lnTo>
                        <a:pt x="27" y="11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764040" y="499284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829200" y="5003640"/>
                  <a:ext cx="47520" cy="1620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894360" y="5014800"/>
                  <a:ext cx="47520" cy="17640"/>
                </a:xfrm>
                <a:custGeom>
                  <a:avLst/>
                  <a:gdLst/>
                  <a:ahLst/>
                  <a:rect l="l" t="t" r="r" b="b"/>
                  <a:pathLst>
                    <a:path w="30" h="11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6" y="11"/>
                      </a:lnTo>
                      <a:lnTo>
                        <a:pt x="27" y="11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960960" y="502776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026120" y="5038560"/>
                  <a:ext cx="47520" cy="1620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"/>
              <p:cNvSpPr/>
              <p:nvPr/>
            </p:nvSpPr>
            <p:spPr>
              <a:xfrm>
                <a:off x="5132520" y="3090960"/>
                <a:ext cx="1440" cy="28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6" name=""/>
              <p:cNvGrpSpPr/>
              <p:nvPr/>
            </p:nvGrpSpPr>
            <p:grpSpPr>
              <a:xfrm>
                <a:off x="3612960" y="1538280"/>
                <a:ext cx="9360" cy="2900520"/>
                <a:chOff x="3612960" y="1538280"/>
                <a:chExt cx="9360" cy="290052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3612960" y="153828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4"/>
                      </a:move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612960" y="160488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612960" y="167148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612960" y="173844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612960" y="180504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612960" y="187164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612960" y="193824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612960" y="200484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612960" y="207180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612960" y="213840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612960" y="220500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612960" y="227160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612960" y="233856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612960" y="240516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612960" y="247176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612960" y="253836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3612960" y="260496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3612960" y="267192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612960" y="273852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3612960" y="280512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3612960" y="287172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3612960" y="293832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3612960" y="300528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3612960" y="307188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3612960" y="313848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3612960" y="320508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3612960" y="327168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3612960" y="333864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3612960" y="340524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3612960" y="347184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3612960" y="353844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3612960" y="360504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3612960" y="367200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612960" y="373860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3612960" y="380520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3612960" y="387180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3612960" y="393876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3612960" y="400536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3612960" y="407196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3612960" y="413856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3612960" y="420516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3612960" y="427212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3612960" y="433872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3612960" y="4405320"/>
                  <a:ext cx="9360" cy="33480"/>
                </a:xfrm>
                <a:custGeom>
                  <a:avLst/>
                  <a:gdLst/>
                  <a:ahLst/>
                  <a:rect l="l" t="t" r="r" b="b"/>
                  <a:pathLst>
                    <a:path w="6" h="21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20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4" y="20"/>
                      </a:lnTo>
                      <a:lnTo>
                        <a:pt x="5" y="19"/>
                      </a:lnTo>
                      <a:lnTo>
                        <a:pt x="6" y="19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"/>
              <p:cNvSpPr/>
              <p:nvPr/>
            </p:nvSpPr>
            <p:spPr>
              <a:xfrm>
                <a:off x="7081920" y="2162160"/>
                <a:ext cx="1440" cy="28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292560" y="1130400"/>
                <a:ext cx="758880" cy="7239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525120" y="1355760"/>
                <a:ext cx="256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10000"/>
                    </a:solidFill>
                    <a:latin typeface="Century"/>
                  </a:rPr>
                  <a:t>P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700520" y="2678040"/>
                <a:ext cx="758880" cy="7239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982760" y="2925720"/>
                <a:ext cx="256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10000"/>
                    </a:solidFill>
                    <a:latin typeface="Century"/>
                  </a:rPr>
                  <a:t>P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235160" y="5052960"/>
                <a:ext cx="758880" cy="7239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486800" y="5276880"/>
                <a:ext cx="256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10000"/>
                    </a:solidFill>
                    <a:latin typeface="Century"/>
                  </a:rPr>
                  <a:t>P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757920" y="4743360"/>
                <a:ext cx="758880" cy="7239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006680" y="4952880"/>
                <a:ext cx="256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10000"/>
                    </a:solidFill>
                    <a:latin typeface="Century"/>
                  </a:rPr>
                  <a:t>P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0" name=""/>
              <p:cNvGrpSpPr/>
              <p:nvPr/>
            </p:nvGrpSpPr>
            <p:grpSpPr>
              <a:xfrm>
                <a:off x="1338120" y="2157480"/>
                <a:ext cx="550800" cy="525240"/>
                <a:chOff x="1338120" y="2157480"/>
                <a:chExt cx="550800" cy="52524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1342800" y="2162160"/>
                  <a:ext cx="542880" cy="517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1569600" y="2157480"/>
                  <a:ext cx="47880" cy="12600"/>
                </a:xfrm>
                <a:custGeom>
                  <a:avLst/>
                  <a:gdLst/>
                  <a:ahLst/>
                  <a:rect l="l" t="t" r="r" b="b"/>
                  <a:pathLst>
                    <a:path w="30" h="8">
                      <a:moveTo>
                        <a:pt x="28" y="6"/>
                      </a:move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30" y="3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9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10" y="7"/>
                      </a:lnTo>
                      <a:lnTo>
                        <a:pt x="2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1506240" y="2165400"/>
                  <a:ext cx="44640" cy="20520"/>
                </a:xfrm>
                <a:custGeom>
                  <a:avLst/>
                  <a:gdLst/>
                  <a:ahLst/>
                  <a:rect l="l" t="t" r="r" b="b"/>
                  <a:pathLst>
                    <a:path w="28" h="13">
                      <a:moveTo>
                        <a:pt x="26" y="6"/>
                      </a:move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16" y="2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2" y="13"/>
                      </a:lnTo>
                      <a:lnTo>
                        <a:pt x="3" y="13"/>
                      </a:lnTo>
                      <a:lnTo>
                        <a:pt x="17" y="8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1447560" y="2189160"/>
                  <a:ext cx="41400" cy="28440"/>
                </a:xfrm>
                <a:custGeom>
                  <a:avLst/>
                  <a:gdLst/>
                  <a:ahLst/>
                  <a:rect l="l" t="t" r="r" b="b"/>
                  <a:pathLst>
                    <a:path w="26" h="18">
                      <a:moveTo>
                        <a:pt x="24" y="6"/>
                      </a:moveTo>
                      <a:lnTo>
                        <a:pt x="25" y="5"/>
                      </a:lnTo>
                      <a:lnTo>
                        <a:pt x="26" y="4"/>
                      </a:lnTo>
                      <a:lnTo>
                        <a:pt x="26" y="3"/>
                      </a:lnTo>
                      <a:lnTo>
                        <a:pt x="26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7" y="8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1" y="18"/>
                      </a:lnTo>
                      <a:lnTo>
                        <a:pt x="2" y="18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10" y="13"/>
                      </a:lnTo>
                      <a:lnTo>
                        <a:pt x="24" y="5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1398240" y="2225520"/>
                  <a:ext cx="36720" cy="3672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21" y="6"/>
                      </a:moveTo>
                      <a:lnTo>
                        <a:pt x="22" y="5"/>
                      </a:lnTo>
                      <a:lnTo>
                        <a:pt x="23" y="4"/>
                      </a:lnTo>
                      <a:lnTo>
                        <a:pt x="23" y="3"/>
                      </a:lnTo>
                      <a:lnTo>
                        <a:pt x="22" y="2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1"/>
                      </a:lnTo>
                      <a:lnTo>
                        <a:pt x="13" y="5"/>
                      </a:lnTo>
                      <a:lnTo>
                        <a:pt x="12" y="6"/>
                      </a:lnTo>
                      <a:lnTo>
                        <a:pt x="1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3" y="23"/>
                      </a:lnTo>
                      <a:lnTo>
                        <a:pt x="4" y="23"/>
                      </a:lnTo>
                      <a:lnTo>
                        <a:pt x="5" y="22"/>
                      </a:lnTo>
                      <a:lnTo>
                        <a:pt x="6" y="21"/>
                      </a:lnTo>
                      <a:lnTo>
                        <a:pt x="17" y="9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2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1361880" y="2276640"/>
                  <a:ext cx="2844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17" y="4"/>
                      </a:moveTo>
                      <a:lnTo>
                        <a:pt x="18" y="3"/>
                      </a:lnTo>
                      <a:lnTo>
                        <a:pt x="18" y="2"/>
                      </a:lnTo>
                      <a:lnTo>
                        <a:pt x="17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6" y="12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2" y="26"/>
                      </a:lnTo>
                      <a:lnTo>
                        <a:pt x="3" y="27"/>
                      </a:lnTo>
                      <a:lnTo>
                        <a:pt x="4" y="27"/>
                      </a:lnTo>
                      <a:lnTo>
                        <a:pt x="5" y="26"/>
                      </a:lnTo>
                      <a:lnTo>
                        <a:pt x="6" y="25"/>
                      </a:lnTo>
                      <a:lnTo>
                        <a:pt x="11" y="15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1341000" y="2335320"/>
                  <a:ext cx="19080" cy="47520"/>
                </a:xfrm>
                <a:custGeom>
                  <a:avLst/>
                  <a:gdLst/>
                  <a:ahLst/>
                  <a:rect l="l" t="t" r="r" b="b"/>
                  <a:pathLst>
                    <a:path w="12" h="30">
                      <a:moveTo>
                        <a:pt x="12" y="4"/>
                      </a:move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7" y="2"/>
                      </a:lnTo>
                      <a:lnTo>
                        <a:pt x="6" y="3"/>
                      </a:lnTo>
                      <a:lnTo>
                        <a:pt x="6" y="5"/>
                      </a:lnTo>
                      <a:lnTo>
                        <a:pt x="1" y="20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7" y="21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1338120" y="2400480"/>
                  <a:ext cx="11160" cy="47520"/>
                </a:xfrm>
                <a:custGeom>
                  <a:avLst/>
                  <a:gdLst/>
                  <a:ahLst/>
                  <a:rect l="l" t="t" r="r" b="b"/>
                  <a:pathLst>
                    <a:path w="7" h="30">
                      <a:moveTo>
                        <a:pt x="6" y="4"/>
                      </a:move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12"/>
                      </a:lnTo>
                      <a:lnTo>
                        <a:pt x="1" y="27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2" y="30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30"/>
                      </a:lnTo>
                      <a:lnTo>
                        <a:pt x="6" y="29"/>
                      </a:lnTo>
                      <a:lnTo>
                        <a:pt x="7" y="28"/>
                      </a:lnTo>
                      <a:lnTo>
                        <a:pt x="6" y="13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1344240" y="2467080"/>
                  <a:ext cx="20880" cy="46080"/>
                </a:xfrm>
                <a:custGeom>
                  <a:avLst/>
                  <a:gdLst/>
                  <a:ahLst/>
                  <a:rect l="l" t="t" r="r" b="b"/>
                  <a:pathLst>
                    <a:path w="13" h="29">
                      <a:moveTo>
                        <a:pt x="6" y="3"/>
                      </a:move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4" y="19"/>
                      </a:lnTo>
                      <a:lnTo>
                        <a:pt x="7" y="27"/>
                      </a:lnTo>
                      <a:lnTo>
                        <a:pt x="7" y="28"/>
                      </a:lnTo>
                      <a:lnTo>
                        <a:pt x="8" y="29"/>
                      </a:lnTo>
                      <a:lnTo>
                        <a:pt x="9" y="29"/>
                      </a:lnTo>
                      <a:lnTo>
                        <a:pt x="10" y="29"/>
                      </a:lnTo>
                      <a:lnTo>
                        <a:pt x="11" y="29"/>
                      </a:lnTo>
                      <a:lnTo>
                        <a:pt x="12" y="28"/>
                      </a:lnTo>
                      <a:lnTo>
                        <a:pt x="13" y="27"/>
                      </a:lnTo>
                      <a:lnTo>
                        <a:pt x="13" y="26"/>
                      </a:lnTo>
                      <a:lnTo>
                        <a:pt x="10" y="18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1366560" y="2529000"/>
                  <a:ext cx="2844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6" y="3"/>
                      </a:move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12" y="24"/>
                      </a:lnTo>
                      <a:lnTo>
                        <a:pt x="13" y="25"/>
                      </a:lnTo>
                      <a:lnTo>
                        <a:pt x="14" y="26"/>
                      </a:lnTo>
                      <a:lnTo>
                        <a:pt x="15" y="27"/>
                      </a:lnTo>
                      <a:lnTo>
                        <a:pt x="16" y="27"/>
                      </a:lnTo>
                      <a:lnTo>
                        <a:pt x="17" y="26"/>
                      </a:lnTo>
                      <a:lnTo>
                        <a:pt x="18" y="25"/>
                      </a:lnTo>
                      <a:lnTo>
                        <a:pt x="18" y="24"/>
                      </a:lnTo>
                      <a:lnTo>
                        <a:pt x="18" y="23"/>
                      </a:lnTo>
                      <a:lnTo>
                        <a:pt x="18" y="22"/>
                      </a:lnTo>
                      <a:lnTo>
                        <a:pt x="17" y="21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9" y="8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1404720" y="2584440"/>
                  <a:ext cx="36360" cy="3492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8" y="13"/>
                      </a:lnTo>
                      <a:lnTo>
                        <a:pt x="9" y="14"/>
                      </a:lnTo>
                      <a:lnTo>
                        <a:pt x="19" y="22"/>
                      </a:lnTo>
                      <a:lnTo>
                        <a:pt x="20" y="22"/>
                      </a:lnTo>
                      <a:lnTo>
                        <a:pt x="21" y="22"/>
                      </a:lnTo>
                      <a:lnTo>
                        <a:pt x="22" y="22"/>
                      </a:lnTo>
                      <a:lnTo>
                        <a:pt x="23" y="21"/>
                      </a:lnTo>
                      <a:lnTo>
                        <a:pt x="23" y="20"/>
                      </a:lnTo>
                      <a:lnTo>
                        <a:pt x="23" y="19"/>
                      </a:lnTo>
                      <a:lnTo>
                        <a:pt x="23" y="18"/>
                      </a:lnTo>
                      <a:lnTo>
                        <a:pt x="22" y="17"/>
                      </a:lnTo>
                      <a:lnTo>
                        <a:pt x="12" y="9"/>
                      </a:lnTo>
                      <a:lnTo>
                        <a:pt x="11" y="11"/>
                      </a:lnTo>
                      <a:lnTo>
                        <a:pt x="13" y="1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1454040" y="2627280"/>
                  <a:ext cx="42840" cy="28440"/>
                </a:xfrm>
                <a:custGeom>
                  <a:avLst/>
                  <a:gdLst/>
                  <a:ahLst/>
                  <a:rect l="l" t="t" r="r" b="b"/>
                  <a:pathLst>
                    <a:path w="27" h="18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7"/>
                      </a:lnTo>
                      <a:lnTo>
                        <a:pt x="17" y="15"/>
                      </a:lnTo>
                      <a:lnTo>
                        <a:pt x="18" y="15"/>
                      </a:lnTo>
                      <a:lnTo>
                        <a:pt x="24" y="18"/>
                      </a:lnTo>
                      <a:lnTo>
                        <a:pt x="25" y="18"/>
                      </a:lnTo>
                      <a:lnTo>
                        <a:pt x="26" y="17"/>
                      </a:lnTo>
                      <a:lnTo>
                        <a:pt x="27" y="16"/>
                      </a:lnTo>
                      <a:lnTo>
                        <a:pt x="27" y="15"/>
                      </a:lnTo>
                      <a:lnTo>
                        <a:pt x="27" y="14"/>
                      </a:lnTo>
                      <a:lnTo>
                        <a:pt x="27" y="13"/>
                      </a:lnTo>
                      <a:lnTo>
                        <a:pt x="26" y="12"/>
                      </a:lnTo>
                      <a:lnTo>
                        <a:pt x="25" y="12"/>
                      </a:lnTo>
                      <a:lnTo>
                        <a:pt x="19" y="9"/>
                      </a:lnTo>
                      <a:lnTo>
                        <a:pt x="19" y="12"/>
                      </a:lnTo>
                      <a:lnTo>
                        <a:pt x="20" y="10"/>
                      </a:lnTo>
                      <a:lnTo>
                        <a:pt x="6" y="2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1514160" y="2657520"/>
                  <a:ext cx="46080" cy="1908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11" y="9"/>
                      </a:lnTo>
                      <a:lnTo>
                        <a:pt x="26" y="12"/>
                      </a:lnTo>
                      <a:lnTo>
                        <a:pt x="27" y="12"/>
                      </a:lnTo>
                      <a:lnTo>
                        <a:pt x="28" y="12"/>
                      </a:lnTo>
                      <a:lnTo>
                        <a:pt x="29" y="11"/>
                      </a:lnTo>
                      <a:lnTo>
                        <a:pt x="29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8" y="7"/>
                      </a:lnTo>
                      <a:lnTo>
                        <a:pt x="27" y="6"/>
                      </a:lnTo>
                      <a:lnTo>
                        <a:pt x="12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1579320" y="2671920"/>
                  <a:ext cx="47520" cy="10800"/>
                </a:xfrm>
                <a:custGeom>
                  <a:avLst/>
                  <a:gdLst/>
                  <a:ahLst/>
                  <a:rect l="l" t="t" r="r" b="b"/>
                  <a:pathLst>
                    <a:path w="30" h="7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1" y="7"/>
                      </a:lnTo>
                      <a:lnTo>
                        <a:pt x="26" y="7"/>
                      </a:lnTo>
                      <a:lnTo>
                        <a:pt x="27" y="7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1"/>
                      </a:lnTo>
                      <a:lnTo>
                        <a:pt x="22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1645920" y="266400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2" y="4"/>
                      </a:move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14" y="9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3"/>
                      </a:lnTo>
                      <a:lnTo>
                        <a:pt x="29" y="2"/>
                      </a:lnTo>
                      <a:lnTo>
                        <a:pt x="29" y="1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13" y="3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1709640" y="263844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6" y="15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19" y="3"/>
                      </a:lnTo>
                      <a:lnTo>
                        <a:pt x="21" y="5"/>
                      </a:lnTo>
                      <a:lnTo>
                        <a:pt x="20" y="2"/>
                      </a:lnTo>
                      <a:lnTo>
                        <a:pt x="5" y="9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1768320" y="2598840"/>
                  <a:ext cx="39600" cy="331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" y="16"/>
                      </a:move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13" y="15"/>
                      </a:lnTo>
                      <a:lnTo>
                        <a:pt x="23" y="6"/>
                      </a:lnTo>
                      <a:lnTo>
                        <a:pt x="24" y="5"/>
                      </a:lnTo>
                      <a:lnTo>
                        <a:pt x="25" y="4"/>
                      </a:lnTo>
                      <a:lnTo>
                        <a:pt x="25" y="3"/>
                      </a:lnTo>
                      <a:lnTo>
                        <a:pt x="24" y="2"/>
                      </a:lnTo>
                      <a:lnTo>
                        <a:pt x="23" y="1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20" y="1"/>
                      </a:lnTo>
                      <a:lnTo>
                        <a:pt x="10" y="10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1817280" y="2548080"/>
                  <a:ext cx="33480" cy="3960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1" y="21"/>
                      </a:move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2" y="25"/>
                      </a:lnTo>
                      <a:lnTo>
                        <a:pt x="3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6" y="24"/>
                      </a:lnTo>
                      <a:lnTo>
                        <a:pt x="15" y="12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1" y="2"/>
                      </a:lnTo>
                      <a:lnTo>
                        <a:pt x="20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1"/>
                      </a:lnTo>
                      <a:lnTo>
                        <a:pt x="10" y="9"/>
                      </a:lnTo>
                      <a:lnTo>
                        <a:pt x="1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1854000" y="2487600"/>
                  <a:ext cx="23760" cy="44640"/>
                </a:xfrm>
                <a:custGeom>
                  <a:avLst/>
                  <a:gdLst/>
                  <a:ahLst/>
                  <a:rect l="l" t="t" r="r" b="b"/>
                  <a:pathLst>
                    <a:path w="15" h="28">
                      <a:moveTo>
                        <a:pt x="1" y="24"/>
                      </a:move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7"/>
                      </a:lnTo>
                      <a:lnTo>
                        <a:pt x="2" y="28"/>
                      </a:lnTo>
                      <a:lnTo>
                        <a:pt x="3" y="28"/>
                      </a:lnTo>
                      <a:lnTo>
                        <a:pt x="4" y="28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8" y="22"/>
                      </a:lnTo>
                      <a:lnTo>
                        <a:pt x="9" y="21"/>
                      </a:lnTo>
                      <a:lnTo>
                        <a:pt x="14" y="6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8" y="5"/>
                      </a:lnTo>
                      <a:lnTo>
                        <a:pt x="3" y="20"/>
                      </a:lnTo>
                      <a:lnTo>
                        <a:pt x="6" y="20"/>
                      </a:lnTo>
                      <a:lnTo>
                        <a:pt x="3" y="19"/>
                      </a:lnTo>
                      <a:lnTo>
                        <a:pt x="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1874520" y="2422440"/>
                  <a:ext cx="14400" cy="46080"/>
                </a:xfrm>
                <a:custGeom>
                  <a:avLst/>
                  <a:gdLst/>
                  <a:ahLst/>
                  <a:rect l="l" t="t" r="r" b="b"/>
                  <a:pathLst>
                    <a:path w="9" h="29">
                      <a:moveTo>
                        <a:pt x="0" y="26"/>
                      </a:move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29"/>
                      </a:lnTo>
                      <a:lnTo>
                        <a:pt x="4" y="29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8" y="15"/>
                      </a:lnTo>
                      <a:lnTo>
                        <a:pt x="8" y="14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2" y="15"/>
                      </a:lnTo>
                      <a:lnTo>
                        <a:pt x="5" y="15"/>
                      </a:lnTo>
                      <a:lnTo>
                        <a:pt x="2" y="1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1871280" y="2355840"/>
                  <a:ext cx="15840" cy="4752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4" y="27"/>
                      </a:moveTo>
                      <a:lnTo>
                        <a:pt x="5" y="28"/>
                      </a:lnTo>
                      <a:lnTo>
                        <a:pt x="6" y="29"/>
                      </a:lnTo>
                      <a:lnTo>
                        <a:pt x="7" y="30"/>
                      </a:lnTo>
                      <a:lnTo>
                        <a:pt x="8" y="30"/>
                      </a:lnTo>
                      <a:lnTo>
                        <a:pt x="9" y="29"/>
                      </a:lnTo>
                      <a:lnTo>
                        <a:pt x="10" y="28"/>
                      </a:lnTo>
                      <a:lnTo>
                        <a:pt x="10" y="27"/>
                      </a:lnTo>
                      <a:lnTo>
                        <a:pt x="10" y="26"/>
                      </a:lnTo>
                      <a:lnTo>
                        <a:pt x="10" y="23"/>
                      </a:lnTo>
                      <a:lnTo>
                        <a:pt x="8" y="7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8"/>
                      </a:lnTo>
                      <a:lnTo>
                        <a:pt x="4" y="24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1847520" y="2293920"/>
                  <a:ext cx="25560" cy="4464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0" y="25"/>
                      </a:moveTo>
                      <a:lnTo>
                        <a:pt x="10" y="26"/>
                      </a:lnTo>
                      <a:lnTo>
                        <a:pt x="11" y="27"/>
                      </a:lnTo>
                      <a:lnTo>
                        <a:pt x="12" y="28"/>
                      </a:lnTo>
                      <a:lnTo>
                        <a:pt x="13" y="28"/>
                      </a:lnTo>
                      <a:lnTo>
                        <a:pt x="14" y="27"/>
                      </a:lnTo>
                      <a:lnTo>
                        <a:pt x="15" y="26"/>
                      </a:lnTo>
                      <a:lnTo>
                        <a:pt x="16" y="25"/>
                      </a:lnTo>
                      <a:lnTo>
                        <a:pt x="16" y="24"/>
                      </a:lnTo>
                      <a:lnTo>
                        <a:pt x="13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7" y="18"/>
                      </a:lnTo>
                      <a:lnTo>
                        <a:pt x="10" y="16"/>
                      </a:lnTo>
                      <a:lnTo>
                        <a:pt x="7" y="17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1807920" y="2241720"/>
                  <a:ext cx="33480" cy="3780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6" y="22"/>
                      </a:moveTo>
                      <a:lnTo>
                        <a:pt x="17" y="23"/>
                      </a:lnTo>
                      <a:lnTo>
                        <a:pt x="18" y="24"/>
                      </a:lnTo>
                      <a:lnTo>
                        <a:pt x="19" y="24"/>
                      </a:lnTo>
                      <a:lnTo>
                        <a:pt x="20" y="23"/>
                      </a:lnTo>
                      <a:lnTo>
                        <a:pt x="21" y="22"/>
                      </a:lnTo>
                      <a:lnTo>
                        <a:pt x="21" y="21"/>
                      </a:lnTo>
                      <a:lnTo>
                        <a:pt x="21" y="20"/>
                      </a:lnTo>
                      <a:lnTo>
                        <a:pt x="21" y="19"/>
                      </a:lnTo>
                      <a:lnTo>
                        <a:pt x="12" y="8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7" y="11"/>
                      </a:lnTo>
                      <a:lnTo>
                        <a:pt x="1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1755360" y="2198520"/>
                  <a:ext cx="4140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21" y="20"/>
                      </a:moveTo>
                      <a:lnTo>
                        <a:pt x="22" y="20"/>
                      </a:lnTo>
                      <a:lnTo>
                        <a:pt x="23" y="20"/>
                      </a:lnTo>
                      <a:lnTo>
                        <a:pt x="24" y="20"/>
                      </a:lnTo>
                      <a:lnTo>
                        <a:pt x="25" y="19"/>
                      </a:lnTo>
                      <a:lnTo>
                        <a:pt x="26" y="18"/>
                      </a:lnTo>
                      <a:lnTo>
                        <a:pt x="26" y="17"/>
                      </a:lnTo>
                      <a:lnTo>
                        <a:pt x="25" y="16"/>
                      </a:lnTo>
                      <a:lnTo>
                        <a:pt x="24" y="15"/>
                      </a:lnTo>
                      <a:lnTo>
                        <a:pt x="21" y="12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4" y="7"/>
                      </a:lnTo>
                      <a:lnTo>
                        <a:pt x="18" y="17"/>
                      </a:lnTo>
                      <a:lnTo>
                        <a:pt x="2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1695240" y="2171880"/>
                  <a:ext cx="44280" cy="23760"/>
                </a:xfrm>
                <a:custGeom>
                  <a:avLst/>
                  <a:gdLst/>
                  <a:ahLst/>
                  <a:rect l="l" t="t" r="r" b="b"/>
                  <a:pathLst>
                    <a:path w="28" h="15">
                      <a:moveTo>
                        <a:pt x="25" y="15"/>
                      </a:moveTo>
                      <a:lnTo>
                        <a:pt x="26" y="15"/>
                      </a:lnTo>
                      <a:lnTo>
                        <a:pt x="27" y="14"/>
                      </a:lnTo>
                      <a:lnTo>
                        <a:pt x="28" y="13"/>
                      </a:lnTo>
                      <a:lnTo>
                        <a:pt x="28" y="12"/>
                      </a:lnTo>
                      <a:lnTo>
                        <a:pt x="28" y="11"/>
                      </a:lnTo>
                      <a:lnTo>
                        <a:pt x="28" y="10"/>
                      </a:lnTo>
                      <a:lnTo>
                        <a:pt x="27" y="9"/>
                      </a:lnTo>
                      <a:lnTo>
                        <a:pt x="26" y="9"/>
                      </a:lnTo>
                      <a:lnTo>
                        <a:pt x="15" y="4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14" y="10"/>
                      </a:lnTo>
                      <a:lnTo>
                        <a:pt x="2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1630080" y="2158920"/>
                  <a:ext cx="47520" cy="14400"/>
                </a:xfrm>
                <a:custGeom>
                  <a:avLst/>
                  <a:gdLst/>
                  <a:ahLst/>
                  <a:rect l="l" t="t" r="r" b="b"/>
                  <a:pathLst>
                    <a:path w="30" h="9">
                      <a:moveTo>
                        <a:pt x="26" y="9"/>
                      </a:move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3"/>
                      </a:lnTo>
                      <a:lnTo>
                        <a:pt x="24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23" y="8"/>
                      </a:lnTo>
                      <a:lnTo>
                        <a:pt x="2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7" name=""/>
              <p:cNvGrpSpPr/>
              <p:nvPr/>
            </p:nvGrpSpPr>
            <p:grpSpPr>
              <a:xfrm>
                <a:off x="6753240" y="1847880"/>
                <a:ext cx="550800" cy="525600"/>
                <a:chOff x="6753240" y="1847880"/>
                <a:chExt cx="550800" cy="52560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6757920" y="1852560"/>
                  <a:ext cx="543240" cy="517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6985080" y="1847880"/>
                  <a:ext cx="47520" cy="12600"/>
                </a:xfrm>
                <a:custGeom>
                  <a:avLst/>
                  <a:gdLst/>
                  <a:ahLst/>
                  <a:rect l="l" t="t" r="r" b="b"/>
                  <a:pathLst>
                    <a:path w="30" h="8">
                      <a:moveTo>
                        <a:pt x="28" y="6"/>
                      </a:move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30" y="3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9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10" y="7"/>
                      </a:lnTo>
                      <a:lnTo>
                        <a:pt x="2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6921720" y="1855800"/>
                  <a:ext cx="44280" cy="20520"/>
                </a:xfrm>
                <a:custGeom>
                  <a:avLst/>
                  <a:gdLst/>
                  <a:ahLst/>
                  <a:rect l="l" t="t" r="r" b="b"/>
                  <a:pathLst>
                    <a:path w="28" h="13">
                      <a:moveTo>
                        <a:pt x="26" y="6"/>
                      </a:move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16" y="2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2" y="13"/>
                      </a:lnTo>
                      <a:lnTo>
                        <a:pt x="3" y="13"/>
                      </a:lnTo>
                      <a:lnTo>
                        <a:pt x="17" y="8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6862680" y="1879560"/>
                  <a:ext cx="41400" cy="28440"/>
                </a:xfrm>
                <a:custGeom>
                  <a:avLst/>
                  <a:gdLst/>
                  <a:ahLst/>
                  <a:rect l="l" t="t" r="r" b="b"/>
                  <a:pathLst>
                    <a:path w="26" h="18">
                      <a:moveTo>
                        <a:pt x="24" y="6"/>
                      </a:moveTo>
                      <a:lnTo>
                        <a:pt x="25" y="5"/>
                      </a:lnTo>
                      <a:lnTo>
                        <a:pt x="26" y="4"/>
                      </a:lnTo>
                      <a:lnTo>
                        <a:pt x="26" y="3"/>
                      </a:lnTo>
                      <a:lnTo>
                        <a:pt x="26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7" y="8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1" y="18"/>
                      </a:lnTo>
                      <a:lnTo>
                        <a:pt x="2" y="18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10" y="13"/>
                      </a:lnTo>
                      <a:lnTo>
                        <a:pt x="24" y="5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6813720" y="191628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21" y="6"/>
                      </a:moveTo>
                      <a:lnTo>
                        <a:pt x="22" y="5"/>
                      </a:lnTo>
                      <a:lnTo>
                        <a:pt x="23" y="4"/>
                      </a:lnTo>
                      <a:lnTo>
                        <a:pt x="23" y="3"/>
                      </a:lnTo>
                      <a:lnTo>
                        <a:pt x="22" y="2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1"/>
                      </a:lnTo>
                      <a:lnTo>
                        <a:pt x="13" y="5"/>
                      </a:lnTo>
                      <a:lnTo>
                        <a:pt x="12" y="6"/>
                      </a:lnTo>
                      <a:lnTo>
                        <a:pt x="1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3" y="23"/>
                      </a:lnTo>
                      <a:lnTo>
                        <a:pt x="4" y="23"/>
                      </a:lnTo>
                      <a:lnTo>
                        <a:pt x="5" y="22"/>
                      </a:lnTo>
                      <a:lnTo>
                        <a:pt x="6" y="21"/>
                      </a:lnTo>
                      <a:lnTo>
                        <a:pt x="17" y="9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2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6777000" y="196704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17" y="4"/>
                      </a:moveTo>
                      <a:lnTo>
                        <a:pt x="18" y="3"/>
                      </a:lnTo>
                      <a:lnTo>
                        <a:pt x="18" y="2"/>
                      </a:lnTo>
                      <a:lnTo>
                        <a:pt x="17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6" y="12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2" y="26"/>
                      </a:lnTo>
                      <a:lnTo>
                        <a:pt x="3" y="27"/>
                      </a:lnTo>
                      <a:lnTo>
                        <a:pt x="4" y="27"/>
                      </a:lnTo>
                      <a:lnTo>
                        <a:pt x="5" y="26"/>
                      </a:lnTo>
                      <a:lnTo>
                        <a:pt x="6" y="25"/>
                      </a:lnTo>
                      <a:lnTo>
                        <a:pt x="11" y="15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6756480" y="2025720"/>
                  <a:ext cx="19080" cy="47520"/>
                </a:xfrm>
                <a:custGeom>
                  <a:avLst/>
                  <a:gdLst/>
                  <a:ahLst/>
                  <a:rect l="l" t="t" r="r" b="b"/>
                  <a:pathLst>
                    <a:path w="12" h="30">
                      <a:moveTo>
                        <a:pt x="12" y="4"/>
                      </a:move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7" y="2"/>
                      </a:lnTo>
                      <a:lnTo>
                        <a:pt x="6" y="3"/>
                      </a:lnTo>
                      <a:lnTo>
                        <a:pt x="6" y="5"/>
                      </a:lnTo>
                      <a:lnTo>
                        <a:pt x="1" y="20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7" y="21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6753240" y="2090880"/>
                  <a:ext cx="11160" cy="47520"/>
                </a:xfrm>
                <a:custGeom>
                  <a:avLst/>
                  <a:gdLst/>
                  <a:ahLst/>
                  <a:rect l="l" t="t" r="r" b="b"/>
                  <a:pathLst>
                    <a:path w="7" h="30">
                      <a:moveTo>
                        <a:pt x="6" y="4"/>
                      </a:move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12"/>
                      </a:lnTo>
                      <a:lnTo>
                        <a:pt x="1" y="27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2" y="30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30"/>
                      </a:lnTo>
                      <a:lnTo>
                        <a:pt x="6" y="29"/>
                      </a:lnTo>
                      <a:lnTo>
                        <a:pt x="7" y="28"/>
                      </a:lnTo>
                      <a:lnTo>
                        <a:pt x="6" y="13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6759720" y="2157480"/>
                  <a:ext cx="20520" cy="46080"/>
                </a:xfrm>
                <a:custGeom>
                  <a:avLst/>
                  <a:gdLst/>
                  <a:ahLst/>
                  <a:rect l="l" t="t" r="r" b="b"/>
                  <a:pathLst>
                    <a:path w="13" h="29">
                      <a:moveTo>
                        <a:pt x="6" y="3"/>
                      </a:move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4" y="19"/>
                      </a:lnTo>
                      <a:lnTo>
                        <a:pt x="7" y="27"/>
                      </a:lnTo>
                      <a:lnTo>
                        <a:pt x="7" y="28"/>
                      </a:lnTo>
                      <a:lnTo>
                        <a:pt x="8" y="29"/>
                      </a:lnTo>
                      <a:lnTo>
                        <a:pt x="9" y="29"/>
                      </a:lnTo>
                      <a:lnTo>
                        <a:pt x="10" y="29"/>
                      </a:lnTo>
                      <a:lnTo>
                        <a:pt x="11" y="29"/>
                      </a:lnTo>
                      <a:lnTo>
                        <a:pt x="12" y="28"/>
                      </a:lnTo>
                      <a:lnTo>
                        <a:pt x="13" y="27"/>
                      </a:lnTo>
                      <a:lnTo>
                        <a:pt x="13" y="26"/>
                      </a:lnTo>
                      <a:lnTo>
                        <a:pt x="10" y="18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6782040" y="2219400"/>
                  <a:ext cx="2844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6" y="3"/>
                      </a:move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12" y="24"/>
                      </a:lnTo>
                      <a:lnTo>
                        <a:pt x="13" y="25"/>
                      </a:lnTo>
                      <a:lnTo>
                        <a:pt x="14" y="26"/>
                      </a:lnTo>
                      <a:lnTo>
                        <a:pt x="15" y="27"/>
                      </a:lnTo>
                      <a:lnTo>
                        <a:pt x="16" y="27"/>
                      </a:lnTo>
                      <a:lnTo>
                        <a:pt x="17" y="26"/>
                      </a:lnTo>
                      <a:lnTo>
                        <a:pt x="18" y="25"/>
                      </a:lnTo>
                      <a:lnTo>
                        <a:pt x="18" y="24"/>
                      </a:lnTo>
                      <a:lnTo>
                        <a:pt x="18" y="23"/>
                      </a:lnTo>
                      <a:lnTo>
                        <a:pt x="18" y="22"/>
                      </a:lnTo>
                      <a:lnTo>
                        <a:pt x="17" y="21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9" y="8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6819840" y="2274840"/>
                  <a:ext cx="36720" cy="3492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8" y="13"/>
                      </a:lnTo>
                      <a:lnTo>
                        <a:pt x="9" y="14"/>
                      </a:lnTo>
                      <a:lnTo>
                        <a:pt x="19" y="22"/>
                      </a:lnTo>
                      <a:lnTo>
                        <a:pt x="20" y="22"/>
                      </a:lnTo>
                      <a:lnTo>
                        <a:pt x="21" y="22"/>
                      </a:lnTo>
                      <a:lnTo>
                        <a:pt x="22" y="22"/>
                      </a:lnTo>
                      <a:lnTo>
                        <a:pt x="23" y="21"/>
                      </a:lnTo>
                      <a:lnTo>
                        <a:pt x="23" y="20"/>
                      </a:lnTo>
                      <a:lnTo>
                        <a:pt x="23" y="19"/>
                      </a:lnTo>
                      <a:lnTo>
                        <a:pt x="23" y="18"/>
                      </a:lnTo>
                      <a:lnTo>
                        <a:pt x="22" y="17"/>
                      </a:lnTo>
                      <a:lnTo>
                        <a:pt x="12" y="9"/>
                      </a:lnTo>
                      <a:lnTo>
                        <a:pt x="11" y="11"/>
                      </a:lnTo>
                      <a:lnTo>
                        <a:pt x="13" y="1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6869160" y="2317680"/>
                  <a:ext cx="42840" cy="28800"/>
                </a:xfrm>
                <a:custGeom>
                  <a:avLst/>
                  <a:gdLst/>
                  <a:ahLst/>
                  <a:rect l="l" t="t" r="r" b="b"/>
                  <a:pathLst>
                    <a:path w="27" h="18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7"/>
                      </a:lnTo>
                      <a:lnTo>
                        <a:pt x="17" y="15"/>
                      </a:lnTo>
                      <a:lnTo>
                        <a:pt x="18" y="15"/>
                      </a:lnTo>
                      <a:lnTo>
                        <a:pt x="24" y="18"/>
                      </a:lnTo>
                      <a:lnTo>
                        <a:pt x="25" y="18"/>
                      </a:lnTo>
                      <a:lnTo>
                        <a:pt x="26" y="17"/>
                      </a:lnTo>
                      <a:lnTo>
                        <a:pt x="27" y="16"/>
                      </a:lnTo>
                      <a:lnTo>
                        <a:pt x="27" y="15"/>
                      </a:lnTo>
                      <a:lnTo>
                        <a:pt x="27" y="14"/>
                      </a:lnTo>
                      <a:lnTo>
                        <a:pt x="27" y="13"/>
                      </a:lnTo>
                      <a:lnTo>
                        <a:pt x="26" y="12"/>
                      </a:lnTo>
                      <a:lnTo>
                        <a:pt x="25" y="12"/>
                      </a:lnTo>
                      <a:lnTo>
                        <a:pt x="19" y="9"/>
                      </a:lnTo>
                      <a:lnTo>
                        <a:pt x="19" y="12"/>
                      </a:lnTo>
                      <a:lnTo>
                        <a:pt x="20" y="10"/>
                      </a:lnTo>
                      <a:lnTo>
                        <a:pt x="6" y="2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6929640" y="2347920"/>
                  <a:ext cx="46080" cy="1908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11" y="9"/>
                      </a:lnTo>
                      <a:lnTo>
                        <a:pt x="26" y="12"/>
                      </a:lnTo>
                      <a:lnTo>
                        <a:pt x="27" y="12"/>
                      </a:lnTo>
                      <a:lnTo>
                        <a:pt x="28" y="12"/>
                      </a:lnTo>
                      <a:lnTo>
                        <a:pt x="29" y="11"/>
                      </a:lnTo>
                      <a:lnTo>
                        <a:pt x="29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8" y="7"/>
                      </a:lnTo>
                      <a:lnTo>
                        <a:pt x="27" y="6"/>
                      </a:lnTo>
                      <a:lnTo>
                        <a:pt x="12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6994800" y="2362320"/>
                  <a:ext cx="47520" cy="11160"/>
                </a:xfrm>
                <a:custGeom>
                  <a:avLst/>
                  <a:gdLst/>
                  <a:ahLst/>
                  <a:rect l="l" t="t" r="r" b="b"/>
                  <a:pathLst>
                    <a:path w="30" h="7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1" y="7"/>
                      </a:lnTo>
                      <a:lnTo>
                        <a:pt x="26" y="7"/>
                      </a:lnTo>
                      <a:lnTo>
                        <a:pt x="27" y="7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1"/>
                      </a:lnTo>
                      <a:lnTo>
                        <a:pt x="22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7061400" y="235440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2" y="4"/>
                      </a:move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14" y="9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3"/>
                      </a:lnTo>
                      <a:lnTo>
                        <a:pt x="29" y="2"/>
                      </a:lnTo>
                      <a:lnTo>
                        <a:pt x="29" y="1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13" y="3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7124760" y="232884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6" y="15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19" y="3"/>
                      </a:lnTo>
                      <a:lnTo>
                        <a:pt x="21" y="5"/>
                      </a:lnTo>
                      <a:lnTo>
                        <a:pt x="20" y="2"/>
                      </a:lnTo>
                      <a:lnTo>
                        <a:pt x="5" y="9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7183440" y="2289240"/>
                  <a:ext cx="39960" cy="331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" y="16"/>
                      </a:move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13" y="15"/>
                      </a:lnTo>
                      <a:lnTo>
                        <a:pt x="23" y="6"/>
                      </a:lnTo>
                      <a:lnTo>
                        <a:pt x="24" y="5"/>
                      </a:lnTo>
                      <a:lnTo>
                        <a:pt x="25" y="4"/>
                      </a:lnTo>
                      <a:lnTo>
                        <a:pt x="25" y="3"/>
                      </a:lnTo>
                      <a:lnTo>
                        <a:pt x="24" y="2"/>
                      </a:lnTo>
                      <a:lnTo>
                        <a:pt x="23" y="1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20" y="1"/>
                      </a:lnTo>
                      <a:lnTo>
                        <a:pt x="10" y="10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7232760" y="2238480"/>
                  <a:ext cx="33480" cy="3960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1" y="21"/>
                      </a:move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2" y="25"/>
                      </a:lnTo>
                      <a:lnTo>
                        <a:pt x="3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6" y="24"/>
                      </a:lnTo>
                      <a:lnTo>
                        <a:pt x="15" y="12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1" y="2"/>
                      </a:lnTo>
                      <a:lnTo>
                        <a:pt x="20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1"/>
                      </a:lnTo>
                      <a:lnTo>
                        <a:pt x="10" y="9"/>
                      </a:lnTo>
                      <a:lnTo>
                        <a:pt x="1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7269120" y="2178000"/>
                  <a:ext cx="24120" cy="44640"/>
                </a:xfrm>
                <a:custGeom>
                  <a:avLst/>
                  <a:gdLst/>
                  <a:ahLst/>
                  <a:rect l="l" t="t" r="r" b="b"/>
                  <a:pathLst>
                    <a:path w="15" h="28">
                      <a:moveTo>
                        <a:pt x="1" y="24"/>
                      </a:move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7"/>
                      </a:lnTo>
                      <a:lnTo>
                        <a:pt x="2" y="28"/>
                      </a:lnTo>
                      <a:lnTo>
                        <a:pt x="3" y="28"/>
                      </a:lnTo>
                      <a:lnTo>
                        <a:pt x="4" y="28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8" y="22"/>
                      </a:lnTo>
                      <a:lnTo>
                        <a:pt x="9" y="21"/>
                      </a:lnTo>
                      <a:lnTo>
                        <a:pt x="14" y="6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8" y="5"/>
                      </a:lnTo>
                      <a:lnTo>
                        <a:pt x="3" y="20"/>
                      </a:lnTo>
                      <a:lnTo>
                        <a:pt x="6" y="20"/>
                      </a:lnTo>
                      <a:lnTo>
                        <a:pt x="3" y="19"/>
                      </a:lnTo>
                      <a:lnTo>
                        <a:pt x="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7290000" y="2112840"/>
                  <a:ext cx="14040" cy="46080"/>
                </a:xfrm>
                <a:custGeom>
                  <a:avLst/>
                  <a:gdLst/>
                  <a:ahLst/>
                  <a:rect l="l" t="t" r="r" b="b"/>
                  <a:pathLst>
                    <a:path w="9" h="29">
                      <a:moveTo>
                        <a:pt x="0" y="26"/>
                      </a:move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29"/>
                      </a:lnTo>
                      <a:lnTo>
                        <a:pt x="4" y="29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8" y="15"/>
                      </a:lnTo>
                      <a:lnTo>
                        <a:pt x="8" y="14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2" y="15"/>
                      </a:lnTo>
                      <a:lnTo>
                        <a:pt x="5" y="15"/>
                      </a:lnTo>
                      <a:lnTo>
                        <a:pt x="2" y="1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7286760" y="2046240"/>
                  <a:ext cx="15840" cy="4752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4" y="27"/>
                      </a:moveTo>
                      <a:lnTo>
                        <a:pt x="5" y="28"/>
                      </a:lnTo>
                      <a:lnTo>
                        <a:pt x="6" y="29"/>
                      </a:lnTo>
                      <a:lnTo>
                        <a:pt x="7" y="30"/>
                      </a:lnTo>
                      <a:lnTo>
                        <a:pt x="8" y="30"/>
                      </a:lnTo>
                      <a:lnTo>
                        <a:pt x="9" y="29"/>
                      </a:lnTo>
                      <a:lnTo>
                        <a:pt x="10" y="28"/>
                      </a:lnTo>
                      <a:lnTo>
                        <a:pt x="10" y="27"/>
                      </a:lnTo>
                      <a:lnTo>
                        <a:pt x="10" y="26"/>
                      </a:lnTo>
                      <a:lnTo>
                        <a:pt x="10" y="23"/>
                      </a:lnTo>
                      <a:lnTo>
                        <a:pt x="8" y="7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8"/>
                      </a:lnTo>
                      <a:lnTo>
                        <a:pt x="4" y="24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263000" y="1984320"/>
                  <a:ext cx="25200" cy="4464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0" y="25"/>
                      </a:moveTo>
                      <a:lnTo>
                        <a:pt x="10" y="26"/>
                      </a:lnTo>
                      <a:lnTo>
                        <a:pt x="11" y="27"/>
                      </a:lnTo>
                      <a:lnTo>
                        <a:pt x="12" y="28"/>
                      </a:lnTo>
                      <a:lnTo>
                        <a:pt x="13" y="28"/>
                      </a:lnTo>
                      <a:lnTo>
                        <a:pt x="14" y="27"/>
                      </a:lnTo>
                      <a:lnTo>
                        <a:pt x="15" y="26"/>
                      </a:lnTo>
                      <a:lnTo>
                        <a:pt x="16" y="25"/>
                      </a:lnTo>
                      <a:lnTo>
                        <a:pt x="16" y="24"/>
                      </a:lnTo>
                      <a:lnTo>
                        <a:pt x="13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7" y="18"/>
                      </a:lnTo>
                      <a:lnTo>
                        <a:pt x="10" y="16"/>
                      </a:lnTo>
                      <a:lnTo>
                        <a:pt x="7" y="17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7223400" y="1932120"/>
                  <a:ext cx="33120" cy="3780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6" y="22"/>
                      </a:moveTo>
                      <a:lnTo>
                        <a:pt x="17" y="23"/>
                      </a:lnTo>
                      <a:lnTo>
                        <a:pt x="18" y="24"/>
                      </a:lnTo>
                      <a:lnTo>
                        <a:pt x="19" y="24"/>
                      </a:lnTo>
                      <a:lnTo>
                        <a:pt x="20" y="23"/>
                      </a:lnTo>
                      <a:lnTo>
                        <a:pt x="21" y="22"/>
                      </a:lnTo>
                      <a:lnTo>
                        <a:pt x="21" y="21"/>
                      </a:lnTo>
                      <a:lnTo>
                        <a:pt x="21" y="20"/>
                      </a:lnTo>
                      <a:lnTo>
                        <a:pt x="21" y="19"/>
                      </a:lnTo>
                      <a:lnTo>
                        <a:pt x="12" y="8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7" y="11"/>
                      </a:lnTo>
                      <a:lnTo>
                        <a:pt x="1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7170840" y="1889280"/>
                  <a:ext cx="4140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21" y="20"/>
                      </a:moveTo>
                      <a:lnTo>
                        <a:pt x="22" y="20"/>
                      </a:lnTo>
                      <a:lnTo>
                        <a:pt x="23" y="20"/>
                      </a:lnTo>
                      <a:lnTo>
                        <a:pt x="24" y="20"/>
                      </a:lnTo>
                      <a:lnTo>
                        <a:pt x="25" y="19"/>
                      </a:lnTo>
                      <a:lnTo>
                        <a:pt x="26" y="18"/>
                      </a:lnTo>
                      <a:lnTo>
                        <a:pt x="26" y="17"/>
                      </a:lnTo>
                      <a:lnTo>
                        <a:pt x="25" y="16"/>
                      </a:lnTo>
                      <a:lnTo>
                        <a:pt x="24" y="15"/>
                      </a:lnTo>
                      <a:lnTo>
                        <a:pt x="21" y="12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4" y="7"/>
                      </a:lnTo>
                      <a:lnTo>
                        <a:pt x="18" y="17"/>
                      </a:lnTo>
                      <a:lnTo>
                        <a:pt x="2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7110360" y="1862280"/>
                  <a:ext cx="44640" cy="23760"/>
                </a:xfrm>
                <a:custGeom>
                  <a:avLst/>
                  <a:gdLst/>
                  <a:ahLst/>
                  <a:rect l="l" t="t" r="r" b="b"/>
                  <a:pathLst>
                    <a:path w="28" h="15">
                      <a:moveTo>
                        <a:pt x="25" y="15"/>
                      </a:moveTo>
                      <a:lnTo>
                        <a:pt x="26" y="15"/>
                      </a:lnTo>
                      <a:lnTo>
                        <a:pt x="27" y="14"/>
                      </a:lnTo>
                      <a:lnTo>
                        <a:pt x="28" y="13"/>
                      </a:lnTo>
                      <a:lnTo>
                        <a:pt x="28" y="12"/>
                      </a:lnTo>
                      <a:lnTo>
                        <a:pt x="28" y="11"/>
                      </a:lnTo>
                      <a:lnTo>
                        <a:pt x="28" y="10"/>
                      </a:lnTo>
                      <a:lnTo>
                        <a:pt x="27" y="9"/>
                      </a:lnTo>
                      <a:lnTo>
                        <a:pt x="26" y="9"/>
                      </a:lnTo>
                      <a:lnTo>
                        <a:pt x="15" y="4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14" y="10"/>
                      </a:lnTo>
                      <a:lnTo>
                        <a:pt x="2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7045560" y="1849320"/>
                  <a:ext cx="47520" cy="14400"/>
                </a:xfrm>
                <a:custGeom>
                  <a:avLst/>
                  <a:gdLst/>
                  <a:ahLst/>
                  <a:rect l="l" t="t" r="r" b="b"/>
                  <a:pathLst>
                    <a:path w="30" h="9">
                      <a:moveTo>
                        <a:pt x="26" y="9"/>
                      </a:move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3"/>
                      </a:lnTo>
                      <a:lnTo>
                        <a:pt x="24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23" y="8"/>
                      </a:lnTo>
                      <a:lnTo>
                        <a:pt x="2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3395520" y="4222800"/>
                <a:ext cx="550800" cy="525240"/>
                <a:chOff x="3395520" y="4222800"/>
                <a:chExt cx="550800" cy="52524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3400200" y="4227480"/>
                  <a:ext cx="542880" cy="517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3627000" y="4222800"/>
                  <a:ext cx="47880" cy="12600"/>
                </a:xfrm>
                <a:custGeom>
                  <a:avLst/>
                  <a:gdLst/>
                  <a:ahLst/>
                  <a:rect l="l" t="t" r="r" b="b"/>
                  <a:pathLst>
                    <a:path w="30" h="8">
                      <a:moveTo>
                        <a:pt x="28" y="6"/>
                      </a:move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30" y="3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9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10" y="7"/>
                      </a:lnTo>
                      <a:lnTo>
                        <a:pt x="2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3563640" y="4230720"/>
                  <a:ext cx="44640" cy="20520"/>
                </a:xfrm>
                <a:custGeom>
                  <a:avLst/>
                  <a:gdLst/>
                  <a:ahLst/>
                  <a:rect l="l" t="t" r="r" b="b"/>
                  <a:pathLst>
                    <a:path w="28" h="13">
                      <a:moveTo>
                        <a:pt x="26" y="6"/>
                      </a:move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16" y="2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2" y="13"/>
                      </a:lnTo>
                      <a:lnTo>
                        <a:pt x="3" y="13"/>
                      </a:lnTo>
                      <a:lnTo>
                        <a:pt x="17" y="8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3504960" y="4254480"/>
                  <a:ext cx="41400" cy="28440"/>
                </a:xfrm>
                <a:custGeom>
                  <a:avLst/>
                  <a:gdLst/>
                  <a:ahLst/>
                  <a:rect l="l" t="t" r="r" b="b"/>
                  <a:pathLst>
                    <a:path w="26" h="18">
                      <a:moveTo>
                        <a:pt x="24" y="6"/>
                      </a:moveTo>
                      <a:lnTo>
                        <a:pt x="25" y="5"/>
                      </a:lnTo>
                      <a:lnTo>
                        <a:pt x="26" y="4"/>
                      </a:lnTo>
                      <a:lnTo>
                        <a:pt x="26" y="3"/>
                      </a:lnTo>
                      <a:lnTo>
                        <a:pt x="26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7" y="8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1" y="18"/>
                      </a:lnTo>
                      <a:lnTo>
                        <a:pt x="2" y="18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10" y="13"/>
                      </a:lnTo>
                      <a:lnTo>
                        <a:pt x="24" y="5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3455640" y="4290840"/>
                  <a:ext cx="36720" cy="3672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21" y="6"/>
                      </a:moveTo>
                      <a:lnTo>
                        <a:pt x="22" y="5"/>
                      </a:lnTo>
                      <a:lnTo>
                        <a:pt x="23" y="4"/>
                      </a:lnTo>
                      <a:lnTo>
                        <a:pt x="23" y="3"/>
                      </a:lnTo>
                      <a:lnTo>
                        <a:pt x="22" y="2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1"/>
                      </a:lnTo>
                      <a:lnTo>
                        <a:pt x="13" y="5"/>
                      </a:lnTo>
                      <a:lnTo>
                        <a:pt x="12" y="6"/>
                      </a:lnTo>
                      <a:lnTo>
                        <a:pt x="1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3" y="23"/>
                      </a:lnTo>
                      <a:lnTo>
                        <a:pt x="4" y="23"/>
                      </a:lnTo>
                      <a:lnTo>
                        <a:pt x="5" y="22"/>
                      </a:lnTo>
                      <a:lnTo>
                        <a:pt x="6" y="21"/>
                      </a:lnTo>
                      <a:lnTo>
                        <a:pt x="17" y="9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2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3419280" y="4341960"/>
                  <a:ext cx="2844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17" y="4"/>
                      </a:moveTo>
                      <a:lnTo>
                        <a:pt x="18" y="3"/>
                      </a:lnTo>
                      <a:lnTo>
                        <a:pt x="18" y="2"/>
                      </a:lnTo>
                      <a:lnTo>
                        <a:pt x="17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6" y="12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2" y="26"/>
                      </a:lnTo>
                      <a:lnTo>
                        <a:pt x="3" y="27"/>
                      </a:lnTo>
                      <a:lnTo>
                        <a:pt x="4" y="27"/>
                      </a:lnTo>
                      <a:lnTo>
                        <a:pt x="5" y="26"/>
                      </a:lnTo>
                      <a:lnTo>
                        <a:pt x="6" y="25"/>
                      </a:lnTo>
                      <a:lnTo>
                        <a:pt x="11" y="15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3398400" y="4400640"/>
                  <a:ext cx="19080" cy="47520"/>
                </a:xfrm>
                <a:custGeom>
                  <a:avLst/>
                  <a:gdLst/>
                  <a:ahLst/>
                  <a:rect l="l" t="t" r="r" b="b"/>
                  <a:pathLst>
                    <a:path w="12" h="30">
                      <a:moveTo>
                        <a:pt x="12" y="4"/>
                      </a:move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7" y="2"/>
                      </a:lnTo>
                      <a:lnTo>
                        <a:pt x="6" y="3"/>
                      </a:lnTo>
                      <a:lnTo>
                        <a:pt x="6" y="5"/>
                      </a:lnTo>
                      <a:lnTo>
                        <a:pt x="1" y="20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7" y="21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3395520" y="4465800"/>
                  <a:ext cx="11160" cy="47520"/>
                </a:xfrm>
                <a:custGeom>
                  <a:avLst/>
                  <a:gdLst/>
                  <a:ahLst/>
                  <a:rect l="l" t="t" r="r" b="b"/>
                  <a:pathLst>
                    <a:path w="7" h="30">
                      <a:moveTo>
                        <a:pt x="6" y="4"/>
                      </a:move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12"/>
                      </a:lnTo>
                      <a:lnTo>
                        <a:pt x="1" y="27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2" y="30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30"/>
                      </a:lnTo>
                      <a:lnTo>
                        <a:pt x="6" y="29"/>
                      </a:lnTo>
                      <a:lnTo>
                        <a:pt x="7" y="28"/>
                      </a:lnTo>
                      <a:lnTo>
                        <a:pt x="6" y="13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3401640" y="4532400"/>
                  <a:ext cx="20880" cy="46080"/>
                </a:xfrm>
                <a:custGeom>
                  <a:avLst/>
                  <a:gdLst/>
                  <a:ahLst/>
                  <a:rect l="l" t="t" r="r" b="b"/>
                  <a:pathLst>
                    <a:path w="13" h="29">
                      <a:moveTo>
                        <a:pt x="6" y="3"/>
                      </a:move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4" y="19"/>
                      </a:lnTo>
                      <a:lnTo>
                        <a:pt x="7" y="27"/>
                      </a:lnTo>
                      <a:lnTo>
                        <a:pt x="7" y="28"/>
                      </a:lnTo>
                      <a:lnTo>
                        <a:pt x="8" y="29"/>
                      </a:lnTo>
                      <a:lnTo>
                        <a:pt x="9" y="29"/>
                      </a:lnTo>
                      <a:lnTo>
                        <a:pt x="10" y="29"/>
                      </a:lnTo>
                      <a:lnTo>
                        <a:pt x="11" y="29"/>
                      </a:lnTo>
                      <a:lnTo>
                        <a:pt x="12" y="28"/>
                      </a:lnTo>
                      <a:lnTo>
                        <a:pt x="13" y="27"/>
                      </a:lnTo>
                      <a:lnTo>
                        <a:pt x="13" y="26"/>
                      </a:lnTo>
                      <a:lnTo>
                        <a:pt x="10" y="18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3423960" y="4594320"/>
                  <a:ext cx="2844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6" y="3"/>
                      </a:move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12" y="24"/>
                      </a:lnTo>
                      <a:lnTo>
                        <a:pt x="13" y="25"/>
                      </a:lnTo>
                      <a:lnTo>
                        <a:pt x="14" y="26"/>
                      </a:lnTo>
                      <a:lnTo>
                        <a:pt x="15" y="27"/>
                      </a:lnTo>
                      <a:lnTo>
                        <a:pt x="16" y="27"/>
                      </a:lnTo>
                      <a:lnTo>
                        <a:pt x="17" y="26"/>
                      </a:lnTo>
                      <a:lnTo>
                        <a:pt x="18" y="25"/>
                      </a:lnTo>
                      <a:lnTo>
                        <a:pt x="18" y="24"/>
                      </a:lnTo>
                      <a:lnTo>
                        <a:pt x="18" y="23"/>
                      </a:lnTo>
                      <a:lnTo>
                        <a:pt x="18" y="22"/>
                      </a:lnTo>
                      <a:lnTo>
                        <a:pt x="17" y="21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9" y="8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3462120" y="4649760"/>
                  <a:ext cx="36360" cy="3492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8" y="13"/>
                      </a:lnTo>
                      <a:lnTo>
                        <a:pt x="9" y="14"/>
                      </a:lnTo>
                      <a:lnTo>
                        <a:pt x="19" y="22"/>
                      </a:lnTo>
                      <a:lnTo>
                        <a:pt x="20" y="22"/>
                      </a:lnTo>
                      <a:lnTo>
                        <a:pt x="21" y="22"/>
                      </a:lnTo>
                      <a:lnTo>
                        <a:pt x="22" y="22"/>
                      </a:lnTo>
                      <a:lnTo>
                        <a:pt x="23" y="21"/>
                      </a:lnTo>
                      <a:lnTo>
                        <a:pt x="23" y="20"/>
                      </a:lnTo>
                      <a:lnTo>
                        <a:pt x="23" y="19"/>
                      </a:lnTo>
                      <a:lnTo>
                        <a:pt x="23" y="18"/>
                      </a:lnTo>
                      <a:lnTo>
                        <a:pt x="22" y="17"/>
                      </a:lnTo>
                      <a:lnTo>
                        <a:pt x="12" y="9"/>
                      </a:lnTo>
                      <a:lnTo>
                        <a:pt x="11" y="11"/>
                      </a:lnTo>
                      <a:lnTo>
                        <a:pt x="13" y="1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3511440" y="4692600"/>
                  <a:ext cx="42840" cy="28800"/>
                </a:xfrm>
                <a:custGeom>
                  <a:avLst/>
                  <a:gdLst/>
                  <a:ahLst/>
                  <a:rect l="l" t="t" r="r" b="b"/>
                  <a:pathLst>
                    <a:path w="27" h="18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7"/>
                      </a:lnTo>
                      <a:lnTo>
                        <a:pt x="17" y="15"/>
                      </a:lnTo>
                      <a:lnTo>
                        <a:pt x="18" y="15"/>
                      </a:lnTo>
                      <a:lnTo>
                        <a:pt x="24" y="18"/>
                      </a:lnTo>
                      <a:lnTo>
                        <a:pt x="25" y="18"/>
                      </a:lnTo>
                      <a:lnTo>
                        <a:pt x="26" y="17"/>
                      </a:lnTo>
                      <a:lnTo>
                        <a:pt x="27" y="16"/>
                      </a:lnTo>
                      <a:lnTo>
                        <a:pt x="27" y="15"/>
                      </a:lnTo>
                      <a:lnTo>
                        <a:pt x="27" y="14"/>
                      </a:lnTo>
                      <a:lnTo>
                        <a:pt x="27" y="13"/>
                      </a:lnTo>
                      <a:lnTo>
                        <a:pt x="26" y="12"/>
                      </a:lnTo>
                      <a:lnTo>
                        <a:pt x="25" y="12"/>
                      </a:lnTo>
                      <a:lnTo>
                        <a:pt x="19" y="9"/>
                      </a:lnTo>
                      <a:lnTo>
                        <a:pt x="19" y="12"/>
                      </a:lnTo>
                      <a:lnTo>
                        <a:pt x="20" y="10"/>
                      </a:lnTo>
                      <a:lnTo>
                        <a:pt x="6" y="2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3571560" y="4722840"/>
                  <a:ext cx="46080" cy="1908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11" y="9"/>
                      </a:lnTo>
                      <a:lnTo>
                        <a:pt x="26" y="12"/>
                      </a:lnTo>
                      <a:lnTo>
                        <a:pt x="27" y="12"/>
                      </a:lnTo>
                      <a:lnTo>
                        <a:pt x="28" y="12"/>
                      </a:lnTo>
                      <a:lnTo>
                        <a:pt x="29" y="11"/>
                      </a:lnTo>
                      <a:lnTo>
                        <a:pt x="29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8" y="7"/>
                      </a:lnTo>
                      <a:lnTo>
                        <a:pt x="27" y="6"/>
                      </a:lnTo>
                      <a:lnTo>
                        <a:pt x="12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3636720" y="4737240"/>
                  <a:ext cx="47520" cy="10800"/>
                </a:xfrm>
                <a:custGeom>
                  <a:avLst/>
                  <a:gdLst/>
                  <a:ahLst/>
                  <a:rect l="l" t="t" r="r" b="b"/>
                  <a:pathLst>
                    <a:path w="30" h="7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1" y="7"/>
                      </a:lnTo>
                      <a:lnTo>
                        <a:pt x="26" y="7"/>
                      </a:lnTo>
                      <a:lnTo>
                        <a:pt x="27" y="7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1"/>
                      </a:lnTo>
                      <a:lnTo>
                        <a:pt x="22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3703320" y="472932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2" y="4"/>
                      </a:move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14" y="9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3"/>
                      </a:lnTo>
                      <a:lnTo>
                        <a:pt x="29" y="2"/>
                      </a:lnTo>
                      <a:lnTo>
                        <a:pt x="29" y="1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13" y="3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767040" y="470376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6" y="15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19" y="3"/>
                      </a:lnTo>
                      <a:lnTo>
                        <a:pt x="21" y="5"/>
                      </a:lnTo>
                      <a:lnTo>
                        <a:pt x="20" y="2"/>
                      </a:lnTo>
                      <a:lnTo>
                        <a:pt x="5" y="9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825720" y="4664160"/>
                  <a:ext cx="39600" cy="331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" y="16"/>
                      </a:move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13" y="15"/>
                      </a:lnTo>
                      <a:lnTo>
                        <a:pt x="23" y="6"/>
                      </a:lnTo>
                      <a:lnTo>
                        <a:pt x="24" y="5"/>
                      </a:lnTo>
                      <a:lnTo>
                        <a:pt x="25" y="4"/>
                      </a:lnTo>
                      <a:lnTo>
                        <a:pt x="25" y="3"/>
                      </a:lnTo>
                      <a:lnTo>
                        <a:pt x="24" y="2"/>
                      </a:lnTo>
                      <a:lnTo>
                        <a:pt x="23" y="1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20" y="1"/>
                      </a:lnTo>
                      <a:lnTo>
                        <a:pt x="10" y="10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3874680" y="4613400"/>
                  <a:ext cx="33480" cy="3960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1" y="21"/>
                      </a:move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2" y="25"/>
                      </a:lnTo>
                      <a:lnTo>
                        <a:pt x="3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6" y="24"/>
                      </a:lnTo>
                      <a:lnTo>
                        <a:pt x="15" y="12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1" y="2"/>
                      </a:lnTo>
                      <a:lnTo>
                        <a:pt x="20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1"/>
                      </a:lnTo>
                      <a:lnTo>
                        <a:pt x="10" y="9"/>
                      </a:lnTo>
                      <a:lnTo>
                        <a:pt x="1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911400" y="4552920"/>
                  <a:ext cx="23760" cy="44640"/>
                </a:xfrm>
                <a:custGeom>
                  <a:avLst/>
                  <a:gdLst/>
                  <a:ahLst/>
                  <a:rect l="l" t="t" r="r" b="b"/>
                  <a:pathLst>
                    <a:path w="15" h="28">
                      <a:moveTo>
                        <a:pt x="1" y="24"/>
                      </a:move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7"/>
                      </a:lnTo>
                      <a:lnTo>
                        <a:pt x="2" y="28"/>
                      </a:lnTo>
                      <a:lnTo>
                        <a:pt x="3" y="28"/>
                      </a:lnTo>
                      <a:lnTo>
                        <a:pt x="4" y="28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8" y="22"/>
                      </a:lnTo>
                      <a:lnTo>
                        <a:pt x="9" y="21"/>
                      </a:lnTo>
                      <a:lnTo>
                        <a:pt x="14" y="6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8" y="5"/>
                      </a:lnTo>
                      <a:lnTo>
                        <a:pt x="3" y="20"/>
                      </a:lnTo>
                      <a:lnTo>
                        <a:pt x="6" y="20"/>
                      </a:lnTo>
                      <a:lnTo>
                        <a:pt x="3" y="19"/>
                      </a:lnTo>
                      <a:lnTo>
                        <a:pt x="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3931920" y="4487760"/>
                  <a:ext cx="14400" cy="46080"/>
                </a:xfrm>
                <a:custGeom>
                  <a:avLst/>
                  <a:gdLst/>
                  <a:ahLst/>
                  <a:rect l="l" t="t" r="r" b="b"/>
                  <a:pathLst>
                    <a:path w="9" h="29">
                      <a:moveTo>
                        <a:pt x="0" y="26"/>
                      </a:move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29"/>
                      </a:lnTo>
                      <a:lnTo>
                        <a:pt x="4" y="29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8" y="15"/>
                      </a:lnTo>
                      <a:lnTo>
                        <a:pt x="8" y="14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2" y="15"/>
                      </a:lnTo>
                      <a:lnTo>
                        <a:pt x="5" y="15"/>
                      </a:lnTo>
                      <a:lnTo>
                        <a:pt x="2" y="1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3928680" y="4421160"/>
                  <a:ext cx="15840" cy="4752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4" y="27"/>
                      </a:moveTo>
                      <a:lnTo>
                        <a:pt x="5" y="28"/>
                      </a:lnTo>
                      <a:lnTo>
                        <a:pt x="6" y="29"/>
                      </a:lnTo>
                      <a:lnTo>
                        <a:pt x="7" y="30"/>
                      </a:lnTo>
                      <a:lnTo>
                        <a:pt x="8" y="30"/>
                      </a:lnTo>
                      <a:lnTo>
                        <a:pt x="9" y="29"/>
                      </a:lnTo>
                      <a:lnTo>
                        <a:pt x="10" y="28"/>
                      </a:lnTo>
                      <a:lnTo>
                        <a:pt x="10" y="27"/>
                      </a:lnTo>
                      <a:lnTo>
                        <a:pt x="10" y="26"/>
                      </a:lnTo>
                      <a:lnTo>
                        <a:pt x="10" y="23"/>
                      </a:lnTo>
                      <a:lnTo>
                        <a:pt x="8" y="7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8"/>
                      </a:lnTo>
                      <a:lnTo>
                        <a:pt x="4" y="24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3904920" y="4359240"/>
                  <a:ext cx="25560" cy="4464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0" y="25"/>
                      </a:moveTo>
                      <a:lnTo>
                        <a:pt x="10" y="26"/>
                      </a:lnTo>
                      <a:lnTo>
                        <a:pt x="11" y="27"/>
                      </a:lnTo>
                      <a:lnTo>
                        <a:pt x="12" y="28"/>
                      </a:lnTo>
                      <a:lnTo>
                        <a:pt x="13" y="28"/>
                      </a:lnTo>
                      <a:lnTo>
                        <a:pt x="14" y="27"/>
                      </a:lnTo>
                      <a:lnTo>
                        <a:pt x="15" y="26"/>
                      </a:lnTo>
                      <a:lnTo>
                        <a:pt x="16" y="25"/>
                      </a:lnTo>
                      <a:lnTo>
                        <a:pt x="16" y="24"/>
                      </a:lnTo>
                      <a:lnTo>
                        <a:pt x="13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7" y="18"/>
                      </a:lnTo>
                      <a:lnTo>
                        <a:pt x="10" y="16"/>
                      </a:lnTo>
                      <a:lnTo>
                        <a:pt x="7" y="17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3865320" y="4307040"/>
                  <a:ext cx="33480" cy="3780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6" y="22"/>
                      </a:moveTo>
                      <a:lnTo>
                        <a:pt x="17" y="23"/>
                      </a:lnTo>
                      <a:lnTo>
                        <a:pt x="18" y="24"/>
                      </a:lnTo>
                      <a:lnTo>
                        <a:pt x="19" y="24"/>
                      </a:lnTo>
                      <a:lnTo>
                        <a:pt x="20" y="23"/>
                      </a:lnTo>
                      <a:lnTo>
                        <a:pt x="21" y="22"/>
                      </a:lnTo>
                      <a:lnTo>
                        <a:pt x="21" y="21"/>
                      </a:lnTo>
                      <a:lnTo>
                        <a:pt x="21" y="20"/>
                      </a:lnTo>
                      <a:lnTo>
                        <a:pt x="21" y="19"/>
                      </a:lnTo>
                      <a:lnTo>
                        <a:pt x="12" y="8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7" y="11"/>
                      </a:lnTo>
                      <a:lnTo>
                        <a:pt x="1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3812760" y="4264200"/>
                  <a:ext cx="4140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21" y="20"/>
                      </a:moveTo>
                      <a:lnTo>
                        <a:pt x="22" y="20"/>
                      </a:lnTo>
                      <a:lnTo>
                        <a:pt x="23" y="20"/>
                      </a:lnTo>
                      <a:lnTo>
                        <a:pt x="24" y="20"/>
                      </a:lnTo>
                      <a:lnTo>
                        <a:pt x="25" y="19"/>
                      </a:lnTo>
                      <a:lnTo>
                        <a:pt x="26" y="18"/>
                      </a:lnTo>
                      <a:lnTo>
                        <a:pt x="26" y="17"/>
                      </a:lnTo>
                      <a:lnTo>
                        <a:pt x="25" y="16"/>
                      </a:lnTo>
                      <a:lnTo>
                        <a:pt x="24" y="15"/>
                      </a:lnTo>
                      <a:lnTo>
                        <a:pt x="21" y="12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4" y="7"/>
                      </a:lnTo>
                      <a:lnTo>
                        <a:pt x="18" y="17"/>
                      </a:lnTo>
                      <a:lnTo>
                        <a:pt x="2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3752640" y="4237200"/>
                  <a:ext cx="44280" cy="23760"/>
                </a:xfrm>
                <a:custGeom>
                  <a:avLst/>
                  <a:gdLst/>
                  <a:ahLst/>
                  <a:rect l="l" t="t" r="r" b="b"/>
                  <a:pathLst>
                    <a:path w="28" h="15">
                      <a:moveTo>
                        <a:pt x="25" y="15"/>
                      </a:moveTo>
                      <a:lnTo>
                        <a:pt x="26" y="15"/>
                      </a:lnTo>
                      <a:lnTo>
                        <a:pt x="27" y="14"/>
                      </a:lnTo>
                      <a:lnTo>
                        <a:pt x="28" y="13"/>
                      </a:lnTo>
                      <a:lnTo>
                        <a:pt x="28" y="12"/>
                      </a:lnTo>
                      <a:lnTo>
                        <a:pt x="28" y="11"/>
                      </a:lnTo>
                      <a:lnTo>
                        <a:pt x="28" y="10"/>
                      </a:lnTo>
                      <a:lnTo>
                        <a:pt x="27" y="9"/>
                      </a:lnTo>
                      <a:lnTo>
                        <a:pt x="26" y="9"/>
                      </a:lnTo>
                      <a:lnTo>
                        <a:pt x="15" y="4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14" y="10"/>
                      </a:lnTo>
                      <a:lnTo>
                        <a:pt x="2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3687480" y="4224240"/>
                  <a:ext cx="47520" cy="14400"/>
                </a:xfrm>
                <a:custGeom>
                  <a:avLst/>
                  <a:gdLst/>
                  <a:ahLst/>
                  <a:rect l="l" t="t" r="r" b="b"/>
                  <a:pathLst>
                    <a:path w="30" h="9">
                      <a:moveTo>
                        <a:pt x="26" y="9"/>
                      </a:move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3"/>
                      </a:lnTo>
                      <a:lnTo>
                        <a:pt x="24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23" y="8"/>
                      </a:lnTo>
                      <a:lnTo>
                        <a:pt x="2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1" name=""/>
              <p:cNvGrpSpPr/>
              <p:nvPr/>
            </p:nvGrpSpPr>
            <p:grpSpPr>
              <a:xfrm>
                <a:off x="4803840" y="5667480"/>
                <a:ext cx="550800" cy="525240"/>
                <a:chOff x="4803840" y="5667480"/>
                <a:chExt cx="550800" cy="52524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4808520" y="5672160"/>
                  <a:ext cx="542880" cy="517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5035680" y="5667480"/>
                  <a:ext cx="47520" cy="12600"/>
                </a:xfrm>
                <a:custGeom>
                  <a:avLst/>
                  <a:gdLst/>
                  <a:ahLst/>
                  <a:rect l="l" t="t" r="r" b="b"/>
                  <a:pathLst>
                    <a:path w="30" h="8">
                      <a:moveTo>
                        <a:pt x="28" y="6"/>
                      </a:move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30" y="3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9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10" y="7"/>
                      </a:lnTo>
                      <a:lnTo>
                        <a:pt x="2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972320" y="5675400"/>
                  <a:ext cx="44280" cy="20520"/>
                </a:xfrm>
                <a:custGeom>
                  <a:avLst/>
                  <a:gdLst/>
                  <a:ahLst/>
                  <a:rect l="l" t="t" r="r" b="b"/>
                  <a:pathLst>
                    <a:path w="28" h="13">
                      <a:moveTo>
                        <a:pt x="26" y="6"/>
                      </a:move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16" y="2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2" y="13"/>
                      </a:lnTo>
                      <a:lnTo>
                        <a:pt x="3" y="13"/>
                      </a:lnTo>
                      <a:lnTo>
                        <a:pt x="17" y="8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913280" y="5699160"/>
                  <a:ext cx="41400" cy="28440"/>
                </a:xfrm>
                <a:custGeom>
                  <a:avLst/>
                  <a:gdLst/>
                  <a:ahLst/>
                  <a:rect l="l" t="t" r="r" b="b"/>
                  <a:pathLst>
                    <a:path w="26" h="18">
                      <a:moveTo>
                        <a:pt x="24" y="6"/>
                      </a:moveTo>
                      <a:lnTo>
                        <a:pt x="25" y="5"/>
                      </a:lnTo>
                      <a:lnTo>
                        <a:pt x="26" y="4"/>
                      </a:lnTo>
                      <a:lnTo>
                        <a:pt x="26" y="3"/>
                      </a:lnTo>
                      <a:lnTo>
                        <a:pt x="26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7" y="8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1" y="18"/>
                      </a:lnTo>
                      <a:lnTo>
                        <a:pt x="2" y="18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10" y="13"/>
                      </a:lnTo>
                      <a:lnTo>
                        <a:pt x="24" y="5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864320" y="5735520"/>
                  <a:ext cx="36360" cy="3672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21" y="6"/>
                      </a:moveTo>
                      <a:lnTo>
                        <a:pt x="22" y="5"/>
                      </a:lnTo>
                      <a:lnTo>
                        <a:pt x="23" y="4"/>
                      </a:lnTo>
                      <a:lnTo>
                        <a:pt x="23" y="3"/>
                      </a:lnTo>
                      <a:lnTo>
                        <a:pt x="22" y="2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1"/>
                      </a:lnTo>
                      <a:lnTo>
                        <a:pt x="13" y="5"/>
                      </a:lnTo>
                      <a:lnTo>
                        <a:pt x="12" y="6"/>
                      </a:lnTo>
                      <a:lnTo>
                        <a:pt x="1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3" y="23"/>
                      </a:lnTo>
                      <a:lnTo>
                        <a:pt x="4" y="23"/>
                      </a:lnTo>
                      <a:lnTo>
                        <a:pt x="5" y="22"/>
                      </a:lnTo>
                      <a:lnTo>
                        <a:pt x="6" y="21"/>
                      </a:lnTo>
                      <a:lnTo>
                        <a:pt x="17" y="9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2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827600" y="5786280"/>
                  <a:ext cx="28800" cy="4320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17" y="4"/>
                      </a:moveTo>
                      <a:lnTo>
                        <a:pt x="18" y="3"/>
                      </a:lnTo>
                      <a:lnTo>
                        <a:pt x="18" y="2"/>
                      </a:lnTo>
                      <a:lnTo>
                        <a:pt x="17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6" y="12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2" y="26"/>
                      </a:lnTo>
                      <a:lnTo>
                        <a:pt x="3" y="27"/>
                      </a:lnTo>
                      <a:lnTo>
                        <a:pt x="4" y="27"/>
                      </a:lnTo>
                      <a:lnTo>
                        <a:pt x="5" y="26"/>
                      </a:lnTo>
                      <a:lnTo>
                        <a:pt x="6" y="25"/>
                      </a:lnTo>
                      <a:lnTo>
                        <a:pt x="11" y="15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807080" y="5845320"/>
                  <a:ext cx="19080" cy="47520"/>
                </a:xfrm>
                <a:custGeom>
                  <a:avLst/>
                  <a:gdLst/>
                  <a:ahLst/>
                  <a:rect l="l" t="t" r="r" b="b"/>
                  <a:pathLst>
                    <a:path w="12" h="30">
                      <a:moveTo>
                        <a:pt x="12" y="4"/>
                      </a:move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7" y="2"/>
                      </a:lnTo>
                      <a:lnTo>
                        <a:pt x="6" y="3"/>
                      </a:lnTo>
                      <a:lnTo>
                        <a:pt x="6" y="5"/>
                      </a:lnTo>
                      <a:lnTo>
                        <a:pt x="1" y="20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7" y="21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803840" y="5910120"/>
                  <a:ext cx="11160" cy="47880"/>
                </a:xfrm>
                <a:custGeom>
                  <a:avLst/>
                  <a:gdLst/>
                  <a:ahLst/>
                  <a:rect l="l" t="t" r="r" b="b"/>
                  <a:pathLst>
                    <a:path w="7" h="30">
                      <a:moveTo>
                        <a:pt x="6" y="4"/>
                      </a:move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12"/>
                      </a:lnTo>
                      <a:lnTo>
                        <a:pt x="1" y="27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2" y="30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30"/>
                      </a:lnTo>
                      <a:lnTo>
                        <a:pt x="6" y="29"/>
                      </a:lnTo>
                      <a:lnTo>
                        <a:pt x="7" y="28"/>
                      </a:lnTo>
                      <a:lnTo>
                        <a:pt x="6" y="13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810320" y="5977080"/>
                  <a:ext cx="20520" cy="45720"/>
                </a:xfrm>
                <a:custGeom>
                  <a:avLst/>
                  <a:gdLst/>
                  <a:ahLst/>
                  <a:rect l="l" t="t" r="r" b="b"/>
                  <a:pathLst>
                    <a:path w="13" h="29">
                      <a:moveTo>
                        <a:pt x="6" y="3"/>
                      </a:move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4" y="19"/>
                      </a:lnTo>
                      <a:lnTo>
                        <a:pt x="7" y="27"/>
                      </a:lnTo>
                      <a:lnTo>
                        <a:pt x="7" y="28"/>
                      </a:lnTo>
                      <a:lnTo>
                        <a:pt x="8" y="29"/>
                      </a:lnTo>
                      <a:lnTo>
                        <a:pt x="9" y="29"/>
                      </a:lnTo>
                      <a:lnTo>
                        <a:pt x="10" y="29"/>
                      </a:lnTo>
                      <a:lnTo>
                        <a:pt x="11" y="29"/>
                      </a:lnTo>
                      <a:lnTo>
                        <a:pt x="12" y="28"/>
                      </a:lnTo>
                      <a:lnTo>
                        <a:pt x="13" y="27"/>
                      </a:lnTo>
                      <a:lnTo>
                        <a:pt x="13" y="26"/>
                      </a:lnTo>
                      <a:lnTo>
                        <a:pt x="10" y="18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832280" y="603900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6" y="3"/>
                      </a:move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12" y="24"/>
                      </a:lnTo>
                      <a:lnTo>
                        <a:pt x="13" y="25"/>
                      </a:lnTo>
                      <a:lnTo>
                        <a:pt x="14" y="26"/>
                      </a:lnTo>
                      <a:lnTo>
                        <a:pt x="15" y="27"/>
                      </a:lnTo>
                      <a:lnTo>
                        <a:pt x="16" y="27"/>
                      </a:lnTo>
                      <a:lnTo>
                        <a:pt x="17" y="26"/>
                      </a:lnTo>
                      <a:lnTo>
                        <a:pt x="18" y="25"/>
                      </a:lnTo>
                      <a:lnTo>
                        <a:pt x="18" y="24"/>
                      </a:lnTo>
                      <a:lnTo>
                        <a:pt x="18" y="23"/>
                      </a:lnTo>
                      <a:lnTo>
                        <a:pt x="18" y="22"/>
                      </a:lnTo>
                      <a:lnTo>
                        <a:pt x="17" y="21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9" y="8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870440" y="6094440"/>
                  <a:ext cx="36720" cy="3492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8" y="13"/>
                      </a:lnTo>
                      <a:lnTo>
                        <a:pt x="9" y="14"/>
                      </a:lnTo>
                      <a:lnTo>
                        <a:pt x="19" y="22"/>
                      </a:lnTo>
                      <a:lnTo>
                        <a:pt x="20" y="22"/>
                      </a:lnTo>
                      <a:lnTo>
                        <a:pt x="21" y="22"/>
                      </a:lnTo>
                      <a:lnTo>
                        <a:pt x="22" y="22"/>
                      </a:lnTo>
                      <a:lnTo>
                        <a:pt x="23" y="21"/>
                      </a:lnTo>
                      <a:lnTo>
                        <a:pt x="23" y="20"/>
                      </a:lnTo>
                      <a:lnTo>
                        <a:pt x="23" y="19"/>
                      </a:lnTo>
                      <a:lnTo>
                        <a:pt x="23" y="18"/>
                      </a:lnTo>
                      <a:lnTo>
                        <a:pt x="22" y="17"/>
                      </a:lnTo>
                      <a:lnTo>
                        <a:pt x="12" y="9"/>
                      </a:lnTo>
                      <a:lnTo>
                        <a:pt x="11" y="11"/>
                      </a:lnTo>
                      <a:lnTo>
                        <a:pt x="13" y="1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919760" y="6137280"/>
                  <a:ext cx="42840" cy="28440"/>
                </a:xfrm>
                <a:custGeom>
                  <a:avLst/>
                  <a:gdLst/>
                  <a:ahLst/>
                  <a:rect l="l" t="t" r="r" b="b"/>
                  <a:pathLst>
                    <a:path w="27" h="18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7"/>
                      </a:lnTo>
                      <a:lnTo>
                        <a:pt x="17" y="15"/>
                      </a:lnTo>
                      <a:lnTo>
                        <a:pt x="18" y="15"/>
                      </a:lnTo>
                      <a:lnTo>
                        <a:pt x="24" y="18"/>
                      </a:lnTo>
                      <a:lnTo>
                        <a:pt x="25" y="18"/>
                      </a:lnTo>
                      <a:lnTo>
                        <a:pt x="26" y="17"/>
                      </a:lnTo>
                      <a:lnTo>
                        <a:pt x="27" y="16"/>
                      </a:lnTo>
                      <a:lnTo>
                        <a:pt x="27" y="15"/>
                      </a:lnTo>
                      <a:lnTo>
                        <a:pt x="27" y="14"/>
                      </a:lnTo>
                      <a:lnTo>
                        <a:pt x="27" y="13"/>
                      </a:lnTo>
                      <a:lnTo>
                        <a:pt x="26" y="12"/>
                      </a:lnTo>
                      <a:lnTo>
                        <a:pt x="25" y="12"/>
                      </a:lnTo>
                      <a:lnTo>
                        <a:pt x="19" y="9"/>
                      </a:lnTo>
                      <a:lnTo>
                        <a:pt x="19" y="12"/>
                      </a:lnTo>
                      <a:lnTo>
                        <a:pt x="20" y="10"/>
                      </a:lnTo>
                      <a:lnTo>
                        <a:pt x="6" y="2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80240" y="6167520"/>
                  <a:ext cx="45720" cy="1908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11" y="9"/>
                      </a:lnTo>
                      <a:lnTo>
                        <a:pt x="26" y="12"/>
                      </a:lnTo>
                      <a:lnTo>
                        <a:pt x="27" y="12"/>
                      </a:lnTo>
                      <a:lnTo>
                        <a:pt x="28" y="12"/>
                      </a:lnTo>
                      <a:lnTo>
                        <a:pt x="29" y="11"/>
                      </a:lnTo>
                      <a:lnTo>
                        <a:pt x="29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8" y="7"/>
                      </a:lnTo>
                      <a:lnTo>
                        <a:pt x="27" y="6"/>
                      </a:lnTo>
                      <a:lnTo>
                        <a:pt x="12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045040" y="6181560"/>
                  <a:ext cx="47880" cy="11160"/>
                </a:xfrm>
                <a:custGeom>
                  <a:avLst/>
                  <a:gdLst/>
                  <a:ahLst/>
                  <a:rect l="l" t="t" r="r" b="b"/>
                  <a:pathLst>
                    <a:path w="30" h="7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1" y="7"/>
                      </a:lnTo>
                      <a:lnTo>
                        <a:pt x="26" y="7"/>
                      </a:lnTo>
                      <a:lnTo>
                        <a:pt x="27" y="7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1"/>
                      </a:lnTo>
                      <a:lnTo>
                        <a:pt x="22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5112000" y="6173640"/>
                  <a:ext cx="45720" cy="1620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2" y="4"/>
                      </a:move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14" y="9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3"/>
                      </a:lnTo>
                      <a:lnTo>
                        <a:pt x="29" y="2"/>
                      </a:lnTo>
                      <a:lnTo>
                        <a:pt x="29" y="1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13" y="3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175360" y="6148440"/>
                  <a:ext cx="44280" cy="2520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6" y="15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19" y="3"/>
                      </a:lnTo>
                      <a:lnTo>
                        <a:pt x="21" y="5"/>
                      </a:lnTo>
                      <a:lnTo>
                        <a:pt x="20" y="2"/>
                      </a:lnTo>
                      <a:lnTo>
                        <a:pt x="5" y="9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5234040" y="6108840"/>
                  <a:ext cx="39600" cy="331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" y="16"/>
                      </a:move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13" y="15"/>
                      </a:lnTo>
                      <a:lnTo>
                        <a:pt x="23" y="6"/>
                      </a:lnTo>
                      <a:lnTo>
                        <a:pt x="24" y="5"/>
                      </a:lnTo>
                      <a:lnTo>
                        <a:pt x="25" y="4"/>
                      </a:lnTo>
                      <a:lnTo>
                        <a:pt x="25" y="3"/>
                      </a:lnTo>
                      <a:lnTo>
                        <a:pt x="24" y="2"/>
                      </a:lnTo>
                      <a:lnTo>
                        <a:pt x="23" y="1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20" y="1"/>
                      </a:lnTo>
                      <a:lnTo>
                        <a:pt x="10" y="10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283360" y="6058080"/>
                  <a:ext cx="33120" cy="3960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1" y="21"/>
                      </a:move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2" y="25"/>
                      </a:lnTo>
                      <a:lnTo>
                        <a:pt x="3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6" y="24"/>
                      </a:lnTo>
                      <a:lnTo>
                        <a:pt x="15" y="12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1" y="2"/>
                      </a:lnTo>
                      <a:lnTo>
                        <a:pt x="20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1"/>
                      </a:lnTo>
                      <a:lnTo>
                        <a:pt x="10" y="9"/>
                      </a:lnTo>
                      <a:lnTo>
                        <a:pt x="1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5319720" y="5997600"/>
                  <a:ext cx="23760" cy="44280"/>
                </a:xfrm>
                <a:custGeom>
                  <a:avLst/>
                  <a:gdLst/>
                  <a:ahLst/>
                  <a:rect l="l" t="t" r="r" b="b"/>
                  <a:pathLst>
                    <a:path w="15" h="28">
                      <a:moveTo>
                        <a:pt x="1" y="24"/>
                      </a:move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7"/>
                      </a:lnTo>
                      <a:lnTo>
                        <a:pt x="2" y="28"/>
                      </a:lnTo>
                      <a:lnTo>
                        <a:pt x="3" y="28"/>
                      </a:lnTo>
                      <a:lnTo>
                        <a:pt x="4" y="28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8" y="22"/>
                      </a:lnTo>
                      <a:lnTo>
                        <a:pt x="9" y="21"/>
                      </a:lnTo>
                      <a:lnTo>
                        <a:pt x="14" y="6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8" y="5"/>
                      </a:lnTo>
                      <a:lnTo>
                        <a:pt x="3" y="20"/>
                      </a:lnTo>
                      <a:lnTo>
                        <a:pt x="6" y="20"/>
                      </a:lnTo>
                      <a:lnTo>
                        <a:pt x="3" y="19"/>
                      </a:lnTo>
                      <a:lnTo>
                        <a:pt x="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5340600" y="5932440"/>
                  <a:ext cx="14040" cy="46080"/>
                </a:xfrm>
                <a:custGeom>
                  <a:avLst/>
                  <a:gdLst/>
                  <a:ahLst/>
                  <a:rect l="l" t="t" r="r" b="b"/>
                  <a:pathLst>
                    <a:path w="9" h="29">
                      <a:moveTo>
                        <a:pt x="0" y="26"/>
                      </a:move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29"/>
                      </a:lnTo>
                      <a:lnTo>
                        <a:pt x="4" y="29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8" y="15"/>
                      </a:lnTo>
                      <a:lnTo>
                        <a:pt x="8" y="14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2" y="15"/>
                      </a:lnTo>
                      <a:lnTo>
                        <a:pt x="5" y="15"/>
                      </a:lnTo>
                      <a:lnTo>
                        <a:pt x="2" y="1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5337360" y="5865840"/>
                  <a:ext cx="15840" cy="4752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4" y="27"/>
                      </a:moveTo>
                      <a:lnTo>
                        <a:pt x="5" y="28"/>
                      </a:lnTo>
                      <a:lnTo>
                        <a:pt x="6" y="29"/>
                      </a:lnTo>
                      <a:lnTo>
                        <a:pt x="7" y="30"/>
                      </a:lnTo>
                      <a:lnTo>
                        <a:pt x="8" y="30"/>
                      </a:lnTo>
                      <a:lnTo>
                        <a:pt x="9" y="29"/>
                      </a:lnTo>
                      <a:lnTo>
                        <a:pt x="10" y="28"/>
                      </a:lnTo>
                      <a:lnTo>
                        <a:pt x="10" y="27"/>
                      </a:lnTo>
                      <a:lnTo>
                        <a:pt x="10" y="26"/>
                      </a:lnTo>
                      <a:lnTo>
                        <a:pt x="10" y="23"/>
                      </a:lnTo>
                      <a:lnTo>
                        <a:pt x="8" y="7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8"/>
                      </a:lnTo>
                      <a:lnTo>
                        <a:pt x="4" y="24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5313600" y="5803920"/>
                  <a:ext cx="25200" cy="4428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0" y="25"/>
                      </a:moveTo>
                      <a:lnTo>
                        <a:pt x="10" y="26"/>
                      </a:lnTo>
                      <a:lnTo>
                        <a:pt x="11" y="27"/>
                      </a:lnTo>
                      <a:lnTo>
                        <a:pt x="12" y="28"/>
                      </a:lnTo>
                      <a:lnTo>
                        <a:pt x="13" y="28"/>
                      </a:lnTo>
                      <a:lnTo>
                        <a:pt x="14" y="27"/>
                      </a:lnTo>
                      <a:lnTo>
                        <a:pt x="15" y="26"/>
                      </a:lnTo>
                      <a:lnTo>
                        <a:pt x="16" y="25"/>
                      </a:lnTo>
                      <a:lnTo>
                        <a:pt x="16" y="24"/>
                      </a:lnTo>
                      <a:lnTo>
                        <a:pt x="13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7" y="18"/>
                      </a:lnTo>
                      <a:lnTo>
                        <a:pt x="10" y="16"/>
                      </a:lnTo>
                      <a:lnTo>
                        <a:pt x="7" y="17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5273640" y="5751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6" y="22"/>
                      </a:moveTo>
                      <a:lnTo>
                        <a:pt x="17" y="23"/>
                      </a:lnTo>
                      <a:lnTo>
                        <a:pt x="18" y="24"/>
                      </a:lnTo>
                      <a:lnTo>
                        <a:pt x="19" y="24"/>
                      </a:lnTo>
                      <a:lnTo>
                        <a:pt x="20" y="23"/>
                      </a:lnTo>
                      <a:lnTo>
                        <a:pt x="21" y="22"/>
                      </a:lnTo>
                      <a:lnTo>
                        <a:pt x="21" y="21"/>
                      </a:lnTo>
                      <a:lnTo>
                        <a:pt x="21" y="20"/>
                      </a:lnTo>
                      <a:lnTo>
                        <a:pt x="21" y="19"/>
                      </a:lnTo>
                      <a:lnTo>
                        <a:pt x="12" y="8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7" y="11"/>
                      </a:lnTo>
                      <a:lnTo>
                        <a:pt x="1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5221440" y="570852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21" y="20"/>
                      </a:moveTo>
                      <a:lnTo>
                        <a:pt x="22" y="20"/>
                      </a:lnTo>
                      <a:lnTo>
                        <a:pt x="23" y="20"/>
                      </a:lnTo>
                      <a:lnTo>
                        <a:pt x="24" y="20"/>
                      </a:lnTo>
                      <a:lnTo>
                        <a:pt x="25" y="19"/>
                      </a:lnTo>
                      <a:lnTo>
                        <a:pt x="26" y="18"/>
                      </a:lnTo>
                      <a:lnTo>
                        <a:pt x="26" y="17"/>
                      </a:lnTo>
                      <a:lnTo>
                        <a:pt x="25" y="16"/>
                      </a:lnTo>
                      <a:lnTo>
                        <a:pt x="24" y="15"/>
                      </a:lnTo>
                      <a:lnTo>
                        <a:pt x="21" y="12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4" y="7"/>
                      </a:lnTo>
                      <a:lnTo>
                        <a:pt x="18" y="17"/>
                      </a:lnTo>
                      <a:lnTo>
                        <a:pt x="2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5160960" y="5681520"/>
                  <a:ext cx="44640" cy="24120"/>
                </a:xfrm>
                <a:custGeom>
                  <a:avLst/>
                  <a:gdLst/>
                  <a:ahLst/>
                  <a:rect l="l" t="t" r="r" b="b"/>
                  <a:pathLst>
                    <a:path w="28" h="15">
                      <a:moveTo>
                        <a:pt x="25" y="15"/>
                      </a:moveTo>
                      <a:lnTo>
                        <a:pt x="26" y="15"/>
                      </a:lnTo>
                      <a:lnTo>
                        <a:pt x="27" y="14"/>
                      </a:lnTo>
                      <a:lnTo>
                        <a:pt x="28" y="13"/>
                      </a:lnTo>
                      <a:lnTo>
                        <a:pt x="28" y="12"/>
                      </a:lnTo>
                      <a:lnTo>
                        <a:pt x="28" y="11"/>
                      </a:lnTo>
                      <a:lnTo>
                        <a:pt x="28" y="10"/>
                      </a:lnTo>
                      <a:lnTo>
                        <a:pt x="27" y="9"/>
                      </a:lnTo>
                      <a:lnTo>
                        <a:pt x="26" y="9"/>
                      </a:lnTo>
                      <a:lnTo>
                        <a:pt x="15" y="4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14" y="10"/>
                      </a:lnTo>
                      <a:lnTo>
                        <a:pt x="2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5095800" y="5668920"/>
                  <a:ext cx="47880" cy="14400"/>
                </a:xfrm>
                <a:custGeom>
                  <a:avLst/>
                  <a:gdLst/>
                  <a:ahLst/>
                  <a:rect l="l" t="t" r="r" b="b"/>
                  <a:pathLst>
                    <a:path w="30" h="9">
                      <a:moveTo>
                        <a:pt x="26" y="9"/>
                      </a:move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3"/>
                      </a:lnTo>
                      <a:lnTo>
                        <a:pt x="24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23" y="8"/>
                      </a:lnTo>
                      <a:lnTo>
                        <a:pt x="2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8" name=""/>
              <p:cNvSpPr/>
              <p:nvPr/>
            </p:nvSpPr>
            <p:spPr>
              <a:xfrm>
                <a:off x="3726000" y="4021200"/>
                <a:ext cx="515880" cy="49356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915360" y="4167360"/>
                <a:ext cx="113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006080" y="404496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"/>
              <p:cNvGrpSpPr/>
              <p:nvPr/>
            </p:nvGrpSpPr>
            <p:grpSpPr>
              <a:xfrm>
                <a:off x="3816360" y="1744560"/>
                <a:ext cx="163440" cy="417600"/>
                <a:chOff x="3816360" y="1744560"/>
                <a:chExt cx="163440" cy="41760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3816360" y="1744560"/>
                  <a:ext cx="101520" cy="260280"/>
                </a:xfrm>
                <a:custGeom>
                  <a:avLst/>
                  <a:gdLst/>
                  <a:ahLst/>
                  <a:rect l="l" t="t" r="r" b="b"/>
                  <a:pathLst>
                    <a:path w="64" h="164">
                      <a:moveTo>
                        <a:pt x="23" y="0"/>
                      </a:moveTo>
                      <a:lnTo>
                        <a:pt x="0" y="6"/>
                      </a:lnTo>
                      <a:lnTo>
                        <a:pt x="41" y="164"/>
                      </a:lnTo>
                      <a:lnTo>
                        <a:pt x="64" y="15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3816360" y="1976400"/>
                  <a:ext cx="163440" cy="185760"/>
                </a:xfrm>
                <a:custGeom>
                  <a:avLst/>
                  <a:gdLst/>
                  <a:ahLst/>
                  <a:rect l="l" t="t" r="r" b="b"/>
                  <a:pathLst>
                    <a:path w="103" h="117">
                      <a:moveTo>
                        <a:pt x="0" y="27"/>
                      </a:moveTo>
                      <a:lnTo>
                        <a:pt x="79" y="117"/>
                      </a:lnTo>
                      <a:lnTo>
                        <a:pt x="10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"/>
              <p:cNvGrpSpPr/>
              <p:nvPr/>
            </p:nvGrpSpPr>
            <p:grpSpPr>
              <a:xfrm>
                <a:off x="1876320" y="5049720"/>
                <a:ext cx="441000" cy="227160"/>
                <a:chOff x="1876320" y="5049720"/>
                <a:chExt cx="441000" cy="227160"/>
              </a:xfrm>
            </p:grpSpPr>
            <p:sp>
              <p:nvSpPr>
                <p:cNvPr id="1175" name=""/>
                <p:cNvSpPr/>
                <p:nvPr/>
              </p:nvSpPr>
              <p:spPr>
                <a:xfrm>
                  <a:off x="1876320" y="5110200"/>
                  <a:ext cx="298440" cy="166680"/>
                </a:xfrm>
                <a:custGeom>
                  <a:avLst/>
                  <a:gdLst/>
                  <a:ahLst/>
                  <a:rect l="l" t="t" r="r" b="b"/>
                  <a:pathLst>
                    <a:path w="188" h="105">
                      <a:moveTo>
                        <a:pt x="0" y="84"/>
                      </a:moveTo>
                      <a:lnTo>
                        <a:pt x="10" y="105"/>
                      </a:lnTo>
                      <a:lnTo>
                        <a:pt x="188" y="21"/>
                      </a:lnTo>
                      <a:lnTo>
                        <a:pt x="178" y="0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2128680" y="5049720"/>
                  <a:ext cx="188640" cy="154080"/>
                </a:xfrm>
                <a:custGeom>
                  <a:avLst/>
                  <a:gdLst/>
                  <a:ahLst/>
                  <a:rect l="l" t="t" r="r" b="b"/>
                  <a:pathLst>
                    <a:path w="119" h="97">
                      <a:moveTo>
                        <a:pt x="45" y="97"/>
                      </a:moveTo>
                      <a:lnTo>
                        <a:pt x="119" y="2"/>
                      </a:lnTo>
                      <a:lnTo>
                        <a:pt x="0" y="0"/>
                      </a:lnTo>
                      <a:lnTo>
                        <a:pt x="45" y="9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7" name=""/>
              <p:cNvGrpSpPr/>
              <p:nvPr/>
            </p:nvGrpSpPr>
            <p:grpSpPr>
              <a:xfrm>
                <a:off x="5999040" y="4624560"/>
                <a:ext cx="766800" cy="342720"/>
                <a:chOff x="5999040" y="4624560"/>
                <a:chExt cx="766800" cy="342720"/>
              </a:xfrm>
            </p:grpSpPr>
            <p:sp>
              <p:nvSpPr>
                <p:cNvPr id="1178" name=""/>
                <p:cNvSpPr/>
                <p:nvPr/>
              </p:nvSpPr>
              <p:spPr>
                <a:xfrm>
                  <a:off x="6146640" y="4686480"/>
                  <a:ext cx="619200" cy="280800"/>
                </a:xfrm>
                <a:custGeom>
                  <a:avLst/>
                  <a:gdLst/>
                  <a:ahLst/>
                  <a:rect l="l" t="t" r="r" b="b"/>
                  <a:pathLst>
                    <a:path w="390" h="177">
                      <a:moveTo>
                        <a:pt x="381" y="177"/>
                      </a:moveTo>
                      <a:lnTo>
                        <a:pt x="390" y="155"/>
                      </a:lnTo>
                      <a:lnTo>
                        <a:pt x="9" y="0"/>
                      </a:lnTo>
                      <a:lnTo>
                        <a:pt x="0" y="22"/>
                      </a:lnTo>
                      <a:lnTo>
                        <a:pt x="381" y="17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5999040" y="4624560"/>
                  <a:ext cx="188640" cy="156960"/>
                </a:xfrm>
                <a:custGeom>
                  <a:avLst/>
                  <a:gdLst/>
                  <a:ahLst/>
                  <a:rect l="l" t="t" r="r" b="b"/>
                  <a:pathLst>
                    <a:path w="119" h="99">
                      <a:moveTo>
                        <a:pt x="119" y="0"/>
                      </a:moveTo>
                      <a:lnTo>
                        <a:pt x="0" y="10"/>
                      </a:lnTo>
                      <a:lnTo>
                        <a:pt x="79" y="99"/>
                      </a:ln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0" name=""/>
              <p:cNvSpPr/>
              <p:nvPr/>
            </p:nvSpPr>
            <p:spPr>
              <a:xfrm>
                <a:off x="4808520" y="3220920"/>
                <a:ext cx="181080" cy="17964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40" y="0"/>
                    </a:moveTo>
                    <a:lnTo>
                      <a:pt x="0" y="113"/>
                    </a:lnTo>
                    <a:lnTo>
                      <a:pt x="114" y="7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1" name=""/>
              <p:cNvGrpSpPr/>
              <p:nvPr/>
            </p:nvGrpSpPr>
            <p:grpSpPr>
              <a:xfrm>
                <a:off x="1768320" y="2558880"/>
                <a:ext cx="441360" cy="227160"/>
                <a:chOff x="1768320" y="2558880"/>
                <a:chExt cx="441360" cy="227160"/>
              </a:xfrm>
            </p:grpSpPr>
            <p:sp>
              <p:nvSpPr>
                <p:cNvPr id="1182" name=""/>
                <p:cNvSpPr/>
                <p:nvPr/>
              </p:nvSpPr>
              <p:spPr>
                <a:xfrm>
                  <a:off x="1768320" y="2558880"/>
                  <a:ext cx="298440" cy="166680"/>
                </a:xfrm>
                <a:custGeom>
                  <a:avLst/>
                  <a:gdLst/>
                  <a:ahLst/>
                  <a:rect l="l" t="t" r="r" b="b"/>
                  <a:pathLst>
                    <a:path w="188" h="105">
                      <a:moveTo>
                        <a:pt x="10" y="0"/>
                      </a:moveTo>
                      <a:lnTo>
                        <a:pt x="0" y="21"/>
                      </a:lnTo>
                      <a:lnTo>
                        <a:pt x="178" y="105"/>
                      </a:lnTo>
                      <a:lnTo>
                        <a:pt x="188" y="8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018880" y="2631960"/>
                  <a:ext cx="190800" cy="154080"/>
                </a:xfrm>
                <a:custGeom>
                  <a:avLst/>
                  <a:gdLst/>
                  <a:ahLst/>
                  <a:rect l="l" t="t" r="r" b="b"/>
                  <a:pathLst>
                    <a:path w="120" h="97">
                      <a:moveTo>
                        <a:pt x="0" y="97"/>
                      </a:moveTo>
                      <a:lnTo>
                        <a:pt x="120" y="94"/>
                      </a:lnTo>
                      <a:lnTo>
                        <a:pt x="46" y="0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4892760" y="5568840"/>
                <a:ext cx="160200" cy="316080"/>
                <a:chOff x="4892760" y="5568840"/>
                <a:chExt cx="160200" cy="31608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4954680" y="5719680"/>
                  <a:ext cx="87480" cy="165240"/>
                </a:xfrm>
                <a:custGeom>
                  <a:avLst/>
                  <a:gdLst/>
                  <a:ahLst/>
                  <a:rect l="l" t="t" r="r" b="b"/>
                  <a:pathLst>
                    <a:path w="55" h="104">
                      <a:moveTo>
                        <a:pt x="33" y="104"/>
                      </a:moveTo>
                      <a:lnTo>
                        <a:pt x="55" y="96"/>
                      </a:lnTo>
                      <a:lnTo>
                        <a:pt x="22" y="0"/>
                      </a:lnTo>
                      <a:lnTo>
                        <a:pt x="0" y="8"/>
                      </a:lnTo>
                      <a:lnTo>
                        <a:pt x="33" y="10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4892760" y="5568840"/>
                  <a:ext cx="160200" cy="187560"/>
                </a:xfrm>
                <a:custGeom>
                  <a:avLst/>
                  <a:gdLst/>
                  <a:ahLst/>
                  <a:rect l="l" t="t" r="r" b="b"/>
                  <a:pathLst>
                    <a:path w="101" h="118">
                      <a:moveTo>
                        <a:pt x="101" y="83"/>
                      </a:moveTo>
                      <a:lnTo>
                        <a:pt x="15" y="0"/>
                      </a:lnTo>
                      <a:lnTo>
                        <a:pt x="0" y="118"/>
                      </a:lnTo>
                      <a:lnTo>
                        <a:pt x="101" y="8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3605040" y="4330800"/>
                <a:ext cx="228600" cy="220680"/>
                <a:chOff x="3605040" y="4330800"/>
                <a:chExt cx="228600" cy="22068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3605040" y="4432320"/>
                  <a:ext cx="122040" cy="119160"/>
                </a:xfrm>
                <a:custGeom>
                  <a:avLst/>
                  <a:gdLst/>
                  <a:ahLst/>
                  <a:rect l="l" t="t" r="r" b="b"/>
                  <a:pathLst>
                    <a:path w="77" h="75">
                      <a:moveTo>
                        <a:pt x="0" y="58"/>
                      </a:moveTo>
                      <a:lnTo>
                        <a:pt x="16" y="75"/>
                      </a:lnTo>
                      <a:lnTo>
                        <a:pt x="77" y="17"/>
                      </a:lnTo>
                      <a:lnTo>
                        <a:pt x="61" y="0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652560" y="4330800"/>
                  <a:ext cx="181080" cy="179280"/>
                </a:xfrm>
                <a:custGeom>
                  <a:avLst/>
                  <a:gdLst/>
                  <a:ahLst/>
                  <a:rect l="l" t="t" r="r" b="b"/>
                  <a:pathLst>
                    <a:path w="114" h="113">
                      <a:moveTo>
                        <a:pt x="74" y="113"/>
                      </a:moveTo>
                      <a:lnTo>
                        <a:pt x="114" y="0"/>
                      </a:lnTo>
                      <a:lnTo>
                        <a:pt x="0" y="36"/>
                      </a:lnTo>
                      <a:lnTo>
                        <a:pt x="74" y="11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6107040" y="2249640"/>
                <a:ext cx="767880" cy="428400"/>
                <a:chOff x="6107040" y="2249640"/>
                <a:chExt cx="767880" cy="42840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6244920" y="2249640"/>
                  <a:ext cx="630000" cy="368280"/>
                </a:xfrm>
                <a:custGeom>
                  <a:avLst/>
                  <a:gdLst/>
                  <a:ahLst/>
                  <a:rect l="l" t="t" r="r" b="b"/>
                  <a:pathLst>
                    <a:path w="397" h="232">
                      <a:moveTo>
                        <a:pt x="397" y="21"/>
                      </a:moveTo>
                      <a:lnTo>
                        <a:pt x="386" y="0"/>
                      </a:lnTo>
                      <a:lnTo>
                        <a:pt x="0" y="211"/>
                      </a:lnTo>
                      <a:lnTo>
                        <a:pt x="11" y="232"/>
                      </a:lnTo>
                      <a:lnTo>
                        <a:pt x="397" y="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6107040" y="2522520"/>
                  <a:ext cx="188640" cy="155520"/>
                </a:xfrm>
                <a:custGeom>
                  <a:avLst/>
                  <a:gdLst/>
                  <a:ahLst/>
                  <a:rect l="l" t="t" r="r" b="b"/>
                  <a:pathLst>
                    <a:path w="119" h="98">
                      <a:moveTo>
                        <a:pt x="68" y="0"/>
                      </a:moveTo>
                      <a:lnTo>
                        <a:pt x="0" y="98"/>
                      </a:lnTo>
                      <a:lnTo>
                        <a:pt x="119" y="94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93" name=""/>
          <p:cNvGrpSpPr/>
          <p:nvPr/>
        </p:nvGrpSpPr>
        <p:grpSpPr>
          <a:xfrm>
            <a:off x="2700360" y="4365720"/>
            <a:ext cx="1047240" cy="433440"/>
            <a:chOff x="2700360" y="4365720"/>
            <a:chExt cx="1047240" cy="433440"/>
          </a:xfrm>
        </p:grpSpPr>
        <p:sp>
          <p:nvSpPr>
            <p:cNvPr id="1194" name=""/>
            <p:cNvSpPr/>
            <p:nvPr/>
          </p:nvSpPr>
          <p:spPr>
            <a:xfrm>
              <a:off x="2700360" y="4729320"/>
              <a:ext cx="117360" cy="69840"/>
            </a:xfrm>
            <a:custGeom>
              <a:avLst/>
              <a:gdLst/>
              <a:ahLst/>
              <a:rect l="l" t="t" r="r" b="b"/>
              <a:pathLst>
                <a:path w="74" h="44">
                  <a:moveTo>
                    <a:pt x="0" y="27"/>
                  </a:moveTo>
                  <a:lnTo>
                    <a:pt x="7" y="44"/>
                  </a:lnTo>
                  <a:lnTo>
                    <a:pt x="74" y="17"/>
                  </a:lnTo>
                  <a:lnTo>
                    <a:pt x="67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885760" y="4656240"/>
              <a:ext cx="117360" cy="69840"/>
            </a:xfrm>
            <a:custGeom>
              <a:avLst/>
              <a:gdLst/>
              <a:ahLst/>
              <a:rect l="l" t="t" r="r" b="b"/>
              <a:pathLst>
                <a:path w="74" h="44">
                  <a:moveTo>
                    <a:pt x="0" y="27"/>
                  </a:moveTo>
                  <a:lnTo>
                    <a:pt x="7" y="44"/>
                  </a:lnTo>
                  <a:lnTo>
                    <a:pt x="74" y="17"/>
                  </a:lnTo>
                  <a:lnTo>
                    <a:pt x="67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071520" y="4584600"/>
              <a:ext cx="117360" cy="6840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0" y="26"/>
                  </a:moveTo>
                  <a:lnTo>
                    <a:pt x="7" y="43"/>
                  </a:lnTo>
                  <a:lnTo>
                    <a:pt x="74" y="17"/>
                  </a:lnTo>
                  <a:lnTo>
                    <a:pt x="6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59080" y="4511520"/>
              <a:ext cx="117000" cy="6840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0" y="26"/>
                  </a:moveTo>
                  <a:lnTo>
                    <a:pt x="7" y="43"/>
                  </a:lnTo>
                  <a:lnTo>
                    <a:pt x="74" y="17"/>
                  </a:lnTo>
                  <a:lnTo>
                    <a:pt x="6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44840" y="4438800"/>
              <a:ext cx="117000" cy="6804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0" y="26"/>
                  </a:moveTo>
                  <a:lnTo>
                    <a:pt x="7" y="43"/>
                  </a:lnTo>
                  <a:lnTo>
                    <a:pt x="74" y="17"/>
                  </a:lnTo>
                  <a:lnTo>
                    <a:pt x="6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630600" y="4365720"/>
              <a:ext cx="117000" cy="6804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0" y="26"/>
                  </a:moveTo>
                  <a:lnTo>
                    <a:pt x="7" y="43"/>
                  </a:lnTo>
                  <a:lnTo>
                    <a:pt x="74" y="17"/>
                  </a:lnTo>
                  <a:lnTo>
                    <a:pt x="6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724-6492-44CE-B924-84173B71C0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"/>
          <p:cNvGrpSpPr/>
          <p:nvPr/>
        </p:nvGrpSpPr>
        <p:grpSpPr>
          <a:xfrm>
            <a:off x="971640" y="404640"/>
            <a:ext cx="7561080" cy="5905800"/>
            <a:chOff x="971640" y="404640"/>
            <a:chExt cx="7561080" cy="5905800"/>
          </a:xfrm>
        </p:grpSpPr>
        <p:sp>
          <p:nvSpPr>
            <p:cNvPr id="1201" name=""/>
            <p:cNvSpPr/>
            <p:nvPr/>
          </p:nvSpPr>
          <p:spPr>
            <a:xfrm>
              <a:off x="971640" y="907920"/>
              <a:ext cx="3384360" cy="367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3000" spc="-1" strike="noStrike">
                  <a:solidFill>
                    <a:srgbClr val="000000"/>
                  </a:solidFill>
                  <a:latin typeface="Tahoma"/>
                </a:rPr>
                <a:t>1) TBC/TS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411280" y="335772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411280" y="191628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619280" y="263700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203640" y="263700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908000" y="2133720"/>
              <a:ext cx="360360" cy="36036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059280" y="3284640"/>
              <a:ext cx="360360" cy="36036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059280" y="2133720"/>
              <a:ext cx="360360" cy="36036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835280" y="3284640"/>
              <a:ext cx="360360" cy="36036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627280" y="2421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2627280" y="2923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124000" y="285264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2700000" y="2852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268360" y="2492280"/>
              <a:ext cx="2876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 flipV="1">
              <a:off x="2700360" y="2924280"/>
              <a:ext cx="2872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2268360" y="2924280"/>
              <a:ext cx="2876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2700360" y="2492280"/>
              <a:ext cx="287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148360" y="404640"/>
              <a:ext cx="3384360" cy="28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2) 4D TR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ahoma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e(47.6MeV)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mpound sta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48360" y="3645000"/>
              <a:ext cx="3384360" cy="26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) Break-U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940360" y="2060640"/>
              <a:ext cx="172872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084720" y="2205000"/>
              <a:ext cx="648000" cy="647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000" spc="-1" strike="noStrike">
                  <a:solidFill>
                    <a:srgbClr val="000000"/>
                  </a:solidFill>
                  <a:latin typeface="Tahoma"/>
                </a:rPr>
                <a:t>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877080" y="2205000"/>
              <a:ext cx="647640" cy="647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000" spc="-1" strike="noStrike">
                  <a:solidFill>
                    <a:srgbClr val="000000"/>
                  </a:solidFill>
                  <a:latin typeface="Tahoma"/>
                </a:rPr>
                <a:t>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19640" y="4653000"/>
              <a:ext cx="647640" cy="647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000" spc="-1" strike="noStrike">
                  <a:solidFill>
                    <a:srgbClr val="000000"/>
                  </a:solidFill>
                  <a:latin typeface="Tahoma"/>
                </a:rPr>
                <a:t>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740720" y="4653000"/>
              <a:ext cx="647640" cy="647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000" spc="-1" strike="noStrike">
                  <a:solidFill>
                    <a:srgbClr val="000000"/>
                  </a:solidFill>
                  <a:latin typeface="Tahoma"/>
                </a:rPr>
                <a:t>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948360" y="5013360"/>
              <a:ext cx="648000" cy="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12000" y="5013360"/>
              <a:ext cx="647640" cy="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19640" y="5445000"/>
              <a:ext cx="10573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3.8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380360" y="5373720"/>
              <a:ext cx="10573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3.8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356000" y="2060640"/>
              <a:ext cx="7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804000" y="328464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28A-3EDE-4A29-879C-F022957626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/>
          <p:nvPr/>
        </p:nvSpPr>
        <p:spPr>
          <a:xfrm>
            <a:off x="1976400" y="153684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571680" y="457200"/>
            <a:ext cx="8144640" cy="5943600"/>
            <a:chOff x="571680" y="457200"/>
            <a:chExt cx="8144640" cy="5943600"/>
          </a:xfrm>
        </p:grpSpPr>
        <p:sp>
          <p:nvSpPr>
            <p:cNvPr id="1233" name=""/>
            <p:cNvSpPr/>
            <p:nvPr/>
          </p:nvSpPr>
          <p:spPr>
            <a:xfrm>
              <a:off x="800280" y="457200"/>
              <a:ext cx="73166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904680" y="457200"/>
              <a:ext cx="6105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ahoma"/>
                </a:rPr>
                <a:t>Octahedral Symmetric (Coherent) Cond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1680" y="914400"/>
              <a:ext cx="4419360" cy="5486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219640" y="1447920"/>
              <a:ext cx="3125880" cy="434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583960" y="1447920"/>
              <a:ext cx="3132360" cy="39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6600ff"/>
                  </a:solidFill>
                  <a:latin typeface="Tahoma"/>
                </a:rPr>
                <a:t>When</a:t>
              </a:r>
              <a:r>
                <a:rPr b="0" lang="ja-JP" sz="2000" spc="-1" strike="noStrike">
                  <a:solidFill>
                    <a:srgbClr val="6600ff"/>
                  </a:solidFill>
                  <a:latin typeface="Tahoma"/>
                </a:rPr>
                <a:t> </a:t>
              </a:r>
              <a:r>
                <a:rPr b="1" lang="ja-JP" sz="2000" spc="-1" strike="noStrike">
                  <a:solidFill>
                    <a:srgbClr val="ff3399"/>
                  </a:solidFill>
                  <a:latin typeface="Tahoma"/>
                </a:rPr>
                <a:t>4 e- down-sp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6600ff"/>
                  </a:solidFill>
                  <a:latin typeface="Tahoma"/>
                </a:rPr>
                <a:t>are arranged on upp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6600ff"/>
                  </a:solidFill>
                  <a:latin typeface="Tahoma"/>
                </a:rPr>
                <a:t>half with</a:t>
              </a:r>
              <a:r>
                <a:rPr b="1" lang="ja-JP" sz="2000" spc="-1" strike="noStrike">
                  <a:solidFill>
                    <a:srgbClr val="6600ff"/>
                  </a:solidFill>
                  <a:latin typeface="Tahoma"/>
                </a:rPr>
                <a:t>　</a:t>
              </a:r>
              <a:r>
                <a:rPr b="1" lang="ja-JP" sz="2000" spc="-1" strike="noStrike">
                  <a:solidFill>
                    <a:srgbClr val="ff3399"/>
                  </a:solidFill>
                  <a:latin typeface="Tahoma"/>
                </a:rPr>
                <a:t>4 e- up-sp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6600ff"/>
                  </a:solidFill>
                  <a:latin typeface="Tahoma"/>
                </a:rPr>
                <a:t>on lower half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6600ff"/>
                  </a:solidFill>
                  <a:latin typeface="Tahoma"/>
                </a:rPr>
                <a:t>Averaged charge-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6600ff"/>
                  </a:solidFill>
                  <a:latin typeface="Tahoma"/>
                </a:rPr>
                <a:t>neutral condensation 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6600ff"/>
                  </a:solidFill>
                  <a:latin typeface="Tahoma"/>
                </a:rPr>
                <a:t>Pos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6600ff"/>
                  </a:solidFill>
                  <a:latin typeface="Tahoma"/>
                </a:rPr>
                <a:t>to form central</a:t>
              </a:r>
              <a:r>
                <a:rPr b="1" lang="ja-JP" sz="2000" spc="-1" strike="noStrike">
                  <a:solidFill>
                    <a:srgbClr val="6600ff"/>
                  </a:solidFill>
                  <a:latin typeface="Tahoma"/>
                </a:rPr>
                <a:t>　</a:t>
              </a:r>
              <a:r>
                <a:rPr b="1" lang="ja-JP" sz="2000" spc="-1" strike="noStrike">
                  <a:solidFill>
                    <a:srgbClr val="ff3399"/>
                  </a:solidFill>
                  <a:latin typeface="Tahoma"/>
                </a:rPr>
                <a:t>e*(8,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6600ff"/>
                  </a:solidFill>
                  <a:latin typeface="Tahoma"/>
                </a:rPr>
                <a:t>Transient Quasi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6600ff"/>
                  </a:solidFill>
                  <a:latin typeface="Tahoma"/>
                </a:rPr>
                <a:t>Particle State at O-s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76240" y="809640"/>
              <a:ext cx="7467840" cy="572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47640" y="3048120"/>
              <a:ext cx="801720" cy="801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911160" y="3276720"/>
              <a:ext cx="27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790640" y="1333440"/>
              <a:ext cx="801720" cy="801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054160" y="1554120"/>
              <a:ext cx="27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47640" y="5219640"/>
              <a:ext cx="801720" cy="801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911160" y="5440320"/>
              <a:ext cx="27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933640" y="5219640"/>
              <a:ext cx="801720" cy="801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197160" y="5486400"/>
              <a:ext cx="27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076640" y="1333440"/>
              <a:ext cx="801720" cy="801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340160" y="1523880"/>
              <a:ext cx="27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076640" y="3619440"/>
              <a:ext cx="801720" cy="801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340160" y="3840120"/>
              <a:ext cx="27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790640" y="3619440"/>
              <a:ext cx="801720" cy="801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998360" y="3822840"/>
              <a:ext cx="11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010000"/>
                </a:buClr>
                <a:buFont typeface="Century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Century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048760" y="3773520"/>
              <a:ext cx="36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10000"/>
                </a:buClr>
                <a:buFont typeface="Century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1219320" y="2133720"/>
              <a:ext cx="685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590920" y="1676520"/>
              <a:ext cx="148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447920" y="3505320"/>
              <a:ext cx="148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3619440" y="2133360"/>
              <a:ext cx="685800" cy="10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447920" y="5676840"/>
              <a:ext cx="148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990720" y="3848040"/>
              <a:ext cx="14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390840" y="3848040"/>
              <a:ext cx="18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3619440" y="4419720"/>
              <a:ext cx="685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533840" y="2133720"/>
              <a:ext cx="1800" cy="14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3" name=""/>
            <p:cNvGrpSpPr/>
            <p:nvPr/>
          </p:nvGrpSpPr>
          <p:grpSpPr>
            <a:xfrm>
              <a:off x="1328760" y="4414680"/>
              <a:ext cx="695160" cy="924120"/>
              <a:chOff x="1328760" y="4414680"/>
              <a:chExt cx="695160" cy="924120"/>
            </a:xfrm>
          </p:grpSpPr>
          <p:sp>
            <p:nvSpPr>
              <p:cNvPr id="1264" name=""/>
              <p:cNvSpPr/>
              <p:nvPr/>
            </p:nvSpPr>
            <p:spPr>
              <a:xfrm>
                <a:off x="1328760" y="52992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" y="21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368360" y="5245200"/>
                <a:ext cx="33480" cy="3960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1" y="21"/>
                    </a:moveTo>
                    <a:lnTo>
                      <a:pt x="0" y="22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6" y="24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407960" y="5192640"/>
                <a:ext cx="33480" cy="3960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1" y="20"/>
                    </a:moveTo>
                    <a:lnTo>
                      <a:pt x="0" y="21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5" y="24"/>
                    </a:lnTo>
                    <a:lnTo>
                      <a:pt x="6" y="23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449360" y="5138640"/>
                <a:ext cx="31680" cy="3996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1"/>
                    </a:move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5" y="24"/>
                    </a:lnTo>
                    <a:lnTo>
                      <a:pt x="19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488960" y="5084640"/>
                <a:ext cx="32040" cy="414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0" y="21"/>
                    </a:move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5"/>
                    </a:lnTo>
                    <a:lnTo>
                      <a:pt x="5" y="24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528920" y="503244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1"/>
                    </a:move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5" y="2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1568520" y="4978440"/>
                <a:ext cx="33120" cy="3960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1" y="21"/>
                    </a:moveTo>
                    <a:lnTo>
                      <a:pt x="0" y="22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6" y="24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608120" y="4925880"/>
                <a:ext cx="33480" cy="3996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1" y="20"/>
                    </a:moveTo>
                    <a:lnTo>
                      <a:pt x="0" y="21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5" y="24"/>
                    </a:lnTo>
                    <a:lnTo>
                      <a:pt x="6" y="23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1649520" y="4871880"/>
                <a:ext cx="31680" cy="3996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1"/>
                    </a:move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5" y="24"/>
                    </a:lnTo>
                    <a:lnTo>
                      <a:pt x="19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1689120" y="4818240"/>
                <a:ext cx="31680" cy="4104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0" y="21"/>
                    </a:move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5"/>
                    </a:lnTo>
                    <a:lnTo>
                      <a:pt x="5" y="24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728720" y="476568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1"/>
                    </a:move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5" y="2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768320" y="4711680"/>
                <a:ext cx="33480" cy="3960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1" y="21"/>
                    </a:moveTo>
                    <a:lnTo>
                      <a:pt x="0" y="22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6" y="24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808280" y="4659480"/>
                <a:ext cx="33120" cy="3960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1" y="20"/>
                    </a:moveTo>
                    <a:lnTo>
                      <a:pt x="0" y="21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5" y="24"/>
                    </a:lnTo>
                    <a:lnTo>
                      <a:pt x="6" y="23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849320" y="4605480"/>
                <a:ext cx="3204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1"/>
                    </a:move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5" y="24"/>
                    </a:lnTo>
                    <a:lnTo>
                      <a:pt x="19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889280" y="4551480"/>
                <a:ext cx="31680" cy="4104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0" y="21"/>
                    </a:move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5"/>
                    </a:lnTo>
                    <a:lnTo>
                      <a:pt x="5" y="24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928880" y="449892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1"/>
                    </a:move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5" y="2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968480" y="4444920"/>
                <a:ext cx="33480" cy="3960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1" y="21"/>
                    </a:moveTo>
                    <a:lnTo>
                      <a:pt x="0" y="22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6" y="24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2008080" y="44146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6"/>
                    </a:moveTo>
                    <a:lnTo>
                      <a:pt x="0" y="7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2585880" y="3957480"/>
              <a:ext cx="1495440" cy="9720"/>
              <a:chOff x="2585880" y="3957480"/>
              <a:chExt cx="1495440" cy="9720"/>
            </a:xfrm>
          </p:grpSpPr>
          <p:sp>
            <p:nvSpPr>
              <p:cNvPr id="1283" name=""/>
              <p:cNvSpPr/>
              <p:nvPr/>
            </p:nvSpPr>
            <p:spPr>
              <a:xfrm>
                <a:off x="2585880" y="3957480"/>
                <a:ext cx="4788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2652840" y="3957480"/>
                <a:ext cx="4752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719440" y="3957480"/>
                <a:ext cx="4752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786040" y="3957480"/>
                <a:ext cx="4752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852640" y="3957480"/>
                <a:ext cx="4788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919240" y="3957480"/>
                <a:ext cx="4788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986200" y="3957480"/>
                <a:ext cx="4752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052800" y="3957480"/>
                <a:ext cx="4752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119400" y="3957480"/>
                <a:ext cx="4752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186000" y="3957480"/>
                <a:ext cx="4788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252960" y="3957480"/>
                <a:ext cx="4752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319560" y="3957480"/>
                <a:ext cx="4752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386160" y="3957480"/>
                <a:ext cx="4752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452760" y="3957480"/>
                <a:ext cx="4752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519360" y="3957480"/>
                <a:ext cx="4788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586320" y="3957480"/>
                <a:ext cx="4752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652920" y="3957480"/>
                <a:ext cx="4752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719520" y="3957480"/>
                <a:ext cx="4752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786120" y="3957480"/>
                <a:ext cx="4752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852720" y="3957480"/>
                <a:ext cx="4788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919680" y="3957480"/>
                <a:ext cx="4752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986280" y="3957480"/>
                <a:ext cx="4752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4052880" y="3957480"/>
                <a:ext cx="28440" cy="972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2243160" y="2128680"/>
              <a:ext cx="9360" cy="1495440"/>
              <a:chOff x="2243160" y="2128680"/>
              <a:chExt cx="9360" cy="1495440"/>
            </a:xfrm>
          </p:grpSpPr>
          <p:sp>
            <p:nvSpPr>
              <p:cNvPr id="1307" name=""/>
              <p:cNvSpPr/>
              <p:nvPr/>
            </p:nvSpPr>
            <p:spPr>
              <a:xfrm>
                <a:off x="2243160" y="2128680"/>
                <a:ext cx="9360" cy="4788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4"/>
                    </a:move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243160" y="219564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243160" y="226224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243160" y="232884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243160" y="2395440"/>
                <a:ext cx="9360" cy="4788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243160" y="2462040"/>
                <a:ext cx="9360" cy="4788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243160" y="252900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243160" y="259560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243160" y="266220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243160" y="2728800"/>
                <a:ext cx="9360" cy="4788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243160" y="279576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243160" y="286236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2243160" y="292896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2243160" y="299556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243160" y="3062160"/>
                <a:ext cx="9360" cy="4788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243160" y="312912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243160" y="319572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2243160" y="326232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243160" y="332892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2243160" y="3395520"/>
                <a:ext cx="9360" cy="4788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243160" y="346248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243160" y="3529080"/>
                <a:ext cx="936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6" y="3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243160" y="359568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3"/>
                    </a:move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0" name=""/>
            <p:cNvSpPr/>
            <p:nvPr/>
          </p:nvSpPr>
          <p:spPr>
            <a:xfrm>
              <a:off x="2705040" y="3619440"/>
              <a:ext cx="115920" cy="1159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1" name=""/>
            <p:cNvGrpSpPr/>
            <p:nvPr/>
          </p:nvGrpSpPr>
          <p:grpSpPr>
            <a:xfrm>
              <a:off x="2349360" y="2130480"/>
              <a:ext cx="392400" cy="1374840"/>
              <a:chOff x="2349360" y="2130480"/>
              <a:chExt cx="392400" cy="1374840"/>
            </a:xfrm>
          </p:grpSpPr>
          <p:sp>
            <p:nvSpPr>
              <p:cNvPr id="1332" name=""/>
              <p:cNvSpPr/>
              <p:nvPr/>
            </p:nvSpPr>
            <p:spPr>
              <a:xfrm>
                <a:off x="2349360" y="213048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34" h="74">
                    <a:moveTo>
                      <a:pt x="17" y="0"/>
                    </a:moveTo>
                    <a:lnTo>
                      <a:pt x="0" y="4"/>
                    </a:lnTo>
                    <a:lnTo>
                      <a:pt x="17" y="74"/>
                    </a:lnTo>
                    <a:lnTo>
                      <a:pt x="34" y="7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397240" y="232416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34" h="74">
                    <a:moveTo>
                      <a:pt x="17" y="0"/>
                    </a:moveTo>
                    <a:lnTo>
                      <a:pt x="0" y="4"/>
                    </a:lnTo>
                    <a:lnTo>
                      <a:pt x="17" y="74"/>
                    </a:lnTo>
                    <a:lnTo>
                      <a:pt x="34" y="7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446200" y="251784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34" h="74">
                    <a:moveTo>
                      <a:pt x="17" y="0"/>
                    </a:moveTo>
                    <a:lnTo>
                      <a:pt x="0" y="4"/>
                    </a:lnTo>
                    <a:lnTo>
                      <a:pt x="17" y="74"/>
                    </a:lnTo>
                    <a:lnTo>
                      <a:pt x="34" y="7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494080" y="2712960"/>
                <a:ext cx="55440" cy="11772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17" y="0"/>
                    </a:moveTo>
                    <a:lnTo>
                      <a:pt x="0" y="4"/>
                    </a:lnTo>
                    <a:lnTo>
                      <a:pt x="18" y="74"/>
                    </a:lnTo>
                    <a:lnTo>
                      <a:pt x="35" y="7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2543040" y="2906640"/>
                <a:ext cx="54000" cy="117720"/>
              </a:xfrm>
              <a:custGeom>
                <a:avLst/>
                <a:gdLst/>
                <a:ahLst/>
                <a:rect l="l" t="t" r="r" b="b"/>
                <a:pathLst>
                  <a:path w="34" h="74">
                    <a:moveTo>
                      <a:pt x="17" y="0"/>
                    </a:moveTo>
                    <a:lnTo>
                      <a:pt x="0" y="4"/>
                    </a:lnTo>
                    <a:lnTo>
                      <a:pt x="17" y="74"/>
                    </a:lnTo>
                    <a:lnTo>
                      <a:pt x="34" y="7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590920" y="3100320"/>
                <a:ext cx="55440" cy="11772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17" y="0"/>
                    </a:moveTo>
                    <a:lnTo>
                      <a:pt x="0" y="4"/>
                    </a:lnTo>
                    <a:lnTo>
                      <a:pt x="18" y="74"/>
                    </a:lnTo>
                    <a:lnTo>
                      <a:pt x="35" y="7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2639880" y="3294000"/>
                <a:ext cx="44640" cy="76320"/>
              </a:xfrm>
              <a:custGeom>
                <a:avLst/>
                <a:gdLst/>
                <a:ahLst/>
                <a:rect l="l" t="t" r="r" b="b"/>
                <a:pathLst>
                  <a:path w="28" h="48">
                    <a:moveTo>
                      <a:pt x="17" y="0"/>
                    </a:moveTo>
                    <a:lnTo>
                      <a:pt x="0" y="4"/>
                    </a:lnTo>
                    <a:lnTo>
                      <a:pt x="11" y="48"/>
                    </a:lnTo>
                    <a:lnTo>
                      <a:pt x="28" y="4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597040" y="3346560"/>
                <a:ext cx="144720" cy="158760"/>
              </a:xfrm>
              <a:custGeom>
                <a:avLst/>
                <a:gdLst/>
                <a:ahLst/>
                <a:rect l="l" t="t" r="r" b="b"/>
                <a:pathLst>
                  <a:path w="91" h="100">
                    <a:moveTo>
                      <a:pt x="0" y="22"/>
                    </a:moveTo>
                    <a:lnTo>
                      <a:pt x="68" y="100"/>
                    </a:lnTo>
                    <a:lnTo>
                      <a:pt x="91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1446120" y="3490920"/>
              <a:ext cx="1144800" cy="189000"/>
              <a:chOff x="1446120" y="3490920"/>
              <a:chExt cx="1144800" cy="189000"/>
            </a:xfrm>
          </p:grpSpPr>
          <p:sp>
            <p:nvSpPr>
              <p:cNvPr id="1341" name=""/>
              <p:cNvSpPr/>
              <p:nvPr/>
            </p:nvSpPr>
            <p:spPr>
              <a:xfrm>
                <a:off x="1446120" y="349092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74" h="25">
                    <a:moveTo>
                      <a:pt x="2" y="0"/>
                    </a:moveTo>
                    <a:lnTo>
                      <a:pt x="0" y="18"/>
                    </a:lnTo>
                    <a:lnTo>
                      <a:pt x="72" y="25"/>
                    </a:lnTo>
                    <a:lnTo>
                      <a:pt x="74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644480" y="3511440"/>
                <a:ext cx="117720" cy="39960"/>
              </a:xfrm>
              <a:custGeom>
                <a:avLst/>
                <a:gdLst/>
                <a:ahLst/>
                <a:rect l="l" t="t" r="r" b="b"/>
                <a:pathLst>
                  <a:path w="74" h="25">
                    <a:moveTo>
                      <a:pt x="2" y="0"/>
                    </a:moveTo>
                    <a:lnTo>
                      <a:pt x="0" y="18"/>
                    </a:lnTo>
                    <a:lnTo>
                      <a:pt x="72" y="25"/>
                    </a:lnTo>
                    <a:lnTo>
                      <a:pt x="74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844640" y="3530520"/>
                <a:ext cx="115920" cy="39600"/>
              </a:xfrm>
              <a:custGeom>
                <a:avLst/>
                <a:gdLst/>
                <a:ahLst/>
                <a:rect l="l" t="t" r="r" b="b"/>
                <a:pathLst>
                  <a:path w="73" h="25">
                    <a:moveTo>
                      <a:pt x="2" y="0"/>
                    </a:moveTo>
                    <a:lnTo>
                      <a:pt x="0" y="18"/>
                    </a:lnTo>
                    <a:lnTo>
                      <a:pt x="71" y="25"/>
                    </a:lnTo>
                    <a:lnTo>
                      <a:pt x="73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043000" y="355140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74" h="25">
                    <a:moveTo>
                      <a:pt x="2" y="0"/>
                    </a:moveTo>
                    <a:lnTo>
                      <a:pt x="0" y="18"/>
                    </a:lnTo>
                    <a:lnTo>
                      <a:pt x="72" y="25"/>
                    </a:lnTo>
                    <a:lnTo>
                      <a:pt x="74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241720" y="3570120"/>
                <a:ext cx="117360" cy="39960"/>
              </a:xfrm>
              <a:custGeom>
                <a:avLst/>
                <a:gdLst/>
                <a:ahLst/>
                <a:rect l="l" t="t" r="r" b="b"/>
                <a:pathLst>
                  <a:path w="74" h="25">
                    <a:moveTo>
                      <a:pt x="2" y="0"/>
                    </a:moveTo>
                    <a:lnTo>
                      <a:pt x="0" y="18"/>
                    </a:lnTo>
                    <a:lnTo>
                      <a:pt x="72" y="25"/>
                    </a:lnTo>
                    <a:lnTo>
                      <a:pt x="74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441520" y="3591000"/>
                <a:ext cx="7920" cy="2844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2" y="0"/>
                    </a:moveTo>
                    <a:lnTo>
                      <a:pt x="0" y="18"/>
                    </a:lnTo>
                    <a:lnTo>
                      <a:pt x="3" y="18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438280" y="3532320"/>
                <a:ext cx="152640" cy="147600"/>
              </a:xfrm>
              <a:custGeom>
                <a:avLst/>
                <a:gdLst/>
                <a:ahLst/>
                <a:rect l="l" t="t" r="r" b="b"/>
                <a:pathLst>
                  <a:path w="96" h="93">
                    <a:moveTo>
                      <a:pt x="0" y="93"/>
                    </a:moveTo>
                    <a:lnTo>
                      <a:pt x="96" y="55"/>
                    </a:lnTo>
                    <a:lnTo>
                      <a:pt x="9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1324080" y="3848040"/>
              <a:ext cx="1266840" cy="1495440"/>
              <a:chOff x="1324080" y="3848040"/>
              <a:chExt cx="1266840" cy="1495440"/>
            </a:xfrm>
          </p:grpSpPr>
          <p:sp>
            <p:nvSpPr>
              <p:cNvPr id="1349" name=""/>
              <p:cNvSpPr/>
              <p:nvPr/>
            </p:nvSpPr>
            <p:spPr>
              <a:xfrm>
                <a:off x="1324080" y="5237280"/>
                <a:ext cx="93600" cy="106200"/>
              </a:xfrm>
              <a:custGeom>
                <a:avLst/>
                <a:gdLst/>
                <a:ahLst/>
                <a:rect l="l" t="t" r="r" b="b"/>
                <a:pathLst>
                  <a:path w="59" h="67">
                    <a:moveTo>
                      <a:pt x="0" y="55"/>
                    </a:moveTo>
                    <a:lnTo>
                      <a:pt x="13" y="67"/>
                    </a:lnTo>
                    <a:lnTo>
                      <a:pt x="59" y="12"/>
                    </a:lnTo>
                    <a:lnTo>
                      <a:pt x="46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452600" y="5084640"/>
                <a:ext cx="93600" cy="106560"/>
              </a:xfrm>
              <a:custGeom>
                <a:avLst/>
                <a:gdLst/>
                <a:ahLst/>
                <a:rect l="l" t="t" r="r" b="b"/>
                <a:pathLst>
                  <a:path w="59" h="67">
                    <a:moveTo>
                      <a:pt x="0" y="55"/>
                    </a:moveTo>
                    <a:lnTo>
                      <a:pt x="13" y="67"/>
                    </a:lnTo>
                    <a:lnTo>
                      <a:pt x="59" y="12"/>
                    </a:lnTo>
                    <a:lnTo>
                      <a:pt x="46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581120" y="4932360"/>
                <a:ext cx="95400" cy="106200"/>
              </a:xfrm>
              <a:custGeom>
                <a:avLst/>
                <a:gdLst/>
                <a:ahLst/>
                <a:rect l="l" t="t" r="r" b="b"/>
                <a:pathLst>
                  <a:path w="60" h="67">
                    <a:moveTo>
                      <a:pt x="0" y="55"/>
                    </a:moveTo>
                    <a:lnTo>
                      <a:pt x="13" y="67"/>
                    </a:lnTo>
                    <a:lnTo>
                      <a:pt x="60" y="12"/>
                    </a:lnTo>
                    <a:lnTo>
                      <a:pt x="4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711440" y="4780080"/>
                <a:ext cx="93600" cy="106200"/>
              </a:xfrm>
              <a:custGeom>
                <a:avLst/>
                <a:gdLst/>
                <a:ahLst/>
                <a:rect l="l" t="t" r="r" b="b"/>
                <a:pathLst>
                  <a:path w="59" h="67">
                    <a:moveTo>
                      <a:pt x="0" y="55"/>
                    </a:moveTo>
                    <a:lnTo>
                      <a:pt x="13" y="67"/>
                    </a:lnTo>
                    <a:lnTo>
                      <a:pt x="59" y="12"/>
                    </a:lnTo>
                    <a:lnTo>
                      <a:pt x="46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839960" y="4626000"/>
                <a:ext cx="95040" cy="106200"/>
              </a:xfrm>
              <a:custGeom>
                <a:avLst/>
                <a:gdLst/>
                <a:ahLst/>
                <a:rect l="l" t="t" r="r" b="b"/>
                <a:pathLst>
                  <a:path w="60" h="67">
                    <a:moveTo>
                      <a:pt x="0" y="55"/>
                    </a:moveTo>
                    <a:lnTo>
                      <a:pt x="13" y="67"/>
                    </a:lnTo>
                    <a:lnTo>
                      <a:pt x="60" y="12"/>
                    </a:lnTo>
                    <a:lnTo>
                      <a:pt x="4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969920" y="4473720"/>
                <a:ext cx="93960" cy="106200"/>
              </a:xfrm>
              <a:custGeom>
                <a:avLst/>
                <a:gdLst/>
                <a:ahLst/>
                <a:rect l="l" t="t" r="r" b="b"/>
                <a:pathLst>
                  <a:path w="59" h="67">
                    <a:moveTo>
                      <a:pt x="0" y="55"/>
                    </a:moveTo>
                    <a:lnTo>
                      <a:pt x="13" y="67"/>
                    </a:lnTo>
                    <a:lnTo>
                      <a:pt x="59" y="12"/>
                    </a:lnTo>
                    <a:lnTo>
                      <a:pt x="46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098800" y="4321080"/>
                <a:ext cx="95040" cy="106560"/>
              </a:xfrm>
              <a:custGeom>
                <a:avLst/>
                <a:gdLst/>
                <a:ahLst/>
                <a:rect l="l" t="t" r="r" b="b"/>
                <a:pathLst>
                  <a:path w="60" h="67">
                    <a:moveTo>
                      <a:pt x="0" y="55"/>
                    </a:moveTo>
                    <a:lnTo>
                      <a:pt x="13" y="67"/>
                    </a:lnTo>
                    <a:lnTo>
                      <a:pt x="60" y="12"/>
                    </a:lnTo>
                    <a:lnTo>
                      <a:pt x="4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227320" y="4168800"/>
                <a:ext cx="95040" cy="106200"/>
              </a:xfrm>
              <a:custGeom>
                <a:avLst/>
                <a:gdLst/>
                <a:ahLst/>
                <a:rect l="l" t="t" r="r" b="b"/>
                <a:pathLst>
                  <a:path w="60" h="67">
                    <a:moveTo>
                      <a:pt x="0" y="55"/>
                    </a:moveTo>
                    <a:lnTo>
                      <a:pt x="13" y="67"/>
                    </a:lnTo>
                    <a:lnTo>
                      <a:pt x="60" y="12"/>
                    </a:lnTo>
                    <a:lnTo>
                      <a:pt x="4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357280" y="4016520"/>
                <a:ext cx="93960" cy="106200"/>
              </a:xfrm>
              <a:custGeom>
                <a:avLst/>
                <a:gdLst/>
                <a:ahLst/>
                <a:rect l="l" t="t" r="r" b="b"/>
                <a:pathLst>
                  <a:path w="59" h="67">
                    <a:moveTo>
                      <a:pt x="0" y="55"/>
                    </a:moveTo>
                    <a:lnTo>
                      <a:pt x="13" y="67"/>
                    </a:lnTo>
                    <a:lnTo>
                      <a:pt x="59" y="12"/>
                    </a:lnTo>
                    <a:lnTo>
                      <a:pt x="46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486160" y="394668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3"/>
                    </a:moveTo>
                    <a:lnTo>
                      <a:pt x="13" y="15"/>
                    </a:lnTo>
                    <a:lnTo>
                      <a:pt x="16" y="12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441520" y="3848040"/>
                <a:ext cx="149400" cy="160560"/>
              </a:xfrm>
              <a:custGeom>
                <a:avLst/>
                <a:gdLst/>
                <a:ahLst/>
                <a:rect l="l" t="t" r="r" b="b"/>
                <a:pathLst>
                  <a:path w="94" h="101">
                    <a:moveTo>
                      <a:pt x="71" y="101"/>
                    </a:moveTo>
                    <a:lnTo>
                      <a:pt x="94" y="0"/>
                    </a:lnTo>
                    <a:lnTo>
                      <a:pt x="0" y="41"/>
                    </a:lnTo>
                    <a:lnTo>
                      <a:pt x="71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2782800" y="3848040"/>
              <a:ext cx="393840" cy="1374840"/>
              <a:chOff x="2782800" y="3848040"/>
              <a:chExt cx="393840" cy="1374840"/>
            </a:xfrm>
          </p:grpSpPr>
          <p:sp>
            <p:nvSpPr>
              <p:cNvPr id="1361" name=""/>
              <p:cNvSpPr/>
              <p:nvPr/>
            </p:nvSpPr>
            <p:spPr>
              <a:xfrm>
                <a:off x="3121200" y="5105520"/>
                <a:ext cx="55440" cy="11736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18" y="74"/>
                    </a:moveTo>
                    <a:lnTo>
                      <a:pt x="35" y="70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18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3073320" y="4911840"/>
                <a:ext cx="54000" cy="117360"/>
              </a:xfrm>
              <a:custGeom>
                <a:avLst/>
                <a:gdLst/>
                <a:ahLst/>
                <a:rect l="l" t="t" r="r" b="b"/>
                <a:pathLst>
                  <a:path w="34" h="74">
                    <a:moveTo>
                      <a:pt x="17" y="74"/>
                    </a:moveTo>
                    <a:lnTo>
                      <a:pt x="34" y="70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17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3024360" y="4718160"/>
                <a:ext cx="53640" cy="117360"/>
              </a:xfrm>
              <a:custGeom>
                <a:avLst/>
                <a:gdLst/>
                <a:ahLst/>
                <a:rect l="l" t="t" r="r" b="b"/>
                <a:pathLst>
                  <a:path w="34" h="74">
                    <a:moveTo>
                      <a:pt x="17" y="74"/>
                    </a:moveTo>
                    <a:lnTo>
                      <a:pt x="34" y="70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17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2975040" y="4522680"/>
                <a:ext cx="55440" cy="11772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18" y="74"/>
                    </a:moveTo>
                    <a:lnTo>
                      <a:pt x="35" y="70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18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927520" y="4329000"/>
                <a:ext cx="53640" cy="117720"/>
              </a:xfrm>
              <a:custGeom>
                <a:avLst/>
                <a:gdLst/>
                <a:ahLst/>
                <a:rect l="l" t="t" r="r" b="b"/>
                <a:pathLst>
                  <a:path w="34" h="74">
                    <a:moveTo>
                      <a:pt x="17" y="74"/>
                    </a:moveTo>
                    <a:lnTo>
                      <a:pt x="34" y="70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17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878200" y="4135320"/>
                <a:ext cx="55440" cy="11772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18" y="74"/>
                    </a:moveTo>
                    <a:lnTo>
                      <a:pt x="35" y="70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18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841480" y="3983040"/>
                <a:ext cx="42840" cy="76320"/>
              </a:xfrm>
              <a:custGeom>
                <a:avLst/>
                <a:gdLst/>
                <a:ahLst/>
                <a:rect l="l" t="t" r="r" b="b"/>
                <a:pathLst>
                  <a:path w="27" h="48">
                    <a:moveTo>
                      <a:pt x="10" y="48"/>
                    </a:moveTo>
                    <a:lnTo>
                      <a:pt x="27" y="44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1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782800" y="3848040"/>
                <a:ext cx="144720" cy="158760"/>
              </a:xfrm>
              <a:custGeom>
                <a:avLst/>
                <a:gdLst/>
                <a:ahLst/>
                <a:rect l="l" t="t" r="r" b="b"/>
                <a:pathLst>
                  <a:path w="91" h="100">
                    <a:moveTo>
                      <a:pt x="91" y="78"/>
                    </a:moveTo>
                    <a:lnTo>
                      <a:pt x="23" y="0"/>
                    </a:lnTo>
                    <a:lnTo>
                      <a:pt x="0" y="100"/>
                    </a:lnTo>
                    <a:lnTo>
                      <a:pt x="91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2933640" y="2009880"/>
              <a:ext cx="1268640" cy="1495440"/>
              <a:chOff x="2933640" y="2009880"/>
              <a:chExt cx="1268640" cy="1495440"/>
            </a:xfrm>
          </p:grpSpPr>
          <p:sp>
            <p:nvSpPr>
              <p:cNvPr id="1370" name=""/>
              <p:cNvSpPr/>
              <p:nvPr/>
            </p:nvSpPr>
            <p:spPr>
              <a:xfrm>
                <a:off x="4106880" y="2009880"/>
                <a:ext cx="95400" cy="106200"/>
              </a:xfrm>
              <a:custGeom>
                <a:avLst/>
                <a:gdLst/>
                <a:ahLst/>
                <a:rect l="l" t="t" r="r" b="b"/>
                <a:pathLst>
                  <a:path w="60" h="67">
                    <a:moveTo>
                      <a:pt x="60" y="12"/>
                    </a:moveTo>
                    <a:lnTo>
                      <a:pt x="47" y="0"/>
                    </a:lnTo>
                    <a:lnTo>
                      <a:pt x="0" y="55"/>
                    </a:lnTo>
                    <a:lnTo>
                      <a:pt x="13" y="67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978360" y="2162160"/>
                <a:ext cx="93600" cy="106200"/>
              </a:xfrm>
              <a:custGeom>
                <a:avLst/>
                <a:gdLst/>
                <a:ahLst/>
                <a:rect l="l" t="t" r="r" b="b"/>
                <a:pathLst>
                  <a:path w="59" h="67">
                    <a:moveTo>
                      <a:pt x="59" y="12"/>
                    </a:moveTo>
                    <a:lnTo>
                      <a:pt x="46" y="0"/>
                    </a:lnTo>
                    <a:lnTo>
                      <a:pt x="0" y="55"/>
                    </a:lnTo>
                    <a:lnTo>
                      <a:pt x="13" y="67"/>
                    </a:lnTo>
                    <a:lnTo>
                      <a:pt x="5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3848040" y="2314440"/>
                <a:ext cx="95400" cy="106560"/>
              </a:xfrm>
              <a:custGeom>
                <a:avLst/>
                <a:gdLst/>
                <a:ahLst/>
                <a:rect l="l" t="t" r="r" b="b"/>
                <a:pathLst>
                  <a:path w="60" h="67">
                    <a:moveTo>
                      <a:pt x="60" y="12"/>
                    </a:moveTo>
                    <a:lnTo>
                      <a:pt x="47" y="0"/>
                    </a:lnTo>
                    <a:lnTo>
                      <a:pt x="0" y="55"/>
                    </a:lnTo>
                    <a:lnTo>
                      <a:pt x="13" y="67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3719520" y="2467080"/>
                <a:ext cx="93600" cy="106200"/>
              </a:xfrm>
              <a:custGeom>
                <a:avLst/>
                <a:gdLst/>
                <a:ahLst/>
                <a:rect l="l" t="t" r="r" b="b"/>
                <a:pathLst>
                  <a:path w="59" h="67">
                    <a:moveTo>
                      <a:pt x="59" y="12"/>
                    </a:moveTo>
                    <a:lnTo>
                      <a:pt x="46" y="0"/>
                    </a:lnTo>
                    <a:lnTo>
                      <a:pt x="0" y="55"/>
                    </a:lnTo>
                    <a:lnTo>
                      <a:pt x="13" y="67"/>
                    </a:lnTo>
                    <a:lnTo>
                      <a:pt x="5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3589200" y="2620800"/>
                <a:ext cx="95400" cy="106560"/>
              </a:xfrm>
              <a:custGeom>
                <a:avLst/>
                <a:gdLst/>
                <a:ahLst/>
                <a:rect l="l" t="t" r="r" b="b"/>
                <a:pathLst>
                  <a:path w="60" h="67">
                    <a:moveTo>
                      <a:pt x="60" y="12"/>
                    </a:moveTo>
                    <a:lnTo>
                      <a:pt x="47" y="0"/>
                    </a:lnTo>
                    <a:lnTo>
                      <a:pt x="0" y="55"/>
                    </a:lnTo>
                    <a:lnTo>
                      <a:pt x="13" y="67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460680" y="2773440"/>
                <a:ext cx="93600" cy="106200"/>
              </a:xfrm>
              <a:custGeom>
                <a:avLst/>
                <a:gdLst/>
                <a:ahLst/>
                <a:rect l="l" t="t" r="r" b="b"/>
                <a:pathLst>
                  <a:path w="59" h="67">
                    <a:moveTo>
                      <a:pt x="59" y="12"/>
                    </a:moveTo>
                    <a:lnTo>
                      <a:pt x="46" y="0"/>
                    </a:lnTo>
                    <a:lnTo>
                      <a:pt x="0" y="55"/>
                    </a:lnTo>
                    <a:lnTo>
                      <a:pt x="13" y="67"/>
                    </a:lnTo>
                    <a:lnTo>
                      <a:pt x="5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330720" y="2925720"/>
                <a:ext cx="95040" cy="106560"/>
              </a:xfrm>
              <a:custGeom>
                <a:avLst/>
                <a:gdLst/>
                <a:ahLst/>
                <a:rect l="l" t="t" r="r" b="b"/>
                <a:pathLst>
                  <a:path w="60" h="67">
                    <a:moveTo>
                      <a:pt x="60" y="12"/>
                    </a:moveTo>
                    <a:lnTo>
                      <a:pt x="47" y="0"/>
                    </a:lnTo>
                    <a:lnTo>
                      <a:pt x="0" y="55"/>
                    </a:lnTo>
                    <a:lnTo>
                      <a:pt x="13" y="67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3201840" y="3078000"/>
                <a:ext cx="95400" cy="106560"/>
              </a:xfrm>
              <a:custGeom>
                <a:avLst/>
                <a:gdLst/>
                <a:ahLst/>
                <a:rect l="l" t="t" r="r" b="b"/>
                <a:pathLst>
                  <a:path w="60" h="67">
                    <a:moveTo>
                      <a:pt x="60" y="12"/>
                    </a:moveTo>
                    <a:lnTo>
                      <a:pt x="47" y="0"/>
                    </a:lnTo>
                    <a:lnTo>
                      <a:pt x="0" y="55"/>
                    </a:lnTo>
                    <a:lnTo>
                      <a:pt x="13" y="67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073320" y="3230640"/>
                <a:ext cx="93600" cy="106200"/>
              </a:xfrm>
              <a:custGeom>
                <a:avLst/>
                <a:gdLst/>
                <a:ahLst/>
                <a:rect l="l" t="t" r="r" b="b"/>
                <a:pathLst>
                  <a:path w="59" h="67">
                    <a:moveTo>
                      <a:pt x="59" y="12"/>
                    </a:moveTo>
                    <a:lnTo>
                      <a:pt x="46" y="0"/>
                    </a:lnTo>
                    <a:lnTo>
                      <a:pt x="0" y="55"/>
                    </a:lnTo>
                    <a:lnTo>
                      <a:pt x="13" y="67"/>
                    </a:lnTo>
                    <a:lnTo>
                      <a:pt x="5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3014640" y="338292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12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13" y="15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933640" y="3344760"/>
                <a:ext cx="149400" cy="160560"/>
              </a:xfrm>
              <a:custGeom>
                <a:avLst/>
                <a:gdLst/>
                <a:ahLst/>
                <a:rect l="l" t="t" r="r" b="b"/>
                <a:pathLst>
                  <a:path w="94" h="101">
                    <a:moveTo>
                      <a:pt x="23" y="0"/>
                    </a:moveTo>
                    <a:lnTo>
                      <a:pt x="0" y="101"/>
                    </a:lnTo>
                    <a:lnTo>
                      <a:pt x="94" y="6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2933640" y="3689280"/>
              <a:ext cx="1146240" cy="287280"/>
              <a:chOff x="2933640" y="3689280"/>
              <a:chExt cx="1146240" cy="287280"/>
            </a:xfrm>
          </p:grpSpPr>
          <p:sp>
            <p:nvSpPr>
              <p:cNvPr id="1382" name=""/>
              <p:cNvSpPr/>
              <p:nvPr/>
            </p:nvSpPr>
            <p:spPr>
              <a:xfrm>
                <a:off x="3962520" y="3925800"/>
                <a:ext cx="117360" cy="50760"/>
              </a:xfrm>
              <a:custGeom>
                <a:avLst/>
                <a:gdLst/>
                <a:ahLst/>
                <a:rect l="l" t="t" r="r" b="b"/>
                <a:pathLst>
                  <a:path w="74" h="32">
                    <a:moveTo>
                      <a:pt x="71" y="32"/>
                    </a:moveTo>
                    <a:lnTo>
                      <a:pt x="74" y="15"/>
                    </a:lnTo>
                    <a:lnTo>
                      <a:pt x="3" y="0"/>
                    </a:lnTo>
                    <a:lnTo>
                      <a:pt x="0" y="17"/>
                    </a:lnTo>
                    <a:lnTo>
                      <a:pt x="7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3765600" y="3887640"/>
                <a:ext cx="117360" cy="4932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71" y="31"/>
                    </a:moveTo>
                    <a:lnTo>
                      <a:pt x="74" y="14"/>
                    </a:lnTo>
                    <a:lnTo>
                      <a:pt x="3" y="0"/>
                    </a:lnTo>
                    <a:lnTo>
                      <a:pt x="0" y="17"/>
                    </a:lnTo>
                    <a:lnTo>
                      <a:pt x="7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3570120" y="3848040"/>
                <a:ext cx="115920" cy="49320"/>
              </a:xfrm>
              <a:custGeom>
                <a:avLst/>
                <a:gdLst/>
                <a:ahLst/>
                <a:rect l="l" t="t" r="r" b="b"/>
                <a:pathLst>
                  <a:path w="73" h="31">
                    <a:moveTo>
                      <a:pt x="70" y="31"/>
                    </a:moveTo>
                    <a:lnTo>
                      <a:pt x="73" y="14"/>
                    </a:lnTo>
                    <a:lnTo>
                      <a:pt x="3" y="0"/>
                    </a:lnTo>
                    <a:lnTo>
                      <a:pt x="0" y="17"/>
                    </a:lnTo>
                    <a:lnTo>
                      <a:pt x="7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3373560" y="3809880"/>
                <a:ext cx="117360" cy="4932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71" y="31"/>
                    </a:moveTo>
                    <a:lnTo>
                      <a:pt x="74" y="14"/>
                    </a:lnTo>
                    <a:lnTo>
                      <a:pt x="3" y="0"/>
                    </a:lnTo>
                    <a:lnTo>
                      <a:pt x="0" y="17"/>
                    </a:lnTo>
                    <a:lnTo>
                      <a:pt x="7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3178080" y="3770280"/>
                <a:ext cx="115920" cy="49320"/>
              </a:xfrm>
              <a:custGeom>
                <a:avLst/>
                <a:gdLst/>
                <a:ahLst/>
                <a:rect l="l" t="t" r="r" b="b"/>
                <a:pathLst>
                  <a:path w="73" h="31">
                    <a:moveTo>
                      <a:pt x="70" y="31"/>
                    </a:moveTo>
                    <a:lnTo>
                      <a:pt x="73" y="14"/>
                    </a:lnTo>
                    <a:lnTo>
                      <a:pt x="3" y="0"/>
                    </a:lnTo>
                    <a:lnTo>
                      <a:pt x="0" y="17"/>
                    </a:lnTo>
                    <a:lnTo>
                      <a:pt x="7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3071880" y="374976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4" y="19"/>
                    </a:moveTo>
                    <a:lnTo>
                      <a:pt x="17" y="2"/>
                    </a:lnTo>
                    <a:lnTo>
                      <a:pt x="3" y="0"/>
                    </a:lnTo>
                    <a:lnTo>
                      <a:pt x="0" y="17"/>
                    </a:lnTo>
                    <a:lnTo>
                      <a:pt x="1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933640" y="3689280"/>
                <a:ext cx="157320" cy="144360"/>
              </a:xfrm>
              <a:custGeom>
                <a:avLst/>
                <a:gdLst/>
                <a:ahLst/>
                <a:rect l="l" t="t" r="r" b="b"/>
                <a:pathLst>
                  <a:path w="99" h="91">
                    <a:moveTo>
                      <a:pt x="99" y="0"/>
                    </a:moveTo>
                    <a:lnTo>
                      <a:pt x="0" y="28"/>
                    </a:lnTo>
                    <a:lnTo>
                      <a:pt x="81" y="91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2933640" y="3492360"/>
              <a:ext cx="347760" cy="150840"/>
              <a:chOff x="2933640" y="3492360"/>
              <a:chExt cx="347760" cy="150840"/>
            </a:xfrm>
          </p:grpSpPr>
          <p:sp>
            <p:nvSpPr>
              <p:cNvPr id="1390" name=""/>
              <p:cNvSpPr/>
              <p:nvPr/>
            </p:nvSpPr>
            <p:spPr>
              <a:xfrm>
                <a:off x="3164040" y="3492360"/>
                <a:ext cx="117360" cy="61920"/>
              </a:xfrm>
              <a:custGeom>
                <a:avLst/>
                <a:gdLst/>
                <a:ahLst/>
                <a:rect l="l" t="t" r="r" b="b"/>
                <a:pathLst>
                  <a:path w="74" h="39">
                    <a:moveTo>
                      <a:pt x="74" y="17"/>
                    </a:moveTo>
                    <a:lnTo>
                      <a:pt x="68" y="0"/>
                    </a:lnTo>
                    <a:lnTo>
                      <a:pt x="0" y="22"/>
                    </a:lnTo>
                    <a:lnTo>
                      <a:pt x="6" y="39"/>
                    </a:lnTo>
                    <a:lnTo>
                      <a:pt x="7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3063960" y="35542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17"/>
                    </a:moveTo>
                    <a:lnTo>
                      <a:pt x="11" y="0"/>
                    </a:lnTo>
                    <a:lnTo>
                      <a:pt x="0" y="4"/>
                    </a:lnTo>
                    <a:lnTo>
                      <a:pt x="6" y="21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933640" y="3502080"/>
                <a:ext cx="162000" cy="141120"/>
              </a:xfrm>
              <a:custGeom>
                <a:avLst/>
                <a:gdLst/>
                <a:ahLst/>
                <a:rect l="l" t="t" r="r" b="b"/>
                <a:pathLst>
                  <a:path w="102" h="89">
                    <a:moveTo>
                      <a:pt x="72" y="0"/>
                    </a:moveTo>
                    <a:lnTo>
                      <a:pt x="0" y="74"/>
                    </a:lnTo>
                    <a:lnTo>
                      <a:pt x="102" y="89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2239920" y="3733920"/>
              <a:ext cx="351000" cy="241200"/>
              <a:chOff x="2239920" y="3733920"/>
              <a:chExt cx="351000" cy="241200"/>
            </a:xfrm>
          </p:grpSpPr>
          <p:sp>
            <p:nvSpPr>
              <p:cNvPr id="1394" name=""/>
              <p:cNvSpPr/>
              <p:nvPr/>
            </p:nvSpPr>
            <p:spPr>
              <a:xfrm>
                <a:off x="2239920" y="3886200"/>
                <a:ext cx="111240" cy="88920"/>
              </a:xfrm>
              <a:custGeom>
                <a:avLst/>
                <a:gdLst/>
                <a:ahLst/>
                <a:rect l="l" t="t" r="r" b="b"/>
                <a:pathLst>
                  <a:path w="70" h="56">
                    <a:moveTo>
                      <a:pt x="0" y="41"/>
                    </a:moveTo>
                    <a:lnTo>
                      <a:pt x="10" y="56"/>
                    </a:lnTo>
                    <a:lnTo>
                      <a:pt x="70" y="15"/>
                    </a:lnTo>
                    <a:lnTo>
                      <a:pt x="60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405160" y="3800520"/>
                <a:ext cx="74520" cy="61920"/>
              </a:xfrm>
              <a:custGeom>
                <a:avLst/>
                <a:gdLst/>
                <a:ahLst/>
                <a:rect l="l" t="t" r="r" b="b"/>
                <a:pathLst>
                  <a:path w="47" h="39">
                    <a:moveTo>
                      <a:pt x="0" y="24"/>
                    </a:moveTo>
                    <a:lnTo>
                      <a:pt x="10" y="39"/>
                    </a:lnTo>
                    <a:lnTo>
                      <a:pt x="47" y="15"/>
                    </a:lnTo>
                    <a:lnTo>
                      <a:pt x="37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428920" y="3733920"/>
                <a:ext cx="162000" cy="142920"/>
              </a:xfrm>
              <a:custGeom>
                <a:avLst/>
                <a:gdLst/>
                <a:ahLst/>
                <a:rect l="l" t="t" r="r" b="b"/>
                <a:pathLst>
                  <a:path w="102" h="90">
                    <a:moveTo>
                      <a:pt x="51" y="90"/>
                    </a:moveTo>
                    <a:lnTo>
                      <a:pt x="102" y="0"/>
                    </a:lnTo>
                    <a:lnTo>
                      <a:pt x="0" y="12"/>
                    </a:lnTo>
                    <a:lnTo>
                      <a:pt x="51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7" name=""/>
            <p:cNvSpPr/>
            <p:nvPr/>
          </p:nvSpPr>
          <p:spPr>
            <a:xfrm>
              <a:off x="990720" y="2133720"/>
              <a:ext cx="458640" cy="4586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119240" y="2235240"/>
              <a:ext cx="16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0000"/>
                  </a:solidFill>
                  <a:latin typeface="Century"/>
                </a:rPr>
                <a:t>e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048120" y="990720"/>
              <a:ext cx="458640" cy="4586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176640" y="1092240"/>
              <a:ext cx="16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0000"/>
                  </a:solidFill>
                  <a:latin typeface="Century"/>
                </a:rPr>
                <a:t>e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076640" y="2590920"/>
              <a:ext cx="459000" cy="4586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205160" y="2692440"/>
              <a:ext cx="16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0000"/>
                  </a:solidFill>
                  <a:latin typeface="Century"/>
                </a:rPr>
                <a:t>e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05120" y="3619440"/>
              <a:ext cx="458640" cy="459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905120" y="5905440"/>
              <a:ext cx="458640" cy="459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027160" y="6008760"/>
              <a:ext cx="16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0000"/>
                  </a:solidFill>
                  <a:latin typeface="Century"/>
                </a:rPr>
                <a:t>e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990720" y="4305240"/>
              <a:ext cx="458640" cy="459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141560" y="4406760"/>
              <a:ext cx="16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0000"/>
                  </a:solidFill>
                  <a:latin typeface="Century"/>
                </a:rPr>
                <a:t>e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076640" y="4876920"/>
              <a:ext cx="459000" cy="4586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205160" y="4967280"/>
              <a:ext cx="16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0000"/>
                  </a:solidFill>
                  <a:latin typeface="Century"/>
                </a:rPr>
                <a:t>e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276720" y="3390840"/>
              <a:ext cx="458640" cy="459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425760" y="3492360"/>
              <a:ext cx="23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010000"/>
                </a:buClr>
                <a:buFont typeface="Century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0000"/>
                  </a:solidFill>
                  <a:latin typeface="Century"/>
                </a:rPr>
                <a:t>e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933640" y="3048120"/>
              <a:ext cx="801720" cy="801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3" name=""/>
            <p:cNvGrpSpPr/>
            <p:nvPr/>
          </p:nvGrpSpPr>
          <p:grpSpPr>
            <a:xfrm>
              <a:off x="1434960" y="2462040"/>
              <a:ext cx="1041480" cy="928800"/>
              <a:chOff x="1434960" y="2462040"/>
              <a:chExt cx="1041480" cy="928800"/>
            </a:xfrm>
          </p:grpSpPr>
          <p:sp>
            <p:nvSpPr>
              <p:cNvPr id="1414" name=""/>
              <p:cNvSpPr/>
              <p:nvPr/>
            </p:nvSpPr>
            <p:spPr>
              <a:xfrm>
                <a:off x="1434960" y="2462040"/>
                <a:ext cx="139680" cy="130320"/>
              </a:xfrm>
              <a:custGeom>
                <a:avLst/>
                <a:gdLst/>
                <a:ahLst/>
                <a:rect l="l" t="t" r="r" b="b"/>
                <a:pathLst>
                  <a:path w="88" h="82">
                    <a:moveTo>
                      <a:pt x="16" y="0"/>
                    </a:moveTo>
                    <a:lnTo>
                      <a:pt x="0" y="18"/>
                    </a:lnTo>
                    <a:lnTo>
                      <a:pt x="72" y="82"/>
                    </a:lnTo>
                    <a:lnTo>
                      <a:pt x="88" y="6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635120" y="2639880"/>
                <a:ext cx="138240" cy="128880"/>
              </a:xfrm>
              <a:custGeom>
                <a:avLst/>
                <a:gdLst/>
                <a:ahLst/>
                <a:rect l="l" t="t" r="r" b="b"/>
                <a:pathLst>
                  <a:path w="87" h="81">
                    <a:moveTo>
                      <a:pt x="16" y="0"/>
                    </a:moveTo>
                    <a:lnTo>
                      <a:pt x="0" y="18"/>
                    </a:lnTo>
                    <a:lnTo>
                      <a:pt x="71" y="81"/>
                    </a:lnTo>
                    <a:lnTo>
                      <a:pt x="87" y="6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833480" y="2816280"/>
                <a:ext cx="139680" cy="129960"/>
              </a:xfrm>
              <a:custGeom>
                <a:avLst/>
                <a:gdLst/>
                <a:ahLst/>
                <a:rect l="l" t="t" r="r" b="b"/>
                <a:pathLst>
                  <a:path w="88" h="82">
                    <a:moveTo>
                      <a:pt x="16" y="0"/>
                    </a:moveTo>
                    <a:lnTo>
                      <a:pt x="0" y="18"/>
                    </a:lnTo>
                    <a:lnTo>
                      <a:pt x="72" y="82"/>
                    </a:lnTo>
                    <a:lnTo>
                      <a:pt x="88" y="6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033640" y="2994120"/>
                <a:ext cx="138240" cy="129960"/>
              </a:xfrm>
              <a:custGeom>
                <a:avLst/>
                <a:gdLst/>
                <a:ahLst/>
                <a:rect l="l" t="t" r="r" b="b"/>
                <a:pathLst>
                  <a:path w="87" h="82">
                    <a:moveTo>
                      <a:pt x="16" y="0"/>
                    </a:moveTo>
                    <a:lnTo>
                      <a:pt x="0" y="18"/>
                    </a:lnTo>
                    <a:lnTo>
                      <a:pt x="71" y="82"/>
                    </a:lnTo>
                    <a:lnTo>
                      <a:pt x="87" y="6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232000" y="3171960"/>
                <a:ext cx="133200" cy="12384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6" y="0"/>
                    </a:moveTo>
                    <a:lnTo>
                      <a:pt x="0" y="18"/>
                    </a:lnTo>
                    <a:lnTo>
                      <a:pt x="68" y="78"/>
                    </a:lnTo>
                    <a:lnTo>
                      <a:pt x="84" y="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292480" y="3214800"/>
                <a:ext cx="183960" cy="176040"/>
              </a:xfrm>
              <a:custGeom>
                <a:avLst/>
                <a:gdLst/>
                <a:ahLst/>
                <a:rect l="l" t="t" r="r" b="b"/>
                <a:pathLst>
                  <a:path w="116" h="111">
                    <a:moveTo>
                      <a:pt x="0" y="80"/>
                    </a:moveTo>
                    <a:lnTo>
                      <a:pt x="116" y="111"/>
                    </a:lnTo>
                    <a:lnTo>
                      <a:pt x="71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2766960" y="1444680"/>
              <a:ext cx="414360" cy="1832040"/>
              <a:chOff x="2766960" y="1444680"/>
              <a:chExt cx="414360" cy="1832040"/>
            </a:xfrm>
          </p:grpSpPr>
          <p:sp>
            <p:nvSpPr>
              <p:cNvPr id="1421" name=""/>
              <p:cNvSpPr/>
              <p:nvPr/>
            </p:nvSpPr>
            <p:spPr>
              <a:xfrm>
                <a:off x="3116160" y="1444680"/>
                <a:ext cx="65160" cy="156960"/>
              </a:xfrm>
              <a:custGeom>
                <a:avLst/>
                <a:gdLst/>
                <a:ahLst/>
                <a:rect l="l" t="t" r="r" b="b"/>
                <a:pathLst>
                  <a:path w="41" h="99">
                    <a:moveTo>
                      <a:pt x="41" y="5"/>
                    </a:moveTo>
                    <a:lnTo>
                      <a:pt x="18" y="0"/>
                    </a:lnTo>
                    <a:lnTo>
                      <a:pt x="0" y="94"/>
                    </a:lnTo>
                    <a:lnTo>
                      <a:pt x="23" y="99"/>
                    </a:lnTo>
                    <a:lnTo>
                      <a:pt x="41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067200" y="1706400"/>
                <a:ext cx="64800" cy="157320"/>
              </a:xfrm>
              <a:custGeom>
                <a:avLst/>
                <a:gdLst/>
                <a:ahLst/>
                <a:rect l="l" t="t" r="r" b="b"/>
                <a:pathLst>
                  <a:path w="41" h="99">
                    <a:moveTo>
                      <a:pt x="41" y="5"/>
                    </a:moveTo>
                    <a:lnTo>
                      <a:pt x="18" y="0"/>
                    </a:lnTo>
                    <a:lnTo>
                      <a:pt x="0" y="94"/>
                    </a:lnTo>
                    <a:lnTo>
                      <a:pt x="23" y="99"/>
                    </a:lnTo>
                    <a:lnTo>
                      <a:pt x="41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017880" y="1968480"/>
                <a:ext cx="65160" cy="157320"/>
              </a:xfrm>
              <a:custGeom>
                <a:avLst/>
                <a:gdLst/>
                <a:ahLst/>
                <a:rect l="l" t="t" r="r" b="b"/>
                <a:pathLst>
                  <a:path w="41" h="99">
                    <a:moveTo>
                      <a:pt x="41" y="5"/>
                    </a:moveTo>
                    <a:lnTo>
                      <a:pt x="18" y="0"/>
                    </a:lnTo>
                    <a:lnTo>
                      <a:pt x="0" y="94"/>
                    </a:lnTo>
                    <a:lnTo>
                      <a:pt x="23" y="99"/>
                    </a:lnTo>
                    <a:lnTo>
                      <a:pt x="41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968560" y="2230560"/>
                <a:ext cx="65160" cy="156960"/>
              </a:xfrm>
              <a:custGeom>
                <a:avLst/>
                <a:gdLst/>
                <a:ahLst/>
                <a:rect l="l" t="t" r="r" b="b"/>
                <a:pathLst>
                  <a:path w="41" h="99">
                    <a:moveTo>
                      <a:pt x="41" y="5"/>
                    </a:moveTo>
                    <a:lnTo>
                      <a:pt x="18" y="0"/>
                    </a:lnTo>
                    <a:lnTo>
                      <a:pt x="0" y="94"/>
                    </a:lnTo>
                    <a:lnTo>
                      <a:pt x="23" y="99"/>
                    </a:lnTo>
                    <a:lnTo>
                      <a:pt x="41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919240" y="2492280"/>
                <a:ext cx="65160" cy="157320"/>
              </a:xfrm>
              <a:custGeom>
                <a:avLst/>
                <a:gdLst/>
                <a:ahLst/>
                <a:rect l="l" t="t" r="r" b="b"/>
                <a:pathLst>
                  <a:path w="41" h="99">
                    <a:moveTo>
                      <a:pt x="41" y="5"/>
                    </a:moveTo>
                    <a:lnTo>
                      <a:pt x="18" y="0"/>
                    </a:lnTo>
                    <a:lnTo>
                      <a:pt x="0" y="94"/>
                    </a:lnTo>
                    <a:lnTo>
                      <a:pt x="23" y="99"/>
                    </a:lnTo>
                    <a:lnTo>
                      <a:pt x="41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2871720" y="2754360"/>
                <a:ext cx="63720" cy="158760"/>
              </a:xfrm>
              <a:custGeom>
                <a:avLst/>
                <a:gdLst/>
                <a:ahLst/>
                <a:rect l="l" t="t" r="r" b="b"/>
                <a:pathLst>
                  <a:path w="40" h="100">
                    <a:moveTo>
                      <a:pt x="40" y="5"/>
                    </a:moveTo>
                    <a:lnTo>
                      <a:pt x="17" y="0"/>
                    </a:lnTo>
                    <a:lnTo>
                      <a:pt x="0" y="95"/>
                    </a:lnTo>
                    <a:lnTo>
                      <a:pt x="23" y="100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833560" y="3016080"/>
                <a:ext cx="52560" cy="101880"/>
              </a:xfrm>
              <a:custGeom>
                <a:avLst/>
                <a:gdLst/>
                <a:ahLst/>
                <a:rect l="l" t="t" r="r" b="b"/>
                <a:pathLst>
                  <a:path w="33" h="64">
                    <a:moveTo>
                      <a:pt x="33" y="5"/>
                    </a:moveTo>
                    <a:lnTo>
                      <a:pt x="10" y="0"/>
                    </a:lnTo>
                    <a:lnTo>
                      <a:pt x="0" y="59"/>
                    </a:lnTo>
                    <a:lnTo>
                      <a:pt x="23" y="64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766960" y="3094200"/>
                <a:ext cx="166680" cy="182520"/>
              </a:xfrm>
              <a:custGeom>
                <a:avLst/>
                <a:gdLst/>
                <a:ahLst/>
                <a:rect l="l" t="t" r="r" b="b"/>
                <a:pathLst>
                  <a:path w="105" h="115">
                    <a:moveTo>
                      <a:pt x="0" y="0"/>
                    </a:moveTo>
                    <a:lnTo>
                      <a:pt x="33" y="115"/>
                    </a:lnTo>
                    <a:lnTo>
                      <a:pt x="105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3048120" y="2917800"/>
              <a:ext cx="1038240" cy="587520"/>
              <a:chOff x="3048120" y="2917800"/>
              <a:chExt cx="1038240" cy="587520"/>
            </a:xfrm>
          </p:grpSpPr>
          <p:sp>
            <p:nvSpPr>
              <p:cNvPr id="1430" name=""/>
              <p:cNvSpPr/>
              <p:nvPr/>
            </p:nvSpPr>
            <p:spPr>
              <a:xfrm>
                <a:off x="3935520" y="2917800"/>
                <a:ext cx="150840" cy="10656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95" y="21"/>
                    </a:moveTo>
                    <a:lnTo>
                      <a:pt x="84" y="0"/>
                    </a:lnTo>
                    <a:lnTo>
                      <a:pt x="0" y="46"/>
                    </a:lnTo>
                    <a:lnTo>
                      <a:pt x="11" y="67"/>
                    </a:lnTo>
                    <a:lnTo>
                      <a:pt x="95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701880" y="3046320"/>
                <a:ext cx="150840" cy="108000"/>
              </a:xfrm>
              <a:custGeom>
                <a:avLst/>
                <a:gdLst/>
                <a:ahLst/>
                <a:rect l="l" t="t" r="r" b="b"/>
                <a:pathLst>
                  <a:path w="95" h="68">
                    <a:moveTo>
                      <a:pt x="95" y="21"/>
                    </a:moveTo>
                    <a:lnTo>
                      <a:pt x="84" y="0"/>
                    </a:lnTo>
                    <a:lnTo>
                      <a:pt x="0" y="47"/>
                    </a:lnTo>
                    <a:lnTo>
                      <a:pt x="11" y="68"/>
                    </a:lnTo>
                    <a:lnTo>
                      <a:pt x="95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468600" y="3176640"/>
                <a:ext cx="150840" cy="108000"/>
              </a:xfrm>
              <a:custGeom>
                <a:avLst/>
                <a:gdLst/>
                <a:ahLst/>
                <a:rect l="l" t="t" r="r" b="b"/>
                <a:pathLst>
                  <a:path w="95" h="68">
                    <a:moveTo>
                      <a:pt x="95" y="21"/>
                    </a:moveTo>
                    <a:lnTo>
                      <a:pt x="84" y="0"/>
                    </a:lnTo>
                    <a:lnTo>
                      <a:pt x="0" y="47"/>
                    </a:lnTo>
                    <a:lnTo>
                      <a:pt x="11" y="68"/>
                    </a:lnTo>
                    <a:lnTo>
                      <a:pt x="95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235320" y="3306600"/>
                <a:ext cx="150840" cy="108000"/>
              </a:xfrm>
              <a:custGeom>
                <a:avLst/>
                <a:gdLst/>
                <a:ahLst/>
                <a:rect l="l" t="t" r="r" b="b"/>
                <a:pathLst>
                  <a:path w="95" h="68">
                    <a:moveTo>
                      <a:pt x="95" y="21"/>
                    </a:moveTo>
                    <a:lnTo>
                      <a:pt x="84" y="0"/>
                    </a:lnTo>
                    <a:lnTo>
                      <a:pt x="0" y="47"/>
                    </a:lnTo>
                    <a:lnTo>
                      <a:pt x="11" y="68"/>
                    </a:lnTo>
                    <a:lnTo>
                      <a:pt x="95" y="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048120" y="3348000"/>
                <a:ext cx="188640" cy="157320"/>
              </a:xfrm>
              <a:custGeom>
                <a:avLst/>
                <a:gdLst/>
                <a:ahLst/>
                <a:rect l="l" t="t" r="r" b="b"/>
                <a:pathLst>
                  <a:path w="119" h="99">
                    <a:moveTo>
                      <a:pt x="67" y="0"/>
                    </a:moveTo>
                    <a:lnTo>
                      <a:pt x="0" y="99"/>
                    </a:lnTo>
                    <a:lnTo>
                      <a:pt x="119" y="94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3048120" y="3962520"/>
              <a:ext cx="1042920" cy="1042920"/>
              <a:chOff x="3048120" y="3962520"/>
              <a:chExt cx="1042920" cy="1042920"/>
            </a:xfrm>
          </p:grpSpPr>
          <p:sp>
            <p:nvSpPr>
              <p:cNvPr id="1436" name=""/>
              <p:cNvSpPr/>
              <p:nvPr/>
            </p:nvSpPr>
            <p:spPr>
              <a:xfrm>
                <a:off x="3956040" y="4870440"/>
                <a:ext cx="135000" cy="135000"/>
              </a:xfrm>
              <a:custGeom>
                <a:avLst/>
                <a:gdLst/>
                <a:ahLst/>
                <a:rect l="l" t="t" r="r" b="b"/>
                <a:pathLst>
                  <a:path w="85" h="85">
                    <a:moveTo>
                      <a:pt x="68" y="85"/>
                    </a:moveTo>
                    <a:lnTo>
                      <a:pt x="85" y="68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68" y="8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767040" y="4681440"/>
                <a:ext cx="135000" cy="135000"/>
              </a:xfrm>
              <a:custGeom>
                <a:avLst/>
                <a:gdLst/>
                <a:ahLst/>
                <a:rect l="l" t="t" r="r" b="b"/>
                <a:pathLst>
                  <a:path w="85" h="85">
                    <a:moveTo>
                      <a:pt x="68" y="85"/>
                    </a:moveTo>
                    <a:lnTo>
                      <a:pt x="85" y="68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68" y="8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578400" y="4492800"/>
                <a:ext cx="134640" cy="134640"/>
              </a:xfrm>
              <a:custGeom>
                <a:avLst/>
                <a:gdLst/>
                <a:ahLst/>
                <a:rect l="l" t="t" r="r" b="b"/>
                <a:pathLst>
                  <a:path w="85" h="85">
                    <a:moveTo>
                      <a:pt x="68" y="85"/>
                    </a:moveTo>
                    <a:lnTo>
                      <a:pt x="85" y="68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68" y="8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389400" y="4303800"/>
                <a:ext cx="135000" cy="135000"/>
              </a:xfrm>
              <a:custGeom>
                <a:avLst/>
                <a:gdLst/>
                <a:ahLst/>
                <a:rect l="l" t="t" r="r" b="b"/>
                <a:pathLst>
                  <a:path w="85" h="85">
                    <a:moveTo>
                      <a:pt x="68" y="85"/>
                    </a:moveTo>
                    <a:lnTo>
                      <a:pt x="85" y="68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68" y="8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200400" y="4114800"/>
                <a:ext cx="135000" cy="135000"/>
              </a:xfrm>
              <a:custGeom>
                <a:avLst/>
                <a:gdLst/>
                <a:ahLst/>
                <a:rect l="l" t="t" r="r" b="b"/>
                <a:pathLst>
                  <a:path w="85" h="85">
                    <a:moveTo>
                      <a:pt x="68" y="85"/>
                    </a:moveTo>
                    <a:lnTo>
                      <a:pt x="85" y="68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68" y="8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048120" y="3962520"/>
                <a:ext cx="180720" cy="17928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114" y="37"/>
                    </a:moveTo>
                    <a:lnTo>
                      <a:pt x="0" y="0"/>
                    </a:lnTo>
                    <a:lnTo>
                      <a:pt x="38" y="113"/>
                    </a:lnTo>
                    <a:lnTo>
                      <a:pt x="114" y="3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2" name=""/>
            <p:cNvGrpSpPr/>
            <p:nvPr/>
          </p:nvGrpSpPr>
          <p:grpSpPr>
            <a:xfrm>
              <a:off x="2116080" y="3962520"/>
              <a:ext cx="623880" cy="1949400"/>
              <a:chOff x="2116080" y="3962520"/>
              <a:chExt cx="623880" cy="1949400"/>
            </a:xfrm>
          </p:grpSpPr>
          <p:sp>
            <p:nvSpPr>
              <p:cNvPr id="1443" name=""/>
              <p:cNvSpPr/>
              <p:nvPr/>
            </p:nvSpPr>
            <p:spPr>
              <a:xfrm>
                <a:off x="2116080" y="5753160"/>
                <a:ext cx="77760" cy="158760"/>
              </a:xfrm>
              <a:custGeom>
                <a:avLst/>
                <a:gdLst/>
                <a:ahLst/>
                <a:rect l="l" t="t" r="r" b="b"/>
                <a:pathLst>
                  <a:path w="49" h="100">
                    <a:moveTo>
                      <a:pt x="0" y="93"/>
                    </a:moveTo>
                    <a:lnTo>
                      <a:pt x="22" y="100"/>
                    </a:lnTo>
                    <a:lnTo>
                      <a:pt x="49" y="7"/>
                    </a:lnTo>
                    <a:lnTo>
                      <a:pt x="27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190600" y="5497560"/>
                <a:ext cx="77760" cy="156960"/>
              </a:xfrm>
              <a:custGeom>
                <a:avLst/>
                <a:gdLst/>
                <a:ahLst/>
                <a:rect l="l" t="t" r="r" b="b"/>
                <a:pathLst>
                  <a:path w="49" h="99">
                    <a:moveTo>
                      <a:pt x="0" y="92"/>
                    </a:moveTo>
                    <a:lnTo>
                      <a:pt x="22" y="99"/>
                    </a:lnTo>
                    <a:lnTo>
                      <a:pt x="49" y="7"/>
                    </a:lnTo>
                    <a:lnTo>
                      <a:pt x="27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266920" y="5241960"/>
                <a:ext cx="77760" cy="156960"/>
              </a:xfrm>
              <a:custGeom>
                <a:avLst/>
                <a:gdLst/>
                <a:ahLst/>
                <a:rect l="l" t="t" r="r" b="b"/>
                <a:pathLst>
                  <a:path w="49" h="99">
                    <a:moveTo>
                      <a:pt x="0" y="92"/>
                    </a:moveTo>
                    <a:lnTo>
                      <a:pt x="22" y="99"/>
                    </a:lnTo>
                    <a:lnTo>
                      <a:pt x="49" y="7"/>
                    </a:lnTo>
                    <a:lnTo>
                      <a:pt x="27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341440" y="4986360"/>
                <a:ext cx="77760" cy="157320"/>
              </a:xfrm>
              <a:custGeom>
                <a:avLst/>
                <a:gdLst/>
                <a:ahLst/>
                <a:rect l="l" t="t" r="r" b="b"/>
                <a:pathLst>
                  <a:path w="49" h="99">
                    <a:moveTo>
                      <a:pt x="0" y="92"/>
                    </a:moveTo>
                    <a:lnTo>
                      <a:pt x="22" y="99"/>
                    </a:lnTo>
                    <a:lnTo>
                      <a:pt x="49" y="7"/>
                    </a:lnTo>
                    <a:lnTo>
                      <a:pt x="27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416320" y="4730760"/>
                <a:ext cx="79200" cy="1573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0" y="92"/>
                    </a:moveTo>
                    <a:lnTo>
                      <a:pt x="22" y="99"/>
                    </a:lnTo>
                    <a:lnTo>
                      <a:pt x="50" y="7"/>
                    </a:lnTo>
                    <a:lnTo>
                      <a:pt x="28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492280" y="4473720"/>
                <a:ext cx="77760" cy="158760"/>
              </a:xfrm>
              <a:custGeom>
                <a:avLst/>
                <a:gdLst/>
                <a:ahLst/>
                <a:rect l="l" t="t" r="r" b="b"/>
                <a:pathLst>
                  <a:path w="49" h="100">
                    <a:moveTo>
                      <a:pt x="0" y="93"/>
                    </a:moveTo>
                    <a:lnTo>
                      <a:pt x="22" y="100"/>
                    </a:lnTo>
                    <a:lnTo>
                      <a:pt x="49" y="7"/>
                    </a:lnTo>
                    <a:lnTo>
                      <a:pt x="27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567160" y="4218120"/>
                <a:ext cx="77760" cy="156960"/>
              </a:xfrm>
              <a:custGeom>
                <a:avLst/>
                <a:gdLst/>
                <a:ahLst/>
                <a:rect l="l" t="t" r="r" b="b"/>
                <a:pathLst>
                  <a:path w="49" h="99">
                    <a:moveTo>
                      <a:pt x="0" y="92"/>
                    </a:moveTo>
                    <a:lnTo>
                      <a:pt x="22" y="99"/>
                    </a:lnTo>
                    <a:lnTo>
                      <a:pt x="49" y="7"/>
                    </a:lnTo>
                    <a:lnTo>
                      <a:pt x="27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576520" y="3962520"/>
                <a:ext cx="163440" cy="187200"/>
              </a:xfrm>
              <a:custGeom>
                <a:avLst/>
                <a:gdLst/>
                <a:ahLst/>
                <a:rect l="l" t="t" r="r" b="b"/>
                <a:pathLst>
                  <a:path w="103" h="118">
                    <a:moveTo>
                      <a:pt x="103" y="118"/>
                    </a:moveTo>
                    <a:lnTo>
                      <a:pt x="81" y="0"/>
                    </a:lnTo>
                    <a:lnTo>
                      <a:pt x="0" y="88"/>
                    </a:lnTo>
                    <a:lnTo>
                      <a:pt x="103" y="1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1440000" y="3848040"/>
              <a:ext cx="1150920" cy="588960"/>
              <a:chOff x="1440000" y="3848040"/>
              <a:chExt cx="1150920" cy="588960"/>
            </a:xfrm>
          </p:grpSpPr>
          <p:sp>
            <p:nvSpPr>
              <p:cNvPr id="1452" name=""/>
              <p:cNvSpPr/>
              <p:nvPr/>
            </p:nvSpPr>
            <p:spPr>
              <a:xfrm>
                <a:off x="1440000" y="4335480"/>
                <a:ext cx="152280" cy="101520"/>
              </a:xfrm>
              <a:custGeom>
                <a:avLst/>
                <a:gdLst/>
                <a:ahLst/>
                <a:rect l="l" t="t" r="r" b="b"/>
                <a:pathLst>
                  <a:path w="96" h="64">
                    <a:moveTo>
                      <a:pt x="0" y="43"/>
                    </a:moveTo>
                    <a:lnTo>
                      <a:pt x="11" y="64"/>
                    </a:lnTo>
                    <a:lnTo>
                      <a:pt x="96" y="21"/>
                    </a:lnTo>
                    <a:lnTo>
                      <a:pt x="85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677960" y="4216320"/>
                <a:ext cx="154080" cy="101520"/>
              </a:xfrm>
              <a:custGeom>
                <a:avLst/>
                <a:gdLst/>
                <a:ahLst/>
                <a:rect l="l" t="t" r="r" b="b"/>
                <a:pathLst>
                  <a:path w="97" h="64">
                    <a:moveTo>
                      <a:pt x="0" y="43"/>
                    </a:moveTo>
                    <a:lnTo>
                      <a:pt x="11" y="64"/>
                    </a:lnTo>
                    <a:lnTo>
                      <a:pt x="97" y="21"/>
                    </a:lnTo>
                    <a:lnTo>
                      <a:pt x="86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916280" y="4097160"/>
                <a:ext cx="153720" cy="101880"/>
              </a:xfrm>
              <a:custGeom>
                <a:avLst/>
                <a:gdLst/>
                <a:ahLst/>
                <a:rect l="l" t="t" r="r" b="b"/>
                <a:pathLst>
                  <a:path w="97" h="64">
                    <a:moveTo>
                      <a:pt x="0" y="43"/>
                    </a:moveTo>
                    <a:lnTo>
                      <a:pt x="11" y="64"/>
                    </a:lnTo>
                    <a:lnTo>
                      <a:pt x="97" y="21"/>
                    </a:lnTo>
                    <a:lnTo>
                      <a:pt x="86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155680" y="3978360"/>
                <a:ext cx="152640" cy="101520"/>
              </a:xfrm>
              <a:custGeom>
                <a:avLst/>
                <a:gdLst/>
                <a:ahLst/>
                <a:rect l="l" t="t" r="r" b="b"/>
                <a:pathLst>
                  <a:path w="96" h="64">
                    <a:moveTo>
                      <a:pt x="0" y="43"/>
                    </a:moveTo>
                    <a:lnTo>
                      <a:pt x="11" y="64"/>
                    </a:lnTo>
                    <a:lnTo>
                      <a:pt x="96" y="21"/>
                    </a:lnTo>
                    <a:lnTo>
                      <a:pt x="85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394000" y="3908520"/>
                <a:ext cx="57240" cy="5220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0" y="12"/>
                    </a:moveTo>
                    <a:lnTo>
                      <a:pt x="11" y="33"/>
                    </a:lnTo>
                    <a:lnTo>
                      <a:pt x="36" y="21"/>
                    </a:lnTo>
                    <a:lnTo>
                      <a:pt x="25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401920" y="3848040"/>
                <a:ext cx="189000" cy="152640"/>
              </a:xfrm>
              <a:custGeom>
                <a:avLst/>
                <a:gdLst/>
                <a:ahLst/>
                <a:rect l="l" t="t" r="r" b="b"/>
                <a:pathLst>
                  <a:path w="119" h="96">
                    <a:moveTo>
                      <a:pt x="47" y="96"/>
                    </a:moveTo>
                    <a:lnTo>
                      <a:pt x="119" y="0"/>
                    </a:lnTo>
                    <a:lnTo>
                      <a:pt x="0" y="0"/>
                    </a:lnTo>
                    <a:lnTo>
                      <a:pt x="47" y="9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8" name=""/>
            <p:cNvSpPr/>
            <p:nvPr/>
          </p:nvSpPr>
          <p:spPr>
            <a:xfrm>
              <a:off x="2306520" y="3649680"/>
              <a:ext cx="169920" cy="169920"/>
            </a:xfrm>
            <a:custGeom>
              <a:avLst/>
              <a:gdLst/>
              <a:ahLst/>
              <a:rect l="l" t="t" r="r" b="b"/>
              <a:pathLst>
                <a:path w="107" h="107">
                  <a:moveTo>
                    <a:pt x="0" y="107"/>
                  </a:moveTo>
                  <a:lnTo>
                    <a:pt x="107" y="53"/>
                  </a:lnTo>
                  <a:lnTo>
                    <a:pt x="0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9" name=""/>
            <p:cNvGrpSpPr/>
            <p:nvPr/>
          </p:nvGrpSpPr>
          <p:grpSpPr>
            <a:xfrm>
              <a:off x="3048120" y="3533760"/>
              <a:ext cx="228600" cy="169920"/>
              <a:chOff x="3048120" y="3533760"/>
              <a:chExt cx="228600" cy="169920"/>
            </a:xfrm>
          </p:grpSpPr>
          <p:sp>
            <p:nvSpPr>
              <p:cNvPr id="1460" name=""/>
              <p:cNvSpPr/>
              <p:nvPr/>
            </p:nvSpPr>
            <p:spPr>
              <a:xfrm>
                <a:off x="3214800" y="3600360"/>
                <a:ext cx="61920" cy="38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048120" y="353376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107" y="0"/>
                    </a:moveTo>
                    <a:lnTo>
                      <a:pt x="0" y="54"/>
                    </a:lnTo>
                    <a:lnTo>
                      <a:pt x="107" y="107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1284120" y="4419720"/>
              <a:ext cx="100080" cy="228240"/>
              <a:chOff x="1284120" y="4419720"/>
              <a:chExt cx="100080" cy="228240"/>
            </a:xfrm>
          </p:grpSpPr>
          <p:sp>
            <p:nvSpPr>
              <p:cNvPr id="1463" name=""/>
              <p:cNvSpPr/>
              <p:nvPr/>
            </p:nvSpPr>
            <p:spPr>
              <a:xfrm flipV="1">
                <a:off x="1333440" y="4514400"/>
                <a:ext cx="180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284120" y="441972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63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2198520" y="6019920"/>
              <a:ext cx="100080" cy="228240"/>
              <a:chOff x="2198520" y="6019920"/>
              <a:chExt cx="100080" cy="228240"/>
            </a:xfrm>
          </p:grpSpPr>
          <p:sp>
            <p:nvSpPr>
              <p:cNvPr id="1466" name=""/>
              <p:cNvSpPr/>
              <p:nvPr/>
            </p:nvSpPr>
            <p:spPr>
              <a:xfrm flipV="1">
                <a:off x="2247840" y="6114600"/>
                <a:ext cx="180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2198520" y="601992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63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4370400" y="4991040"/>
              <a:ext cx="100080" cy="228600"/>
              <a:chOff x="4370400" y="4991040"/>
              <a:chExt cx="100080" cy="228600"/>
            </a:xfrm>
          </p:grpSpPr>
          <p:sp>
            <p:nvSpPr>
              <p:cNvPr id="1469" name=""/>
              <p:cNvSpPr/>
              <p:nvPr/>
            </p:nvSpPr>
            <p:spPr>
              <a:xfrm flipV="1">
                <a:off x="4419720" y="5086440"/>
                <a:ext cx="144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370400" y="4991040"/>
                <a:ext cx="100080" cy="9864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63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1" name=""/>
            <p:cNvGrpSpPr/>
            <p:nvPr/>
          </p:nvGrpSpPr>
          <p:grpSpPr>
            <a:xfrm>
              <a:off x="4368960" y="2704680"/>
              <a:ext cx="99720" cy="228960"/>
              <a:chOff x="4368960" y="2704680"/>
              <a:chExt cx="99720" cy="228960"/>
            </a:xfrm>
          </p:grpSpPr>
          <p:sp>
            <p:nvSpPr>
              <p:cNvPr id="1472" name=""/>
              <p:cNvSpPr/>
              <p:nvPr/>
            </p:nvSpPr>
            <p:spPr>
              <a:xfrm flipV="1">
                <a:off x="4419720" y="2704680"/>
                <a:ext cx="144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368960" y="2835360"/>
                <a:ext cx="9972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0"/>
                    </a:moveTo>
                    <a:lnTo>
                      <a:pt x="32" y="62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2197080" y="3733920"/>
              <a:ext cx="100080" cy="228600"/>
              <a:chOff x="2197080" y="3733920"/>
              <a:chExt cx="100080" cy="228600"/>
            </a:xfrm>
          </p:grpSpPr>
          <p:sp>
            <p:nvSpPr>
              <p:cNvPr id="1475" name=""/>
              <p:cNvSpPr/>
              <p:nvPr/>
            </p:nvSpPr>
            <p:spPr>
              <a:xfrm>
                <a:off x="2247840" y="3733920"/>
                <a:ext cx="180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197080" y="3863880"/>
                <a:ext cx="100080" cy="9864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0"/>
                    </a:moveTo>
                    <a:lnTo>
                      <a:pt x="32" y="62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7" name=""/>
            <p:cNvGrpSpPr/>
            <p:nvPr/>
          </p:nvGrpSpPr>
          <p:grpSpPr>
            <a:xfrm>
              <a:off x="1282680" y="2247840"/>
              <a:ext cx="100080" cy="228600"/>
              <a:chOff x="1282680" y="2247840"/>
              <a:chExt cx="100080" cy="228600"/>
            </a:xfrm>
          </p:grpSpPr>
          <p:sp>
            <p:nvSpPr>
              <p:cNvPr id="1478" name=""/>
              <p:cNvSpPr/>
              <p:nvPr/>
            </p:nvSpPr>
            <p:spPr>
              <a:xfrm>
                <a:off x="1333440" y="2247840"/>
                <a:ext cx="180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282680" y="237816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0"/>
                    </a:moveTo>
                    <a:lnTo>
                      <a:pt x="32" y="62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3340080" y="1104840"/>
              <a:ext cx="100080" cy="228600"/>
              <a:chOff x="3340080" y="1104840"/>
              <a:chExt cx="100080" cy="228600"/>
            </a:xfrm>
          </p:grpSpPr>
          <p:sp>
            <p:nvSpPr>
              <p:cNvPr id="1481" name=""/>
              <p:cNvSpPr/>
              <p:nvPr/>
            </p:nvSpPr>
            <p:spPr>
              <a:xfrm>
                <a:off x="3390840" y="1104840"/>
                <a:ext cx="180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340080" y="123516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0"/>
                    </a:moveTo>
                    <a:lnTo>
                      <a:pt x="32" y="62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3" name=""/>
            <p:cNvSpPr/>
            <p:nvPr/>
          </p:nvSpPr>
          <p:spPr>
            <a:xfrm>
              <a:off x="3197160" y="3306600"/>
              <a:ext cx="27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033640" y="3720960"/>
              <a:ext cx="16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0000"/>
                  </a:solidFill>
                  <a:latin typeface="Century"/>
                </a:rPr>
                <a:t>e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CD8-7D33-45C8-8BDA-C6B7813A15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8D       </a:t>
            </a:r>
            <a:r>
              <a:rPr b="0" lang="ja-JP" sz="4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Be + </a:t>
            </a:r>
            <a:r>
              <a:rPr b="0" lang="ja-JP" sz="4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Be + 95.2 M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914040" y="1915920"/>
            <a:ext cx="754380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            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e + 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e + 47.7 M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g.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8D        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e + 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 + 50.12 M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39640" y="1628640"/>
            <a:ext cx="8280360" cy="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835280" y="765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835280" y="2205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619280" y="400536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1116000" y="5445000"/>
            <a:ext cx="71280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excited state is possible to decay to three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 part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0E7-1314-4CEE-996E-0C04F189DC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2" name=""/>
          <p:cNvGrpSpPr/>
          <p:nvPr/>
        </p:nvGrpSpPr>
        <p:grpSpPr>
          <a:xfrm>
            <a:off x="762120" y="536400"/>
            <a:ext cx="7619760" cy="5732640"/>
            <a:chOff x="762120" y="536400"/>
            <a:chExt cx="7619760" cy="5732640"/>
          </a:xfrm>
        </p:grpSpPr>
        <p:sp>
          <p:nvSpPr>
            <p:cNvPr id="1493" name=""/>
            <p:cNvSpPr/>
            <p:nvPr/>
          </p:nvSpPr>
          <p:spPr>
            <a:xfrm>
              <a:off x="762120" y="704880"/>
              <a:ext cx="73166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97480" y="549360"/>
              <a:ext cx="531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Transmutation by 8D fusion of OR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996840" y="536400"/>
              <a:ext cx="6881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Transmutation by 8D fusion of         (OSC/OR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63640" y="860400"/>
              <a:ext cx="210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ondens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50680" y="847800"/>
              <a:ext cx="210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Condens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62120" y="1285920"/>
              <a:ext cx="7619760" cy="572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9" name=""/>
            <p:cNvGrpSpPr/>
            <p:nvPr/>
          </p:nvGrpSpPr>
          <p:grpSpPr>
            <a:xfrm>
              <a:off x="990720" y="1695600"/>
              <a:ext cx="6068880" cy="4130640"/>
              <a:chOff x="990720" y="1695600"/>
              <a:chExt cx="6068880" cy="4130640"/>
            </a:xfrm>
          </p:grpSpPr>
          <p:sp>
            <p:nvSpPr>
              <p:cNvPr id="1500" name=""/>
              <p:cNvSpPr/>
              <p:nvPr/>
            </p:nvSpPr>
            <p:spPr>
              <a:xfrm>
                <a:off x="4924440" y="1695600"/>
                <a:ext cx="915840" cy="915840"/>
              </a:xfrm>
              <a:prstGeom prst="ellipse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135400" y="187308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Century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5199480" y="187308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Century"/>
                  </a:rPr>
                  <a:t>P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4991040" y="3067200"/>
                <a:ext cx="916200" cy="915840"/>
              </a:xfrm>
              <a:prstGeom prst="ellipse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202360" y="324468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Century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266440" y="324468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Century"/>
                  </a:rPr>
                  <a:t>P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457440" y="3067200"/>
                <a:ext cx="916200" cy="915840"/>
              </a:xfrm>
              <a:prstGeom prst="ellipse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668760" y="324468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Century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732840" y="324468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Century"/>
                  </a:rPr>
                  <a:t>P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457440" y="1695600"/>
                <a:ext cx="916200" cy="915840"/>
              </a:xfrm>
              <a:prstGeom prst="ellipse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668760" y="187308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Century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732840" y="187308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Century"/>
                  </a:rPr>
                  <a:t>P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5057640" y="4552920"/>
                <a:ext cx="916200" cy="915840"/>
              </a:xfrm>
              <a:prstGeom prst="ellipse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268960" y="473076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Century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333040" y="473076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Century"/>
                  </a:rPr>
                  <a:t>P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524400" y="4552920"/>
                <a:ext cx="915840" cy="915840"/>
              </a:xfrm>
              <a:prstGeom prst="ellipse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735360" y="473076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Century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799440" y="473076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Century"/>
                  </a:rPr>
                  <a:t>P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324160" y="2495520"/>
                <a:ext cx="801720" cy="801720"/>
              </a:xfrm>
              <a:prstGeom prst="ellipse">
                <a:avLst/>
              </a:prstGeom>
              <a:solidFill>
                <a:srgbClr val="ff99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516040" y="265284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Century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590920" y="2652840"/>
                <a:ext cx="220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10000"/>
                    </a:solidFill>
                    <a:latin typeface="Century"/>
                  </a:rPr>
                  <a:t>S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324160" y="3981600"/>
                <a:ext cx="801720" cy="801360"/>
              </a:xfrm>
              <a:prstGeom prst="ellipse">
                <a:avLst/>
              </a:prstGeom>
              <a:solidFill>
                <a:srgbClr val="ff99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516040" y="413856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Century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660760" y="4138560"/>
                <a:ext cx="220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10000"/>
                    </a:solidFill>
                    <a:latin typeface="Century"/>
                  </a:rPr>
                  <a:t>S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514240" y="4452840"/>
                <a:ext cx="229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10000"/>
                    </a:solidFill>
                    <a:latin typeface="ＭＳ 明朝"/>
                    <a:ea typeface="ＭＳ 明朝"/>
                  </a:rPr>
                  <a:t>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514240" y="4727520"/>
                <a:ext cx="229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10000"/>
                    </a:solidFill>
                    <a:latin typeface="ＭＳ 明朝"/>
                    <a:ea typeface="ＭＳ 明朝"/>
                  </a:rPr>
                  <a:t>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514240" y="5002200"/>
                <a:ext cx="229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10000"/>
                    </a:solidFill>
                    <a:latin typeface="ＭＳ 明朝"/>
                    <a:ea typeface="ＭＳ 明朝"/>
                  </a:rPr>
                  <a:t>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514240" y="5276880"/>
                <a:ext cx="229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10000"/>
                    </a:solidFill>
                    <a:latin typeface="ＭＳ 明朝"/>
                    <a:ea typeface="ＭＳ 明朝"/>
                  </a:rPr>
                  <a:t>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514240" y="5551560"/>
                <a:ext cx="229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10000"/>
                    </a:solidFill>
                    <a:latin typeface="ＭＳ 明朝"/>
                    <a:ea typeface="ＭＳ 明朝"/>
                  </a:rPr>
                  <a:t>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990720" y="1809720"/>
                <a:ext cx="801720" cy="801720"/>
              </a:xfrm>
              <a:prstGeom prst="ellipse">
                <a:avLst/>
              </a:prstGeom>
              <a:solidFill>
                <a:srgbClr val="ff99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182600" y="196704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Century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257480" y="1967040"/>
                <a:ext cx="220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10000"/>
                    </a:solidFill>
                    <a:latin typeface="Century"/>
                  </a:rPr>
                  <a:t>S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990720" y="3295800"/>
                <a:ext cx="801720" cy="801360"/>
              </a:xfrm>
              <a:prstGeom prst="ellipse">
                <a:avLst/>
              </a:prstGeom>
              <a:solidFill>
                <a:srgbClr val="ff99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182600" y="345276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Century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257480" y="3452760"/>
                <a:ext cx="220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10000"/>
                    </a:solidFill>
                    <a:latin typeface="Century"/>
                  </a:rPr>
                  <a:t>S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057320" y="4896000"/>
                <a:ext cx="801720" cy="801360"/>
              </a:xfrm>
              <a:prstGeom prst="ellipse">
                <a:avLst/>
              </a:prstGeom>
              <a:solidFill>
                <a:srgbClr val="ff99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249200" y="505296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Century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1324080" y="5052960"/>
                <a:ext cx="220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10000"/>
                    </a:solidFill>
                    <a:latin typeface="Century"/>
                  </a:rPr>
                  <a:t>S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8" name=""/>
              <p:cNvGrpSpPr/>
              <p:nvPr/>
            </p:nvGrpSpPr>
            <p:grpSpPr>
              <a:xfrm>
                <a:off x="4230720" y="3830760"/>
                <a:ext cx="974520" cy="993600"/>
                <a:chOff x="4230720" y="3830760"/>
                <a:chExt cx="974520" cy="99360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4257720" y="3867120"/>
                  <a:ext cx="914400" cy="914400"/>
                </a:xfrm>
                <a:custGeom>
                  <a:avLst/>
                  <a:gdLst/>
                  <a:ahLst/>
                  <a:rect l="l" t="t" r="r" b="b"/>
                  <a:pathLst>
                    <a:path w="576" h="576">
                      <a:moveTo>
                        <a:pt x="288" y="155"/>
                      </a:moveTo>
                      <a:lnTo>
                        <a:pt x="223" y="61"/>
                      </a:lnTo>
                      <a:lnTo>
                        <a:pt x="195" y="169"/>
                      </a:lnTo>
                      <a:lnTo>
                        <a:pt x="10" y="61"/>
                      </a:lnTo>
                      <a:lnTo>
                        <a:pt x="123" y="203"/>
                      </a:lnTo>
                      <a:lnTo>
                        <a:pt x="0" y="230"/>
                      </a:lnTo>
                      <a:lnTo>
                        <a:pt x="99" y="314"/>
                      </a:lnTo>
                      <a:lnTo>
                        <a:pt x="4" y="389"/>
                      </a:lnTo>
                      <a:lnTo>
                        <a:pt x="151" y="372"/>
                      </a:lnTo>
                      <a:lnTo>
                        <a:pt x="127" y="470"/>
                      </a:lnTo>
                      <a:lnTo>
                        <a:pt x="206" y="417"/>
                      </a:lnTo>
                      <a:lnTo>
                        <a:pt x="226" y="576"/>
                      </a:lnTo>
                      <a:lnTo>
                        <a:pt x="281" y="398"/>
                      </a:lnTo>
                      <a:lnTo>
                        <a:pt x="353" y="526"/>
                      </a:lnTo>
                      <a:lnTo>
                        <a:pt x="374" y="386"/>
                      </a:lnTo>
                      <a:lnTo>
                        <a:pt x="484" y="483"/>
                      </a:lnTo>
                      <a:lnTo>
                        <a:pt x="449" y="345"/>
                      </a:lnTo>
                      <a:lnTo>
                        <a:pt x="576" y="354"/>
                      </a:lnTo>
                      <a:lnTo>
                        <a:pt x="470" y="279"/>
                      </a:lnTo>
                      <a:lnTo>
                        <a:pt x="563" y="217"/>
                      </a:lnTo>
                      <a:lnTo>
                        <a:pt x="445" y="195"/>
                      </a:lnTo>
                      <a:lnTo>
                        <a:pt x="490" y="119"/>
                      </a:lnTo>
                      <a:lnTo>
                        <a:pt x="377" y="142"/>
                      </a:lnTo>
                      <a:lnTo>
                        <a:pt x="387" y="0"/>
                      </a:lnTo>
                      <a:lnTo>
                        <a:pt x="288" y="15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4230720" y="3830760"/>
                  <a:ext cx="974520" cy="993600"/>
                </a:xfrm>
                <a:custGeom>
                  <a:avLst/>
                  <a:gdLst/>
                  <a:ahLst/>
                  <a:rect l="l" t="t" r="r" b="b"/>
                  <a:pathLst>
                    <a:path w="614" h="626">
                      <a:moveTo>
                        <a:pt x="244" y="80"/>
                      </a:moveTo>
                      <a:lnTo>
                        <a:pt x="238" y="70"/>
                      </a:lnTo>
                      <a:lnTo>
                        <a:pt x="235" y="83"/>
                      </a:lnTo>
                      <a:lnTo>
                        <a:pt x="207" y="191"/>
                      </a:lnTo>
                      <a:lnTo>
                        <a:pt x="212" y="192"/>
                      </a:lnTo>
                      <a:lnTo>
                        <a:pt x="215" y="187"/>
                      </a:lnTo>
                      <a:lnTo>
                        <a:pt x="30" y="79"/>
                      </a:lnTo>
                      <a:lnTo>
                        <a:pt x="3" y="63"/>
                      </a:lnTo>
                      <a:lnTo>
                        <a:pt x="23" y="89"/>
                      </a:lnTo>
                      <a:lnTo>
                        <a:pt x="136" y="231"/>
                      </a:lnTo>
                      <a:lnTo>
                        <a:pt x="140" y="226"/>
                      </a:lnTo>
                      <a:lnTo>
                        <a:pt x="139" y="220"/>
                      </a:lnTo>
                      <a:lnTo>
                        <a:pt x="16" y="247"/>
                      </a:lnTo>
                      <a:lnTo>
                        <a:pt x="4" y="250"/>
                      </a:lnTo>
                      <a:lnTo>
                        <a:pt x="14" y="258"/>
                      </a:lnTo>
                      <a:lnTo>
                        <a:pt x="113" y="342"/>
                      </a:lnTo>
                      <a:lnTo>
                        <a:pt x="116" y="337"/>
                      </a:lnTo>
                      <a:lnTo>
                        <a:pt x="113" y="332"/>
                      </a:lnTo>
                      <a:lnTo>
                        <a:pt x="18" y="407"/>
                      </a:lnTo>
                      <a:lnTo>
                        <a:pt x="0" y="420"/>
                      </a:lnTo>
                      <a:lnTo>
                        <a:pt x="22" y="418"/>
                      </a:lnTo>
                      <a:lnTo>
                        <a:pt x="169" y="401"/>
                      </a:lnTo>
                      <a:lnTo>
                        <a:pt x="168" y="395"/>
                      </a:lnTo>
                      <a:lnTo>
                        <a:pt x="163" y="394"/>
                      </a:lnTo>
                      <a:lnTo>
                        <a:pt x="139" y="492"/>
                      </a:lnTo>
                      <a:lnTo>
                        <a:pt x="135" y="507"/>
                      </a:lnTo>
                      <a:lnTo>
                        <a:pt x="148" y="498"/>
                      </a:lnTo>
                      <a:lnTo>
                        <a:pt x="227" y="445"/>
                      </a:lnTo>
                      <a:lnTo>
                        <a:pt x="223" y="440"/>
                      </a:lnTo>
                      <a:lnTo>
                        <a:pt x="218" y="441"/>
                      </a:lnTo>
                      <a:lnTo>
                        <a:pt x="238" y="600"/>
                      </a:lnTo>
                      <a:lnTo>
                        <a:pt x="241" y="626"/>
                      </a:lnTo>
                      <a:lnTo>
                        <a:pt x="249" y="601"/>
                      </a:lnTo>
                      <a:lnTo>
                        <a:pt x="304" y="423"/>
                      </a:lnTo>
                      <a:lnTo>
                        <a:pt x="298" y="421"/>
                      </a:lnTo>
                      <a:lnTo>
                        <a:pt x="294" y="425"/>
                      </a:lnTo>
                      <a:lnTo>
                        <a:pt x="366" y="553"/>
                      </a:lnTo>
                      <a:lnTo>
                        <a:pt x="373" y="566"/>
                      </a:lnTo>
                      <a:lnTo>
                        <a:pt x="376" y="550"/>
                      </a:lnTo>
                      <a:lnTo>
                        <a:pt x="397" y="410"/>
                      </a:lnTo>
                      <a:lnTo>
                        <a:pt x="391" y="409"/>
                      </a:lnTo>
                      <a:lnTo>
                        <a:pt x="388" y="414"/>
                      </a:lnTo>
                      <a:lnTo>
                        <a:pt x="498" y="511"/>
                      </a:lnTo>
                      <a:lnTo>
                        <a:pt x="511" y="522"/>
                      </a:lnTo>
                      <a:lnTo>
                        <a:pt x="507" y="505"/>
                      </a:lnTo>
                      <a:lnTo>
                        <a:pt x="472" y="367"/>
                      </a:lnTo>
                      <a:lnTo>
                        <a:pt x="466" y="368"/>
                      </a:lnTo>
                      <a:lnTo>
                        <a:pt x="466" y="374"/>
                      </a:lnTo>
                      <a:lnTo>
                        <a:pt x="593" y="383"/>
                      </a:lnTo>
                      <a:lnTo>
                        <a:pt x="614" y="385"/>
                      </a:lnTo>
                      <a:lnTo>
                        <a:pt x="597" y="372"/>
                      </a:lnTo>
                      <a:lnTo>
                        <a:pt x="491" y="297"/>
                      </a:lnTo>
                      <a:lnTo>
                        <a:pt x="487" y="302"/>
                      </a:lnTo>
                      <a:lnTo>
                        <a:pt x="491" y="307"/>
                      </a:lnTo>
                      <a:lnTo>
                        <a:pt x="584" y="245"/>
                      </a:lnTo>
                      <a:lnTo>
                        <a:pt x="596" y="237"/>
                      </a:lnTo>
                      <a:lnTo>
                        <a:pt x="581" y="234"/>
                      </a:lnTo>
                      <a:lnTo>
                        <a:pt x="463" y="212"/>
                      </a:lnTo>
                      <a:lnTo>
                        <a:pt x="462" y="218"/>
                      </a:lnTo>
                      <a:lnTo>
                        <a:pt x="467" y="222"/>
                      </a:lnTo>
                      <a:lnTo>
                        <a:pt x="512" y="146"/>
                      </a:lnTo>
                      <a:lnTo>
                        <a:pt x="519" y="133"/>
                      </a:lnTo>
                      <a:lnTo>
                        <a:pt x="506" y="136"/>
                      </a:lnTo>
                      <a:lnTo>
                        <a:pt x="393" y="159"/>
                      </a:lnTo>
                      <a:lnTo>
                        <a:pt x="394" y="165"/>
                      </a:lnTo>
                      <a:lnTo>
                        <a:pt x="400" y="166"/>
                      </a:lnTo>
                      <a:lnTo>
                        <a:pt x="410" y="24"/>
                      </a:lnTo>
                      <a:lnTo>
                        <a:pt x="412" y="0"/>
                      </a:lnTo>
                      <a:lnTo>
                        <a:pt x="400" y="19"/>
                      </a:lnTo>
                      <a:lnTo>
                        <a:pt x="301" y="174"/>
                      </a:lnTo>
                      <a:lnTo>
                        <a:pt x="305" y="178"/>
                      </a:lnTo>
                      <a:lnTo>
                        <a:pt x="309" y="174"/>
                      </a:lnTo>
                      <a:lnTo>
                        <a:pt x="244" y="80"/>
                      </a:lnTo>
                      <a:close/>
                      <a:moveTo>
                        <a:pt x="301" y="183"/>
                      </a:moveTo>
                      <a:lnTo>
                        <a:pt x="305" y="189"/>
                      </a:lnTo>
                      <a:lnTo>
                        <a:pt x="310" y="182"/>
                      </a:lnTo>
                      <a:lnTo>
                        <a:pt x="409" y="27"/>
                      </a:lnTo>
                      <a:lnTo>
                        <a:pt x="404" y="23"/>
                      </a:lnTo>
                      <a:lnTo>
                        <a:pt x="398" y="23"/>
                      </a:lnTo>
                      <a:lnTo>
                        <a:pt x="388" y="165"/>
                      </a:lnTo>
                      <a:lnTo>
                        <a:pt x="387" y="173"/>
                      </a:lnTo>
                      <a:lnTo>
                        <a:pt x="395" y="171"/>
                      </a:lnTo>
                      <a:lnTo>
                        <a:pt x="508" y="148"/>
                      </a:lnTo>
                      <a:lnTo>
                        <a:pt x="507" y="142"/>
                      </a:lnTo>
                      <a:lnTo>
                        <a:pt x="503" y="138"/>
                      </a:lnTo>
                      <a:lnTo>
                        <a:pt x="458" y="214"/>
                      </a:lnTo>
                      <a:lnTo>
                        <a:pt x="453" y="222"/>
                      </a:lnTo>
                      <a:lnTo>
                        <a:pt x="461" y="224"/>
                      </a:lnTo>
                      <a:lnTo>
                        <a:pt x="579" y="246"/>
                      </a:lnTo>
                      <a:lnTo>
                        <a:pt x="580" y="240"/>
                      </a:lnTo>
                      <a:lnTo>
                        <a:pt x="577" y="235"/>
                      </a:lnTo>
                      <a:lnTo>
                        <a:pt x="484" y="297"/>
                      </a:lnTo>
                      <a:lnTo>
                        <a:pt x="476" y="302"/>
                      </a:lnTo>
                      <a:lnTo>
                        <a:pt x="484" y="307"/>
                      </a:lnTo>
                      <a:lnTo>
                        <a:pt x="590" y="382"/>
                      </a:lnTo>
                      <a:lnTo>
                        <a:pt x="593" y="377"/>
                      </a:lnTo>
                      <a:lnTo>
                        <a:pt x="594" y="371"/>
                      </a:lnTo>
                      <a:lnTo>
                        <a:pt x="467" y="362"/>
                      </a:lnTo>
                      <a:lnTo>
                        <a:pt x="459" y="361"/>
                      </a:lnTo>
                      <a:lnTo>
                        <a:pt x="461" y="370"/>
                      </a:lnTo>
                      <a:lnTo>
                        <a:pt x="496" y="508"/>
                      </a:lnTo>
                      <a:lnTo>
                        <a:pt x="501" y="506"/>
                      </a:lnTo>
                      <a:lnTo>
                        <a:pt x="505" y="502"/>
                      </a:lnTo>
                      <a:lnTo>
                        <a:pt x="395" y="405"/>
                      </a:lnTo>
                      <a:lnTo>
                        <a:pt x="387" y="398"/>
                      </a:lnTo>
                      <a:lnTo>
                        <a:pt x="386" y="408"/>
                      </a:lnTo>
                      <a:lnTo>
                        <a:pt x="365" y="548"/>
                      </a:lnTo>
                      <a:lnTo>
                        <a:pt x="370" y="549"/>
                      </a:lnTo>
                      <a:lnTo>
                        <a:pt x="375" y="546"/>
                      </a:lnTo>
                      <a:lnTo>
                        <a:pt x="303" y="418"/>
                      </a:lnTo>
                      <a:lnTo>
                        <a:pt x="297" y="407"/>
                      </a:lnTo>
                      <a:lnTo>
                        <a:pt x="293" y="420"/>
                      </a:lnTo>
                      <a:lnTo>
                        <a:pt x="238" y="598"/>
                      </a:lnTo>
                      <a:lnTo>
                        <a:pt x="243" y="599"/>
                      </a:lnTo>
                      <a:lnTo>
                        <a:pt x="249" y="599"/>
                      </a:lnTo>
                      <a:lnTo>
                        <a:pt x="229" y="440"/>
                      </a:lnTo>
                      <a:lnTo>
                        <a:pt x="227" y="430"/>
                      </a:lnTo>
                      <a:lnTo>
                        <a:pt x="220" y="435"/>
                      </a:lnTo>
                      <a:lnTo>
                        <a:pt x="141" y="488"/>
                      </a:lnTo>
                      <a:lnTo>
                        <a:pt x="144" y="493"/>
                      </a:lnTo>
                      <a:lnTo>
                        <a:pt x="150" y="495"/>
                      </a:lnTo>
                      <a:lnTo>
                        <a:pt x="174" y="397"/>
                      </a:lnTo>
                      <a:lnTo>
                        <a:pt x="176" y="388"/>
                      </a:lnTo>
                      <a:lnTo>
                        <a:pt x="168" y="389"/>
                      </a:lnTo>
                      <a:lnTo>
                        <a:pt x="21" y="406"/>
                      </a:lnTo>
                      <a:lnTo>
                        <a:pt x="21" y="412"/>
                      </a:lnTo>
                      <a:lnTo>
                        <a:pt x="25" y="417"/>
                      </a:lnTo>
                      <a:lnTo>
                        <a:pt x="120" y="342"/>
                      </a:lnTo>
                      <a:lnTo>
                        <a:pt x="126" y="337"/>
                      </a:lnTo>
                      <a:lnTo>
                        <a:pt x="120" y="332"/>
                      </a:lnTo>
                      <a:lnTo>
                        <a:pt x="21" y="248"/>
                      </a:lnTo>
                      <a:lnTo>
                        <a:pt x="17" y="253"/>
                      </a:lnTo>
                      <a:lnTo>
                        <a:pt x="18" y="259"/>
                      </a:lnTo>
                      <a:lnTo>
                        <a:pt x="141" y="232"/>
                      </a:lnTo>
                      <a:lnTo>
                        <a:pt x="151" y="230"/>
                      </a:lnTo>
                      <a:lnTo>
                        <a:pt x="144" y="222"/>
                      </a:lnTo>
                      <a:lnTo>
                        <a:pt x="31" y="80"/>
                      </a:lnTo>
                      <a:lnTo>
                        <a:pt x="27" y="84"/>
                      </a:lnTo>
                      <a:lnTo>
                        <a:pt x="24" y="89"/>
                      </a:lnTo>
                      <a:lnTo>
                        <a:pt x="209" y="197"/>
                      </a:lnTo>
                      <a:lnTo>
                        <a:pt x="216" y="201"/>
                      </a:lnTo>
                      <a:lnTo>
                        <a:pt x="218" y="194"/>
                      </a:lnTo>
                      <a:lnTo>
                        <a:pt x="246" y="86"/>
                      </a:lnTo>
                      <a:lnTo>
                        <a:pt x="240" y="84"/>
                      </a:lnTo>
                      <a:lnTo>
                        <a:pt x="236" y="89"/>
                      </a:lnTo>
                      <a:lnTo>
                        <a:pt x="301" y="1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1" name=""/>
              <p:cNvSpPr/>
              <p:nvPr/>
            </p:nvSpPr>
            <p:spPr>
              <a:xfrm>
                <a:off x="4526640" y="4160880"/>
                <a:ext cx="24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10000"/>
                    </a:solidFill>
                    <a:latin typeface="Century"/>
                  </a:rPr>
                  <a:t>ORF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057480" y="3867120"/>
                <a:ext cx="401760" cy="458640"/>
              </a:xfrm>
              <a:prstGeom prst="ellipse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14080" y="3995640"/>
                <a:ext cx="77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10000"/>
                    </a:solidFill>
                    <a:latin typeface="ＭＳ 明朝"/>
                    <a:ea typeface="ＭＳ 明朝"/>
                  </a:rPr>
                  <a:t>α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124080" y="4324320"/>
                <a:ext cx="401760" cy="458640"/>
              </a:xfrm>
              <a:prstGeom prst="ellipse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280680" y="4452840"/>
                <a:ext cx="77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10000"/>
                    </a:solidFill>
                    <a:latin typeface="ＭＳ 明朝"/>
                    <a:ea typeface="ＭＳ 明朝"/>
                  </a:rPr>
                  <a:t>α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6" name=""/>
              <p:cNvGrpSpPr/>
              <p:nvPr/>
            </p:nvGrpSpPr>
            <p:grpSpPr>
              <a:xfrm>
                <a:off x="3457440" y="4262400"/>
                <a:ext cx="866880" cy="122400"/>
                <a:chOff x="3457440" y="4262400"/>
                <a:chExt cx="866880" cy="122400"/>
              </a:xfrm>
            </p:grpSpPr>
            <p:sp>
              <p:nvSpPr>
                <p:cNvPr id="1547" name=""/>
                <p:cNvSpPr/>
                <p:nvPr/>
              </p:nvSpPr>
              <p:spPr>
                <a:xfrm>
                  <a:off x="3576600" y="4314960"/>
                  <a:ext cx="74772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3457440" y="4262400"/>
                  <a:ext cx="122400" cy="122400"/>
                </a:xfrm>
                <a:custGeom>
                  <a:avLst/>
                  <a:gdLst/>
                  <a:ahLst/>
                  <a:rect l="l" t="t" r="r" b="b"/>
                  <a:pathLst>
                    <a:path w="77" h="77">
                      <a:moveTo>
                        <a:pt x="77" y="0"/>
                      </a:moveTo>
                      <a:lnTo>
                        <a:pt x="0" y="39"/>
                      </a:lnTo>
                      <a:lnTo>
                        <a:pt x="77" y="77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9" name=""/>
              <p:cNvGrpSpPr/>
              <p:nvPr/>
            </p:nvGrpSpPr>
            <p:grpSpPr>
              <a:xfrm>
                <a:off x="5057640" y="4264200"/>
                <a:ext cx="800280" cy="122040"/>
                <a:chOff x="5057640" y="4264200"/>
                <a:chExt cx="800280" cy="122040"/>
              </a:xfrm>
            </p:grpSpPr>
            <p:sp>
              <p:nvSpPr>
                <p:cNvPr id="1550" name=""/>
                <p:cNvSpPr/>
                <p:nvPr/>
              </p:nvSpPr>
              <p:spPr>
                <a:xfrm>
                  <a:off x="5057640" y="4314960"/>
                  <a:ext cx="68112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5735520" y="4264200"/>
                  <a:ext cx="122400" cy="122040"/>
                </a:xfrm>
                <a:custGeom>
                  <a:avLst/>
                  <a:gdLst/>
                  <a:ahLst/>
                  <a:rect l="l" t="t" r="r" b="b"/>
                  <a:pathLst>
                    <a:path w="77" h="77">
                      <a:moveTo>
                        <a:pt x="0" y="77"/>
                      </a:moveTo>
                      <a:lnTo>
                        <a:pt x="77" y="38"/>
                      </a:lnTo>
                      <a:lnTo>
                        <a:pt x="0" y="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2" name=""/>
              <p:cNvSpPr/>
              <p:nvPr/>
            </p:nvSpPr>
            <p:spPr>
              <a:xfrm>
                <a:off x="5791320" y="3867120"/>
                <a:ext cx="401400" cy="458640"/>
              </a:xfrm>
              <a:prstGeom prst="ellipse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947920" y="3995640"/>
                <a:ext cx="77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10000"/>
                    </a:solidFill>
                    <a:latin typeface="ＭＳ 明朝"/>
                    <a:ea typeface="ＭＳ 明朝"/>
                  </a:rPr>
                  <a:t>α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857920" y="4324320"/>
                <a:ext cx="401760" cy="458640"/>
              </a:xfrm>
              <a:prstGeom prst="ellipse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014520" y="4452840"/>
                <a:ext cx="77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10000"/>
                    </a:solidFill>
                    <a:latin typeface="ＭＳ 明朝"/>
                    <a:ea typeface="ＭＳ 明朝"/>
                  </a:rPr>
                  <a:t>α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657840" y="3524400"/>
                <a:ext cx="401760" cy="458640"/>
              </a:xfrm>
              <a:prstGeom prst="ellipse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814440" y="3652920"/>
                <a:ext cx="77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10000"/>
                    </a:solidFill>
                    <a:latin typeface="ＭＳ 明朝"/>
                    <a:ea typeface="ＭＳ 明朝"/>
                  </a:rPr>
                  <a:t>α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6657840" y="4667400"/>
                <a:ext cx="382680" cy="458640"/>
              </a:xfrm>
              <a:prstGeom prst="ellipse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811560" y="4795920"/>
                <a:ext cx="77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10000"/>
                    </a:solidFill>
                    <a:latin typeface="ＭＳ 明朝"/>
                    <a:ea typeface="ＭＳ 明朝"/>
                  </a:rPr>
                  <a:t>α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0" name=""/>
              <p:cNvGrpSpPr/>
              <p:nvPr/>
            </p:nvGrpSpPr>
            <p:grpSpPr>
              <a:xfrm>
                <a:off x="6191280" y="3846600"/>
                <a:ext cx="399960" cy="134640"/>
                <a:chOff x="6191280" y="3846600"/>
                <a:chExt cx="399960" cy="134640"/>
              </a:xfrm>
            </p:grpSpPr>
            <p:sp>
              <p:nvSpPr>
                <p:cNvPr id="1561" name=""/>
                <p:cNvSpPr/>
                <p:nvPr/>
              </p:nvSpPr>
              <p:spPr>
                <a:xfrm flipV="1">
                  <a:off x="6191280" y="3893760"/>
                  <a:ext cx="307800" cy="87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483240" y="3846600"/>
                  <a:ext cx="108000" cy="96840"/>
                </a:xfrm>
                <a:custGeom>
                  <a:avLst/>
                  <a:gdLst/>
                  <a:ahLst/>
                  <a:rect l="l" t="t" r="r" b="b"/>
                  <a:pathLst>
                    <a:path w="68" h="61">
                      <a:moveTo>
                        <a:pt x="17" y="61"/>
                      </a:moveTo>
                      <a:lnTo>
                        <a:pt x="68" y="13"/>
                      </a:lnTo>
                      <a:lnTo>
                        <a:pt x="0" y="0"/>
                      </a:lnTo>
                      <a:lnTo>
                        <a:pt x="17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3" name=""/>
              <p:cNvGrpSpPr/>
              <p:nvPr/>
            </p:nvGrpSpPr>
            <p:grpSpPr>
              <a:xfrm>
                <a:off x="6257880" y="4667400"/>
                <a:ext cx="333360" cy="129960"/>
                <a:chOff x="6257880" y="4667400"/>
                <a:chExt cx="333360" cy="129960"/>
              </a:xfrm>
            </p:grpSpPr>
            <p:sp>
              <p:nvSpPr>
                <p:cNvPr id="1564" name=""/>
                <p:cNvSpPr/>
                <p:nvPr/>
              </p:nvSpPr>
              <p:spPr>
                <a:xfrm>
                  <a:off x="6257880" y="4667400"/>
                  <a:ext cx="243000" cy="82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481800" y="4703760"/>
                  <a:ext cx="109440" cy="93600"/>
                </a:xfrm>
                <a:custGeom>
                  <a:avLst/>
                  <a:gdLst/>
                  <a:ahLst/>
                  <a:rect l="l" t="t" r="r" b="b"/>
                  <a:pathLst>
                    <a:path w="69" h="59">
                      <a:moveTo>
                        <a:pt x="0" y="59"/>
                      </a:moveTo>
                      <a:lnTo>
                        <a:pt x="69" y="49"/>
                      </a:lnTo>
                      <a:lnTo>
                        <a:pt x="20" y="0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6" name=""/>
              <p:cNvGrpSpPr/>
              <p:nvPr/>
            </p:nvGrpSpPr>
            <p:grpSpPr>
              <a:xfrm>
                <a:off x="2724120" y="5646600"/>
                <a:ext cx="2133720" cy="100080"/>
                <a:chOff x="2724120" y="5646600"/>
                <a:chExt cx="2133720" cy="10008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2724120" y="5695920"/>
                  <a:ext cx="20383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4759200" y="5646600"/>
                  <a:ext cx="98640" cy="100080"/>
                </a:xfrm>
                <a:custGeom>
                  <a:avLst/>
                  <a:gdLst/>
                  <a:ahLst/>
                  <a:rect l="l" t="t" r="r" b="b"/>
                  <a:pathLst>
                    <a:path w="62" h="63">
                      <a:moveTo>
                        <a:pt x="0" y="63"/>
                      </a:moveTo>
                      <a:lnTo>
                        <a:pt x="62" y="31"/>
                      </a:lnTo>
                      <a:lnTo>
                        <a:pt x="0" y="0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2657520" y="5645160"/>
                <a:ext cx="2000160" cy="100080"/>
                <a:chOff x="2657520" y="5645160"/>
                <a:chExt cx="2000160" cy="100080"/>
              </a:xfrm>
            </p:grpSpPr>
            <p:sp>
              <p:nvSpPr>
                <p:cNvPr id="1570" name=""/>
                <p:cNvSpPr/>
                <p:nvPr/>
              </p:nvSpPr>
              <p:spPr>
                <a:xfrm flipH="1">
                  <a:off x="2752560" y="5695920"/>
                  <a:ext cx="19051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2657520" y="5645160"/>
                  <a:ext cx="98280" cy="100080"/>
                </a:xfrm>
                <a:custGeom>
                  <a:avLst/>
                  <a:gdLst/>
                  <a:ahLst/>
                  <a:rect l="l" t="t" r="r" b="b"/>
                  <a:pathLst>
                    <a:path w="62" h="63">
                      <a:moveTo>
                        <a:pt x="62" y="0"/>
                      </a:moveTo>
                      <a:lnTo>
                        <a:pt x="0" y="32"/>
                      </a:lnTo>
                      <a:lnTo>
                        <a:pt x="62" y="63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2" name=""/>
            <p:cNvSpPr/>
            <p:nvPr/>
          </p:nvSpPr>
          <p:spPr>
            <a:xfrm>
              <a:off x="3276720" y="5810400"/>
              <a:ext cx="152388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397320" y="591660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0000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466080" y="59166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10000"/>
                  </a:solidFill>
                  <a:latin typeface="Tahoma"/>
                </a:rPr>
                <a:t>2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641400" y="5916600"/>
              <a:ext cx="98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10000"/>
                  </a:solidFill>
                  <a:latin typeface="Tahoma"/>
                </a:rPr>
                <a:t>angstr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86000" y="4896000"/>
              <a:ext cx="1068480" cy="38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501640" y="496404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0000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473200" y="494496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0000"/>
                  </a:solidFill>
                  <a:latin typeface="Tahoma"/>
                </a:rPr>
                <a:t>cap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60E-A4A9-4D9F-95D4-E0181C1906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ffb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C-Induced Nuclear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333399"/>
                </a:solidFill>
                <a:latin typeface="Arial"/>
              </a:rPr>
              <a:t>Multi-Body Deuteron (d-p mixed) Fusion within TSC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d, dp, 3d, ddp, 4d, dddp, dp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ja-JP" sz="3200" spc="-1" strike="noStrike">
                <a:solidFill>
                  <a:srgbClr val="cc00cc"/>
                </a:solidFill>
                <a:latin typeface="Arial"/>
              </a:rPr>
              <a:t>EQPET Model Alan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9999"/>
                </a:solidFill>
                <a:latin typeface="Arial"/>
              </a:rPr>
              <a:t>TSC+Host-Metal Reactions</a:t>
            </a:r>
            <a:r>
              <a:rPr b="0" lang="ja-JP" sz="3200" spc="-1" strike="noStrike">
                <a:solidFill>
                  <a:srgbClr val="0099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udden Tall Thin Barrier Approx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cc00cc"/>
                </a:solidFill>
                <a:latin typeface="Arial"/>
              </a:rPr>
              <a:t>STTB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D7FE-C1FC-40FE-BA02-EE0F55B909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imum Size of TSC is far less than 1 p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435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4d + 4e of TSC squeezes into a very small charge-neutral pseudo-parti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00cc"/>
                </a:solidFill>
                <a:latin typeface="Arial"/>
              </a:rPr>
              <a:t>When 4d reach at the interaction range (several fm) of strong force, </a:t>
            </a:r>
            <a:r>
              <a:rPr b="0" lang="ja-JP" sz="2800" spc="-1" strike="noStrike" baseline="30000">
                <a:solidFill>
                  <a:srgbClr val="cc00cc"/>
                </a:solidFill>
                <a:latin typeface="Arial"/>
              </a:rPr>
              <a:t>8</a:t>
            </a:r>
            <a:r>
              <a:rPr b="0" lang="ja-JP" sz="2800" spc="-1" strike="noStrike">
                <a:solidFill>
                  <a:srgbClr val="cc00cc"/>
                </a:solidFill>
                <a:latin typeface="Arial"/>
              </a:rPr>
              <a:t>Be* is formed by QM-penetration through EQPET shielded potent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* is formed, 4e are left at outer domain, which size is approximated by </a:t>
            </a:r>
            <a:r>
              <a:rPr b="0" lang="ja-JP" sz="2800" spc="-1" strike="noStrike">
                <a:solidFill>
                  <a:srgbClr val="009999"/>
                </a:solidFill>
                <a:latin typeface="Arial"/>
              </a:rPr>
              <a:t>e*(4,4)Be atom size of 0.8 p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9999"/>
                </a:solidFill>
                <a:latin typeface="Arial"/>
              </a:rPr>
              <a:t>c.f.: Classical Electron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9999"/>
                </a:solidFill>
                <a:latin typeface="Arial"/>
              </a:rPr>
              <a:t>                                    </a:t>
            </a:r>
            <a:r>
              <a:rPr b="0" lang="el-GR" sz="2800" spc="-1" strike="noStrike">
                <a:solidFill>
                  <a:srgbClr val="009999"/>
                </a:solidFill>
                <a:latin typeface="Arial"/>
                <a:ea typeface="Arial"/>
              </a:rPr>
              <a:t>α</a:t>
            </a:r>
            <a:r>
              <a:rPr b="0" lang="ja-JP" sz="2800" spc="-1" strike="noStrike">
                <a:solidFill>
                  <a:srgbClr val="009999"/>
                </a:solidFill>
                <a:latin typeface="Arial"/>
                <a:ea typeface="Arial"/>
              </a:rPr>
              <a:t>hc/(2</a:t>
            </a:r>
            <a:r>
              <a:rPr b="0" lang="el-GR" sz="2800" spc="-1" strike="noStrike">
                <a:solidFill>
                  <a:srgbClr val="009999"/>
                </a:solidFill>
                <a:latin typeface="Arial"/>
                <a:ea typeface="Arial"/>
              </a:rPr>
              <a:t>π</a:t>
            </a:r>
            <a:r>
              <a:rPr b="0" lang="ja-JP" sz="2800" spc="-1" strike="noStrike">
                <a:solidFill>
                  <a:srgbClr val="009999"/>
                </a:solidFill>
                <a:latin typeface="Arial"/>
                <a:ea typeface="Arial"/>
              </a:rPr>
              <a:t>m</a:t>
            </a:r>
            <a:r>
              <a:rPr b="0" lang="ja-JP" sz="1800" spc="-1" strike="noStrike">
                <a:solidFill>
                  <a:srgbClr val="009999"/>
                </a:solidFill>
                <a:latin typeface="Arial"/>
                <a:ea typeface="Arial"/>
              </a:rPr>
              <a:t>e</a:t>
            </a:r>
            <a:r>
              <a:rPr b="0" lang="ja-JP" sz="2800" spc="-1" strike="noStrike">
                <a:solidFill>
                  <a:srgbClr val="009999"/>
                </a:solidFill>
                <a:latin typeface="Arial"/>
                <a:ea typeface="Arial"/>
              </a:rPr>
              <a:t>c</a:t>
            </a:r>
            <a:r>
              <a:rPr b="0" lang="ja-JP" sz="28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</a:t>
            </a:r>
            <a:r>
              <a:rPr b="0" lang="ja-JP" sz="2800" spc="-1" strike="noStrike">
                <a:solidFill>
                  <a:srgbClr val="009999"/>
                </a:solidFill>
                <a:latin typeface="Arial"/>
              </a:rPr>
              <a:t> ) = 2.8 f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179280" y="1557360"/>
            <a:ext cx="87138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BBA-CA29-4963-B7B2-B525888AF7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/>
          <p:nvPr/>
        </p:nvSpPr>
        <p:spPr>
          <a:xfrm>
            <a:off x="9144000" y="6400800"/>
            <a:ext cx="380880" cy="1295280"/>
          </a:xfrm>
          <a:prstGeom prst="diamond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 u="sng">
                <a:solidFill>
                  <a:srgbClr val="333399"/>
                </a:solidFill>
                <a:uFillTx/>
                <a:latin typeface="Garamon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611280" y="254160"/>
            <a:ext cx="8296200" cy="6492240"/>
            <a:chOff x="611280" y="254160"/>
            <a:chExt cx="8296200" cy="6492240"/>
          </a:xfrm>
        </p:grpSpPr>
        <p:sp>
          <p:nvSpPr>
            <p:cNvPr id="1586" name=""/>
            <p:cNvSpPr/>
            <p:nvPr/>
          </p:nvSpPr>
          <p:spPr>
            <a:xfrm>
              <a:off x="716040" y="298440"/>
              <a:ext cx="7711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70840" y="254160"/>
              <a:ext cx="79927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1910c6"/>
                  </a:solidFill>
                  <a:latin typeface="Tahoma"/>
                </a:rPr>
                <a:t>Classical View of Tetrahedral Sym. Condensa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315200" y="914400"/>
              <a:ext cx="1592280" cy="571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958680"/>
              <a:ext cx="1447560" cy="57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33cc"/>
                  </a:solidFill>
                  <a:latin typeface="Tahoma"/>
                </a:rPr>
                <a:t>Trans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33cc"/>
                  </a:solidFill>
                  <a:latin typeface="Tahoma"/>
                </a:rPr>
                <a:t>Comb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33cc"/>
                  </a:solidFill>
                  <a:latin typeface="Tahoma"/>
                </a:rPr>
                <a:t>of Two D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33cc"/>
                  </a:solidFill>
                  <a:latin typeface="Tahoma"/>
                </a:rPr>
                <a:t>Molecu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33cc"/>
                  </a:solidFill>
                  <a:latin typeface="Tahoma"/>
                </a:rPr>
                <a:t>(upper and l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Squeezing on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from O-Sites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T-sit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46a444"/>
                  </a:solidFill>
                  <a:latin typeface="Tahoma"/>
                </a:rPr>
                <a:t>3-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46a444"/>
                  </a:solidFill>
                  <a:latin typeface="Tahoma"/>
                </a:rPr>
                <a:t>Frozen State f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46a444"/>
                  </a:solidFill>
                  <a:latin typeface="Tahoma"/>
                </a:rPr>
                <a:t>4d+s and 4e-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0303"/>
                  </a:solidFill>
                  <a:latin typeface="Tahoma"/>
                </a:rPr>
                <a:t>Quadruplet e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0303"/>
                  </a:solidFill>
                  <a:latin typeface="Tahoma"/>
                </a:rPr>
                <a:t>(4,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Formation of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Electrons arou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T-s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01640" y="673200"/>
              <a:ext cx="7967520" cy="6336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01640" y="941400"/>
              <a:ext cx="6284880" cy="5684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2" name=""/>
            <p:cNvGrpSpPr/>
            <p:nvPr/>
          </p:nvGrpSpPr>
          <p:grpSpPr>
            <a:xfrm>
              <a:off x="1004760" y="1257480"/>
              <a:ext cx="5618160" cy="5260680"/>
              <a:chOff x="1004760" y="1257480"/>
              <a:chExt cx="5618160" cy="5260680"/>
            </a:xfrm>
          </p:grpSpPr>
          <p:sp>
            <p:nvSpPr>
              <p:cNvPr id="1593" name=""/>
              <p:cNvSpPr/>
              <p:nvPr/>
            </p:nvSpPr>
            <p:spPr>
              <a:xfrm>
                <a:off x="2751120" y="3887640"/>
                <a:ext cx="7509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933640" y="4038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045960" y="4124160"/>
                <a:ext cx="22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r>
                  <a:rPr b="1" lang="en-US" sz="1800" spc="-1" strike="noStrike" baseline="30000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940200" y="5641920"/>
                <a:ext cx="7509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122720" y="579276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236480" y="5850000"/>
                <a:ext cx="22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r>
                  <a:rPr b="1" lang="en-US" sz="1800" spc="-1" strike="noStrike" baseline="30000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122720" y="606096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004760" y="2259000"/>
                <a:ext cx="7509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187280" y="240984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289880" y="2476440"/>
                <a:ext cx="22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r>
                  <a:rPr b="1" lang="en-US" sz="1800" spc="-1" strike="noStrike" baseline="30000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872320" y="1757520"/>
                <a:ext cx="750600" cy="75384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054840" y="19080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166800" y="1994040"/>
                <a:ext cx="22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r>
                  <a:rPr b="1" lang="en-US" sz="1800" spc="-1" strike="noStrike" baseline="30000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131840" y="5141880"/>
                <a:ext cx="625680" cy="62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295280" y="52704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360800" y="5251320"/>
                <a:ext cx="255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10000"/>
                    </a:solidFill>
                    <a:latin typeface="Century"/>
                  </a:rPr>
                  <a:t>e-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295280" y="560556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940200" y="2886120"/>
                <a:ext cx="627120" cy="6285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105440" y="301464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170600" y="3005280"/>
                <a:ext cx="255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10000"/>
                    </a:solidFill>
                    <a:latin typeface="Century"/>
                  </a:rPr>
                  <a:t>e-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105440" y="33498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2876400" y="1257480"/>
                <a:ext cx="625680" cy="6267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040200" y="13860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32360" y="1357200"/>
                <a:ext cx="255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10000"/>
                    </a:solidFill>
                    <a:latin typeface="Century"/>
                  </a:rPr>
                  <a:t>e-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040200" y="17208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854680" y="4640400"/>
                <a:ext cx="625320" cy="6285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6019920" y="47689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6075720" y="4740120"/>
                <a:ext cx="255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10000"/>
                    </a:solidFill>
                    <a:latin typeface="Century"/>
                  </a:rPr>
                  <a:t>e-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019920" y="51037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749760" y="3762360"/>
                <a:ext cx="250920" cy="25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3" name=""/>
              <p:cNvGrpSpPr/>
              <p:nvPr/>
            </p:nvGrpSpPr>
            <p:grpSpPr>
              <a:xfrm>
                <a:off x="1746360" y="2868480"/>
                <a:ext cx="2003400" cy="1020960"/>
                <a:chOff x="1746360" y="2868480"/>
                <a:chExt cx="2003400" cy="102096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1746360" y="2868480"/>
                  <a:ext cx="1854000" cy="957240"/>
                </a:xfrm>
                <a:custGeom>
                  <a:avLst/>
                  <a:gdLst/>
                  <a:ahLst/>
                  <a:rect l="l" t="t" r="r" b="b"/>
                  <a:pathLst>
                    <a:path w="1168" h="603">
                      <a:moveTo>
                        <a:pt x="10" y="0"/>
                      </a:moveTo>
                      <a:lnTo>
                        <a:pt x="0" y="23"/>
                      </a:lnTo>
                      <a:lnTo>
                        <a:pt x="1158" y="603"/>
                      </a:lnTo>
                      <a:lnTo>
                        <a:pt x="1168" y="58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3549600" y="3722760"/>
                  <a:ext cx="200160" cy="166680"/>
                </a:xfrm>
                <a:custGeom>
                  <a:avLst/>
                  <a:gdLst/>
                  <a:ahLst/>
                  <a:rect l="l" t="t" r="r" b="b"/>
                  <a:pathLst>
                    <a:path w="126" h="105">
                      <a:moveTo>
                        <a:pt x="0" y="105"/>
                      </a:moveTo>
                      <a:lnTo>
                        <a:pt x="126" y="104"/>
                      </a:lnTo>
                      <a:lnTo>
                        <a:pt x="49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6" name=""/>
              <p:cNvGrpSpPr/>
              <p:nvPr/>
            </p:nvGrpSpPr>
            <p:grpSpPr>
              <a:xfrm>
                <a:off x="3370320" y="3984480"/>
                <a:ext cx="379440" cy="174600"/>
                <a:chOff x="3370320" y="3984480"/>
                <a:chExt cx="379440" cy="174600"/>
              </a:xfrm>
            </p:grpSpPr>
            <p:sp>
              <p:nvSpPr>
                <p:cNvPr id="1627" name=""/>
                <p:cNvSpPr/>
                <p:nvPr/>
              </p:nvSpPr>
              <p:spPr>
                <a:xfrm>
                  <a:off x="3370320" y="4051440"/>
                  <a:ext cx="218880" cy="107640"/>
                </a:xfrm>
                <a:custGeom>
                  <a:avLst/>
                  <a:gdLst/>
                  <a:ahLst/>
                  <a:rect l="l" t="t" r="r" b="b"/>
                  <a:pathLst>
                    <a:path w="138" h="68">
                      <a:moveTo>
                        <a:pt x="0" y="43"/>
                      </a:moveTo>
                      <a:lnTo>
                        <a:pt x="7" y="68"/>
                      </a:lnTo>
                      <a:lnTo>
                        <a:pt x="138" y="26"/>
                      </a:lnTo>
                      <a:lnTo>
                        <a:pt x="131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3552840" y="3984480"/>
                  <a:ext cx="196920" cy="174600"/>
                </a:xfrm>
                <a:custGeom>
                  <a:avLst/>
                  <a:gdLst/>
                  <a:ahLst/>
                  <a:rect l="l" t="t" r="r" b="b"/>
                  <a:pathLst>
                    <a:path w="124" h="110">
                      <a:moveTo>
                        <a:pt x="35" y="110"/>
                      </a:moveTo>
                      <a:lnTo>
                        <a:pt x="124" y="18"/>
                      </a:lnTo>
                      <a:lnTo>
                        <a:pt x="0" y="0"/>
                      </a:lnTo>
                      <a:lnTo>
                        <a:pt x="35" y="11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9" name=""/>
              <p:cNvGrpSpPr/>
              <p:nvPr/>
            </p:nvGrpSpPr>
            <p:grpSpPr>
              <a:xfrm>
                <a:off x="3998880" y="2368440"/>
                <a:ext cx="2009880" cy="1519200"/>
                <a:chOff x="3998880" y="2368440"/>
                <a:chExt cx="2009880" cy="1519200"/>
              </a:xfrm>
            </p:grpSpPr>
            <p:sp>
              <p:nvSpPr>
                <p:cNvPr id="1630" name=""/>
                <p:cNvSpPr/>
                <p:nvPr/>
              </p:nvSpPr>
              <p:spPr>
                <a:xfrm>
                  <a:off x="4130640" y="2368440"/>
                  <a:ext cx="1878120" cy="1430280"/>
                </a:xfrm>
                <a:custGeom>
                  <a:avLst/>
                  <a:gdLst/>
                  <a:ahLst/>
                  <a:rect l="l" t="t" r="r" b="b"/>
                  <a:pathLst>
                    <a:path w="1183" h="901">
                      <a:moveTo>
                        <a:pt x="1183" y="21"/>
                      </a:moveTo>
                      <a:lnTo>
                        <a:pt x="1168" y="0"/>
                      </a:lnTo>
                      <a:lnTo>
                        <a:pt x="0" y="881"/>
                      </a:lnTo>
                      <a:lnTo>
                        <a:pt x="14" y="901"/>
                      </a:lnTo>
                      <a:lnTo>
                        <a:pt x="1183" y="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3998880" y="3703680"/>
                  <a:ext cx="198360" cy="183960"/>
                </a:xfrm>
                <a:custGeom>
                  <a:avLst/>
                  <a:gdLst/>
                  <a:ahLst/>
                  <a:rect l="l" t="t" r="r" b="b"/>
                  <a:pathLst>
                    <a:path w="125" h="116">
                      <a:moveTo>
                        <a:pt x="58" y="0"/>
                      </a:moveTo>
                      <a:lnTo>
                        <a:pt x="0" y="116"/>
                      </a:lnTo>
                      <a:lnTo>
                        <a:pt x="125" y="94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2" name=""/>
              <p:cNvGrpSpPr/>
              <p:nvPr/>
            </p:nvGrpSpPr>
            <p:grpSpPr>
              <a:xfrm>
                <a:off x="3830760" y="4013280"/>
                <a:ext cx="439560" cy="1635120"/>
                <a:chOff x="3830760" y="4013280"/>
                <a:chExt cx="439560" cy="1635120"/>
              </a:xfrm>
            </p:grpSpPr>
            <p:sp>
              <p:nvSpPr>
                <p:cNvPr id="1633" name=""/>
                <p:cNvSpPr/>
                <p:nvPr/>
              </p:nvSpPr>
              <p:spPr>
                <a:xfrm>
                  <a:off x="3898800" y="4186080"/>
                  <a:ext cx="371520" cy="1462320"/>
                </a:xfrm>
                <a:custGeom>
                  <a:avLst/>
                  <a:gdLst/>
                  <a:ahLst/>
                  <a:rect l="l" t="t" r="r" b="b"/>
                  <a:pathLst>
                    <a:path w="234" h="921">
                      <a:moveTo>
                        <a:pt x="210" y="921"/>
                      </a:moveTo>
                      <a:lnTo>
                        <a:pt x="234" y="914"/>
                      </a:lnTo>
                      <a:lnTo>
                        <a:pt x="24" y="0"/>
                      </a:lnTo>
                      <a:lnTo>
                        <a:pt x="0" y="6"/>
                      </a:lnTo>
                      <a:lnTo>
                        <a:pt x="210" y="9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3830760" y="4013280"/>
                  <a:ext cx="176040" cy="201600"/>
                </a:xfrm>
                <a:custGeom>
                  <a:avLst/>
                  <a:gdLst/>
                  <a:ahLst/>
                  <a:rect l="l" t="t" r="r" b="b"/>
                  <a:pathLst>
                    <a:path w="111" h="127">
                      <a:moveTo>
                        <a:pt x="111" y="100"/>
                      </a:moveTo>
                      <a:lnTo>
                        <a:pt x="28" y="0"/>
                      </a:lnTo>
                      <a:lnTo>
                        <a:pt x="0" y="127"/>
                      </a:lnTo>
                      <a:lnTo>
                        <a:pt x="111" y="10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5" name=""/>
              <p:cNvGrpSpPr/>
              <p:nvPr/>
            </p:nvGrpSpPr>
            <p:grpSpPr>
              <a:xfrm>
                <a:off x="1612800" y="4013280"/>
                <a:ext cx="2262240" cy="1404720"/>
                <a:chOff x="1612800" y="4013280"/>
                <a:chExt cx="2262240" cy="1404720"/>
              </a:xfrm>
            </p:grpSpPr>
            <p:sp>
              <p:nvSpPr>
                <p:cNvPr id="1636" name=""/>
                <p:cNvSpPr/>
                <p:nvPr/>
              </p:nvSpPr>
              <p:spPr>
                <a:xfrm>
                  <a:off x="1612800" y="4105440"/>
                  <a:ext cx="2084400" cy="1312560"/>
                </a:xfrm>
                <a:custGeom>
                  <a:avLst/>
                  <a:gdLst/>
                  <a:ahLst/>
                  <a:rect l="l" t="t" r="r" b="b"/>
                  <a:pathLst>
                    <a:path w="1313" h="827">
                      <a:moveTo>
                        <a:pt x="0" y="794"/>
                      </a:moveTo>
                      <a:lnTo>
                        <a:pt x="19" y="827"/>
                      </a:lnTo>
                      <a:lnTo>
                        <a:pt x="1313" y="33"/>
                      </a:lnTo>
                      <a:lnTo>
                        <a:pt x="1294" y="0"/>
                      </a:lnTo>
                      <a:lnTo>
                        <a:pt x="0" y="79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3619440" y="4013280"/>
                  <a:ext cx="255600" cy="225360"/>
                </a:xfrm>
                <a:custGeom>
                  <a:avLst/>
                  <a:gdLst/>
                  <a:ahLst/>
                  <a:rect l="l" t="t" r="r" b="b"/>
                  <a:pathLst>
                    <a:path w="161" h="142">
                      <a:moveTo>
                        <a:pt x="74" y="142"/>
                      </a:moveTo>
                      <a:lnTo>
                        <a:pt x="161" y="0"/>
                      </a:lnTo>
                      <a:lnTo>
                        <a:pt x="0" y="12"/>
                      </a:lnTo>
                      <a:lnTo>
                        <a:pt x="74" y="14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3998880" y="3497400"/>
                <a:ext cx="206280" cy="264960"/>
                <a:chOff x="3998880" y="3497400"/>
                <a:chExt cx="206280" cy="264960"/>
              </a:xfrm>
            </p:grpSpPr>
            <p:sp>
              <p:nvSpPr>
                <p:cNvPr id="1639" name=""/>
                <p:cNvSpPr/>
                <p:nvPr/>
              </p:nvSpPr>
              <p:spPr>
                <a:xfrm>
                  <a:off x="4076640" y="3497400"/>
                  <a:ext cx="73080" cy="7272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46" y="19"/>
                      </a:moveTo>
                      <a:lnTo>
                        <a:pt x="15" y="0"/>
                      </a:lnTo>
                      <a:lnTo>
                        <a:pt x="0" y="26"/>
                      </a:lnTo>
                      <a:lnTo>
                        <a:pt x="31" y="46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3998880" y="3497400"/>
                  <a:ext cx="206280" cy="264960"/>
                </a:xfrm>
                <a:custGeom>
                  <a:avLst/>
                  <a:gdLst/>
                  <a:ahLst/>
                  <a:rect l="l" t="t" r="r" b="b"/>
                  <a:pathLst>
                    <a:path w="130" h="167">
                      <a:moveTo>
                        <a:pt x="2" y="0"/>
                      </a:moveTo>
                      <a:lnTo>
                        <a:pt x="0" y="167"/>
                      </a:lnTo>
                      <a:lnTo>
                        <a:pt x="130" y="68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1" name=""/>
              <p:cNvGrpSpPr/>
              <p:nvPr/>
            </p:nvGrpSpPr>
            <p:grpSpPr>
              <a:xfrm>
                <a:off x="3998880" y="4002120"/>
                <a:ext cx="1886040" cy="917640"/>
                <a:chOff x="3998880" y="4002120"/>
                <a:chExt cx="1886040" cy="917640"/>
              </a:xfrm>
            </p:grpSpPr>
            <p:sp>
              <p:nvSpPr>
                <p:cNvPr id="1642" name=""/>
                <p:cNvSpPr/>
                <p:nvPr/>
              </p:nvSpPr>
              <p:spPr>
                <a:xfrm>
                  <a:off x="4194000" y="4083120"/>
                  <a:ext cx="1690920" cy="836640"/>
                </a:xfrm>
                <a:custGeom>
                  <a:avLst/>
                  <a:gdLst/>
                  <a:ahLst/>
                  <a:rect l="l" t="t" r="r" b="b"/>
                  <a:pathLst>
                    <a:path w="1065" h="527">
                      <a:moveTo>
                        <a:pt x="1049" y="527"/>
                      </a:moveTo>
                      <a:lnTo>
                        <a:pt x="1065" y="491"/>
                      </a:lnTo>
                      <a:lnTo>
                        <a:pt x="15" y="0"/>
                      </a:lnTo>
                      <a:lnTo>
                        <a:pt x="0" y="36"/>
                      </a:lnTo>
                      <a:lnTo>
                        <a:pt x="1049" y="52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3998880" y="4002120"/>
                  <a:ext cx="257040" cy="217440"/>
                </a:xfrm>
                <a:custGeom>
                  <a:avLst/>
                  <a:gdLst/>
                  <a:ahLst/>
                  <a:rect l="l" t="t" r="r" b="b"/>
                  <a:pathLst>
                    <a:path w="162" h="137">
                      <a:moveTo>
                        <a:pt x="162" y="0"/>
                      </a:moveTo>
                      <a:lnTo>
                        <a:pt x="0" y="7"/>
                      </a:lnTo>
                      <a:lnTo>
                        <a:pt x="103" y="137"/>
                      </a:lnTo>
                      <a:lnTo>
                        <a:pt x="16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4" name=""/>
              <p:cNvGrpSpPr/>
              <p:nvPr/>
            </p:nvGrpSpPr>
            <p:grpSpPr>
              <a:xfrm>
                <a:off x="3222720" y="1874880"/>
                <a:ext cx="577800" cy="1887480"/>
                <a:chOff x="3222720" y="1874880"/>
                <a:chExt cx="577800" cy="1887480"/>
              </a:xfrm>
            </p:grpSpPr>
            <p:sp>
              <p:nvSpPr>
                <p:cNvPr id="1645" name=""/>
                <p:cNvSpPr/>
                <p:nvPr/>
              </p:nvSpPr>
              <p:spPr>
                <a:xfrm>
                  <a:off x="3222720" y="1874880"/>
                  <a:ext cx="495360" cy="1670040"/>
                </a:xfrm>
                <a:custGeom>
                  <a:avLst/>
                  <a:gdLst/>
                  <a:ahLst/>
                  <a:rect l="l" t="t" r="r" b="b"/>
                  <a:pathLst>
                    <a:path w="312" h="1052">
                      <a:moveTo>
                        <a:pt x="36" y="0"/>
                      </a:moveTo>
                      <a:lnTo>
                        <a:pt x="0" y="11"/>
                      </a:lnTo>
                      <a:lnTo>
                        <a:pt x="276" y="1052"/>
                      </a:lnTo>
                      <a:lnTo>
                        <a:pt x="312" y="104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3578400" y="3502080"/>
                  <a:ext cx="222120" cy="260280"/>
                </a:xfrm>
                <a:custGeom>
                  <a:avLst/>
                  <a:gdLst/>
                  <a:ahLst/>
                  <a:rect l="l" t="t" r="r" b="b"/>
                  <a:pathLst>
                    <a:path w="140" h="164">
                      <a:moveTo>
                        <a:pt x="0" y="39"/>
                      </a:moveTo>
                      <a:lnTo>
                        <a:pt x="108" y="164"/>
                      </a:lnTo>
                      <a:lnTo>
                        <a:pt x="140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7" name=""/>
              <p:cNvSpPr/>
              <p:nvPr/>
            </p:nvSpPr>
            <p:spPr>
              <a:xfrm flipV="1">
                <a:off x="1754280" y="2133360"/>
                <a:ext cx="4118040" cy="376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1628640" y="3011400"/>
                <a:ext cx="2495520" cy="27561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H="1">
                <a:off x="4622400" y="2509920"/>
                <a:ext cx="1500120" cy="31320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0" name=""/>
              <p:cNvGrpSpPr/>
              <p:nvPr/>
            </p:nvGrpSpPr>
            <p:grpSpPr>
              <a:xfrm>
                <a:off x="1623960" y="2881440"/>
                <a:ext cx="1257480" cy="1137960"/>
                <a:chOff x="1623960" y="2881440"/>
                <a:chExt cx="1257480" cy="113796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1623960" y="2881440"/>
                  <a:ext cx="39600" cy="3780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5" y="1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1676520" y="2928960"/>
                  <a:ext cx="41040" cy="36360"/>
                </a:xfrm>
                <a:custGeom>
                  <a:avLst/>
                  <a:gdLst/>
                  <a:ahLst/>
                  <a:rect l="l" t="t" r="r" b="b"/>
                  <a:pathLst>
                    <a:path w="26" h="23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0" y="23"/>
                      </a:lnTo>
                      <a:lnTo>
                        <a:pt x="21" y="23"/>
                      </a:lnTo>
                      <a:lnTo>
                        <a:pt x="23" y="23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1728720" y="2976480"/>
                  <a:ext cx="4140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1782720" y="3025800"/>
                  <a:ext cx="39600" cy="36360"/>
                </a:xfrm>
                <a:custGeom>
                  <a:avLst/>
                  <a:gdLst/>
                  <a:ahLst/>
                  <a:rect l="l" t="t" r="r" b="b"/>
                  <a:pathLst>
                    <a:path w="25" h="23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21" y="23"/>
                      </a:lnTo>
                      <a:lnTo>
                        <a:pt x="22" y="23"/>
                      </a:lnTo>
                      <a:lnTo>
                        <a:pt x="23" y="23"/>
                      </a:lnTo>
                      <a:lnTo>
                        <a:pt x="24" y="23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1836720" y="307188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20" y="23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3" y="23"/>
                      </a:lnTo>
                      <a:lnTo>
                        <a:pt x="24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4" y="19"/>
                      </a:lnTo>
                      <a:lnTo>
                        <a:pt x="23" y="18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1889280" y="3121200"/>
                  <a:ext cx="41040" cy="36360"/>
                </a:xfrm>
                <a:custGeom>
                  <a:avLst/>
                  <a:gdLst/>
                  <a:ahLst/>
                  <a:rect l="l" t="t" r="r" b="b"/>
                  <a:pathLst>
                    <a:path w="26" h="23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0" y="23"/>
                      </a:lnTo>
                      <a:lnTo>
                        <a:pt x="21" y="23"/>
                      </a:lnTo>
                      <a:lnTo>
                        <a:pt x="22" y="23"/>
                      </a:lnTo>
                      <a:lnTo>
                        <a:pt x="23" y="23"/>
                      </a:lnTo>
                      <a:lnTo>
                        <a:pt x="24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4" y="18"/>
                      </a:lnTo>
                      <a:lnTo>
                        <a:pt x="23" y="1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1941480" y="3166920"/>
                  <a:ext cx="39600" cy="3996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21" y="23"/>
                      </a:lnTo>
                      <a:lnTo>
                        <a:pt x="22" y="25"/>
                      </a:lnTo>
                      <a:lnTo>
                        <a:pt x="23" y="25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1995480" y="321624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2048040" y="3263760"/>
                  <a:ext cx="4104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0" y="24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4" y="24"/>
                      </a:lnTo>
                      <a:lnTo>
                        <a:pt x="25" y="23"/>
                      </a:lnTo>
                      <a:lnTo>
                        <a:pt x="26" y="22"/>
                      </a:lnTo>
                      <a:lnTo>
                        <a:pt x="26" y="21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2100240" y="3311640"/>
                  <a:ext cx="39600" cy="3960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5"/>
                      </a:lnTo>
                      <a:lnTo>
                        <a:pt x="23" y="25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2154240" y="335916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4"/>
                      </a:lnTo>
                      <a:lnTo>
                        <a:pt x="25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4" y="19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2206800" y="3408480"/>
                  <a:ext cx="4104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2259000" y="3456000"/>
                  <a:ext cx="42840" cy="3636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3"/>
                      </a:lnTo>
                      <a:lnTo>
                        <a:pt x="23" y="23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7" y="21"/>
                      </a:lnTo>
                      <a:lnTo>
                        <a:pt x="27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2313000" y="350352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2367000" y="3552840"/>
                  <a:ext cx="39600" cy="36360"/>
                </a:xfrm>
                <a:custGeom>
                  <a:avLst/>
                  <a:gdLst/>
                  <a:ahLst/>
                  <a:rect l="l" t="t" r="r" b="b"/>
                  <a:pathLst>
                    <a:path w="25" h="23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1" y="23"/>
                      </a:lnTo>
                      <a:lnTo>
                        <a:pt x="22" y="23"/>
                      </a:lnTo>
                      <a:lnTo>
                        <a:pt x="23" y="23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2419200" y="3598920"/>
                  <a:ext cx="4140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20" y="23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2471760" y="3648240"/>
                  <a:ext cx="39600" cy="36360"/>
                </a:xfrm>
                <a:custGeom>
                  <a:avLst/>
                  <a:gdLst/>
                  <a:ahLst/>
                  <a:rect l="l" t="t" r="r" b="b"/>
                  <a:pathLst>
                    <a:path w="25" h="23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21" y="23"/>
                      </a:lnTo>
                      <a:lnTo>
                        <a:pt x="22" y="23"/>
                      </a:lnTo>
                      <a:lnTo>
                        <a:pt x="23" y="23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2525760" y="369576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2577960" y="3743280"/>
                  <a:ext cx="4140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2630520" y="3790800"/>
                  <a:ext cx="42840" cy="38160"/>
                </a:xfrm>
                <a:custGeom>
                  <a:avLst/>
                  <a:gdLst/>
                  <a:ahLst/>
                  <a:rect l="l" t="t" r="r" b="b"/>
                  <a:pathLst>
                    <a:path w="27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4"/>
                      </a:lnTo>
                      <a:lnTo>
                        <a:pt x="25" y="23"/>
                      </a:lnTo>
                      <a:lnTo>
                        <a:pt x="27" y="22"/>
                      </a:lnTo>
                      <a:lnTo>
                        <a:pt x="27" y="21"/>
                      </a:lnTo>
                      <a:lnTo>
                        <a:pt x="25" y="20"/>
                      </a:lnTo>
                      <a:lnTo>
                        <a:pt x="24" y="19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2684520" y="384012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2738520" y="388620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20" y="24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4" y="20"/>
                      </a:lnTo>
                      <a:lnTo>
                        <a:pt x="23" y="19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2790720" y="3935520"/>
                  <a:ext cx="4140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0" y="23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5" y="19"/>
                      </a:lnTo>
                      <a:lnTo>
                        <a:pt x="24" y="1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2843280" y="3981600"/>
                  <a:ext cx="38160" cy="3780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20" y="24"/>
                      </a:lnTo>
                      <a:lnTo>
                        <a:pt x="21" y="24"/>
                      </a:lnTo>
                      <a:lnTo>
                        <a:pt x="21" y="24"/>
                      </a:lnTo>
                      <a:lnTo>
                        <a:pt x="22" y="22"/>
                      </a:lnTo>
                      <a:lnTo>
                        <a:pt x="23" y="21"/>
                      </a:lnTo>
                      <a:lnTo>
                        <a:pt x="24" y="20"/>
                      </a:lnTo>
                      <a:lnTo>
                        <a:pt x="24" y="20"/>
                      </a:lnTo>
                      <a:lnTo>
                        <a:pt x="23" y="19"/>
                      </a:lnTo>
                      <a:lnTo>
                        <a:pt x="23" y="18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3370320" y="4635360"/>
                <a:ext cx="760320" cy="1013040"/>
                <a:chOff x="3370320" y="4635360"/>
                <a:chExt cx="760320" cy="101304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3370320" y="4635360"/>
                  <a:ext cx="34920" cy="42840"/>
                </a:xfrm>
                <a:custGeom>
                  <a:avLst/>
                  <a:gdLst/>
                  <a:ahLst/>
                  <a:rect l="l" t="t" r="r" b="b"/>
                  <a:pathLst>
                    <a:path w="22" h="27">
                      <a:moveTo>
                        <a:pt x="6" y="2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21" y="2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413160" y="4692600"/>
                  <a:ext cx="36360" cy="42840"/>
                </a:xfrm>
                <a:custGeom>
                  <a:avLst/>
                  <a:gdLst/>
                  <a:ahLst/>
                  <a:rect l="l" t="t" r="r" b="b"/>
                  <a:pathLst>
                    <a:path w="23" h="27">
                      <a:moveTo>
                        <a:pt x="6" y="2"/>
                      </a:move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6" y="26"/>
                      </a:lnTo>
                      <a:lnTo>
                        <a:pt x="17" y="27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2" y="26"/>
                      </a:lnTo>
                      <a:lnTo>
                        <a:pt x="23" y="25"/>
                      </a:lnTo>
                      <a:lnTo>
                        <a:pt x="23" y="24"/>
                      </a:lnTo>
                      <a:lnTo>
                        <a:pt x="22" y="23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3457440" y="4749840"/>
                  <a:ext cx="33480" cy="42840"/>
                </a:xfrm>
                <a:custGeom>
                  <a:avLst/>
                  <a:gdLst/>
                  <a:ahLst/>
                  <a:rect l="l" t="t" r="r" b="b"/>
                  <a:pathLst>
                    <a:path w="21" h="27">
                      <a:moveTo>
                        <a:pt x="5" y="2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6" y="26"/>
                      </a:lnTo>
                      <a:lnTo>
                        <a:pt x="17" y="27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1" y="26"/>
                      </a:lnTo>
                      <a:lnTo>
                        <a:pt x="21" y="25"/>
                      </a:lnTo>
                      <a:lnTo>
                        <a:pt x="21" y="24"/>
                      </a:lnTo>
                      <a:lnTo>
                        <a:pt x="21" y="2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3498840" y="4807080"/>
                  <a:ext cx="34920" cy="4428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7" y="2"/>
                      </a:move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17" y="26"/>
                      </a:lnTo>
                      <a:lnTo>
                        <a:pt x="18" y="28"/>
                      </a:lnTo>
                      <a:lnTo>
                        <a:pt x="19" y="28"/>
                      </a:lnTo>
                      <a:lnTo>
                        <a:pt x="20" y="28"/>
                      </a:lnTo>
                      <a:lnTo>
                        <a:pt x="21" y="28"/>
                      </a:lnTo>
                      <a:lnTo>
                        <a:pt x="22" y="26"/>
                      </a:lnTo>
                      <a:lnTo>
                        <a:pt x="22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3543480" y="4865760"/>
                  <a:ext cx="34920" cy="4428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6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5" y="26"/>
                      </a:lnTo>
                      <a:lnTo>
                        <a:pt x="16" y="27"/>
                      </a:lnTo>
                      <a:lnTo>
                        <a:pt x="18" y="28"/>
                      </a:lnTo>
                      <a:lnTo>
                        <a:pt x="19" y="28"/>
                      </a:lnTo>
                      <a:lnTo>
                        <a:pt x="20" y="27"/>
                      </a:lnTo>
                      <a:lnTo>
                        <a:pt x="21" y="26"/>
                      </a:lnTo>
                      <a:lnTo>
                        <a:pt x="22" y="25"/>
                      </a:lnTo>
                      <a:lnTo>
                        <a:pt x="22" y="23"/>
                      </a:lnTo>
                      <a:lnTo>
                        <a:pt x="21" y="2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3586320" y="4924440"/>
                  <a:ext cx="34920" cy="42840"/>
                </a:xfrm>
                <a:custGeom>
                  <a:avLst/>
                  <a:gdLst/>
                  <a:ahLst/>
                  <a:rect l="l" t="t" r="r" b="b"/>
                  <a:pathLst>
                    <a:path w="22" h="27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21" y="22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3629160" y="4981680"/>
                  <a:ext cx="33120" cy="42840"/>
                </a:xfrm>
                <a:custGeom>
                  <a:avLst/>
                  <a:gdLst/>
                  <a:ahLst/>
                  <a:rect l="l" t="t" r="r" b="b"/>
                  <a:pathLst>
                    <a:path w="21" h="27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1" y="24"/>
                      </a:lnTo>
                      <a:lnTo>
                        <a:pt x="21" y="23"/>
                      </a:lnTo>
                      <a:lnTo>
                        <a:pt x="21" y="22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3672000" y="5038560"/>
                  <a:ext cx="34920" cy="43200"/>
                </a:xfrm>
                <a:custGeom>
                  <a:avLst/>
                  <a:gdLst/>
                  <a:ahLst/>
                  <a:rect l="l" t="t" r="r" b="b"/>
                  <a:pathLst>
                    <a:path w="22" h="27">
                      <a:moveTo>
                        <a:pt x="6" y="2"/>
                      </a:move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7" y="26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1" y="27"/>
                      </a:lnTo>
                      <a:lnTo>
                        <a:pt x="22" y="26"/>
                      </a:lnTo>
                      <a:lnTo>
                        <a:pt x="22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3714840" y="5095800"/>
                  <a:ext cx="34920" cy="4464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6" y="2"/>
                      </a:move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17" y="26"/>
                      </a:lnTo>
                      <a:lnTo>
                        <a:pt x="18" y="28"/>
                      </a:lnTo>
                      <a:lnTo>
                        <a:pt x="19" y="28"/>
                      </a:lnTo>
                      <a:lnTo>
                        <a:pt x="20" y="28"/>
                      </a:lnTo>
                      <a:lnTo>
                        <a:pt x="21" y="28"/>
                      </a:lnTo>
                      <a:lnTo>
                        <a:pt x="22" y="26"/>
                      </a:lnTo>
                      <a:lnTo>
                        <a:pt x="22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3759120" y="5153040"/>
                  <a:ext cx="34920" cy="4428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6" y="3"/>
                      </a:move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15" y="27"/>
                      </a:lnTo>
                      <a:lnTo>
                        <a:pt x="16" y="28"/>
                      </a:lnTo>
                      <a:lnTo>
                        <a:pt x="17" y="28"/>
                      </a:lnTo>
                      <a:lnTo>
                        <a:pt x="19" y="28"/>
                      </a:lnTo>
                      <a:lnTo>
                        <a:pt x="20" y="28"/>
                      </a:lnTo>
                      <a:lnTo>
                        <a:pt x="21" y="27"/>
                      </a:lnTo>
                      <a:lnTo>
                        <a:pt x="22" y="26"/>
                      </a:lnTo>
                      <a:lnTo>
                        <a:pt x="22" y="24"/>
                      </a:lnTo>
                      <a:lnTo>
                        <a:pt x="21" y="2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3801960" y="52135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6"/>
                      </a:lnTo>
                      <a:lnTo>
                        <a:pt x="19" y="26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21" y="22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3844800" y="5270400"/>
                  <a:ext cx="33480" cy="42840"/>
                </a:xfrm>
                <a:custGeom>
                  <a:avLst/>
                  <a:gdLst/>
                  <a:ahLst/>
                  <a:rect l="l" t="t" r="r" b="b"/>
                  <a:pathLst>
                    <a:path w="21" h="27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1" y="24"/>
                      </a:lnTo>
                      <a:lnTo>
                        <a:pt x="21" y="23"/>
                      </a:lnTo>
                      <a:lnTo>
                        <a:pt x="21" y="22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3887640" y="5327640"/>
                  <a:ext cx="34920" cy="42840"/>
                </a:xfrm>
                <a:custGeom>
                  <a:avLst/>
                  <a:gdLst/>
                  <a:ahLst/>
                  <a:rect l="l" t="t" r="r" b="b"/>
                  <a:pathLst>
                    <a:path w="22" h="27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7" y="25"/>
                      </a:lnTo>
                      <a:lnTo>
                        <a:pt x="18" y="26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1" y="26"/>
                      </a:lnTo>
                      <a:lnTo>
                        <a:pt x="22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22" y="22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3930480" y="5384880"/>
                  <a:ext cx="34920" cy="4428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8"/>
                      </a:lnTo>
                      <a:lnTo>
                        <a:pt x="19" y="28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21" y="22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3975120" y="5442120"/>
                  <a:ext cx="34920" cy="4428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5" y="3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5" y="27"/>
                      </a:lnTo>
                      <a:lnTo>
                        <a:pt x="16" y="28"/>
                      </a:lnTo>
                      <a:lnTo>
                        <a:pt x="17" y="28"/>
                      </a:lnTo>
                      <a:lnTo>
                        <a:pt x="18" y="28"/>
                      </a:lnTo>
                      <a:lnTo>
                        <a:pt x="20" y="28"/>
                      </a:lnTo>
                      <a:lnTo>
                        <a:pt x="21" y="27"/>
                      </a:lnTo>
                      <a:lnTo>
                        <a:pt x="22" y="26"/>
                      </a:lnTo>
                      <a:lnTo>
                        <a:pt x="22" y="24"/>
                      </a:lnTo>
                      <a:lnTo>
                        <a:pt x="21" y="2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4017960" y="5499000"/>
                  <a:ext cx="34920" cy="4464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5" y="3"/>
                      </a:move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6" y="27"/>
                      </a:lnTo>
                      <a:lnTo>
                        <a:pt x="17" y="28"/>
                      </a:lnTo>
                      <a:lnTo>
                        <a:pt x="18" y="28"/>
                      </a:lnTo>
                      <a:lnTo>
                        <a:pt x="19" y="28"/>
                      </a:lnTo>
                      <a:lnTo>
                        <a:pt x="20" y="28"/>
                      </a:lnTo>
                      <a:lnTo>
                        <a:pt x="21" y="27"/>
                      </a:lnTo>
                      <a:lnTo>
                        <a:pt x="22" y="26"/>
                      </a:lnTo>
                      <a:lnTo>
                        <a:pt x="22" y="25"/>
                      </a:lnTo>
                      <a:lnTo>
                        <a:pt x="21" y="2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4060800" y="5557680"/>
                  <a:ext cx="33480" cy="43200"/>
                </a:xfrm>
                <a:custGeom>
                  <a:avLst/>
                  <a:gdLst/>
                  <a:ahLst/>
                  <a:rect l="l" t="t" r="r" b="b"/>
                  <a:pathLst>
                    <a:path w="21" h="27">
                      <a:moveTo>
                        <a:pt x="6" y="2"/>
                      </a:move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6" y="26"/>
                      </a:lnTo>
                      <a:lnTo>
                        <a:pt x="17" y="27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1" y="26"/>
                      </a:lnTo>
                      <a:lnTo>
                        <a:pt x="21" y="25"/>
                      </a:lnTo>
                      <a:lnTo>
                        <a:pt x="21" y="24"/>
                      </a:lnTo>
                      <a:lnTo>
                        <a:pt x="21" y="23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4103640" y="56167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1" y="19"/>
                      </a:lnTo>
                      <a:lnTo>
                        <a:pt x="12" y="19"/>
                      </a:lnTo>
                      <a:lnTo>
                        <a:pt x="13" y="20"/>
                      </a:lnTo>
                      <a:lnTo>
                        <a:pt x="13" y="20"/>
                      </a:lnTo>
                      <a:lnTo>
                        <a:pt x="14" y="19"/>
                      </a:lnTo>
                      <a:lnTo>
                        <a:pt x="15" y="17"/>
                      </a:lnTo>
                      <a:lnTo>
                        <a:pt x="17" y="16"/>
                      </a:lnTo>
                      <a:lnTo>
                        <a:pt x="17" y="16"/>
                      </a:lnTo>
                      <a:lnTo>
                        <a:pt x="17" y="15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4" name=""/>
              <p:cNvSpPr/>
              <p:nvPr/>
            </p:nvSpPr>
            <p:spPr>
              <a:xfrm flipH="1">
                <a:off x="1641240" y="1882800"/>
                <a:ext cx="1360440" cy="3259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V="1">
                <a:off x="1770120" y="5141520"/>
                <a:ext cx="4102200" cy="374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00280" y="1882800"/>
                <a:ext cx="2497320" cy="2882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375000" y="1882800"/>
                <a:ext cx="623880" cy="1003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498920" y="3511440"/>
                <a:ext cx="1498680" cy="1379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V="1">
                <a:off x="1641600" y="3387240"/>
                <a:ext cx="2495520" cy="1879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0" name=""/>
              <p:cNvGrpSpPr/>
              <p:nvPr/>
            </p:nvGrpSpPr>
            <p:grpSpPr>
              <a:xfrm>
                <a:off x="4618080" y="2254320"/>
                <a:ext cx="1258920" cy="887400"/>
                <a:chOff x="4618080" y="2254320"/>
                <a:chExt cx="1258920" cy="88740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5834160" y="225432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6" y="6"/>
                      </a:moveTo>
                      <a:lnTo>
                        <a:pt x="26" y="4"/>
                      </a:lnTo>
                      <a:lnTo>
                        <a:pt x="27" y="3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3" y="1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5775480" y="229536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6" y="6"/>
                      </a:move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" y="14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20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0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5718240" y="2335320"/>
                  <a:ext cx="41040" cy="33120"/>
                </a:xfrm>
                <a:custGeom>
                  <a:avLst/>
                  <a:gdLst/>
                  <a:ahLst/>
                  <a:rect l="l" t="t" r="r" b="b"/>
                  <a:pathLst>
                    <a:path w="26" h="21">
                      <a:moveTo>
                        <a:pt x="25" y="7"/>
                      </a:moveTo>
                      <a:lnTo>
                        <a:pt x="26" y="6"/>
                      </a:lnTo>
                      <a:lnTo>
                        <a:pt x="26" y="5"/>
                      </a:lnTo>
                      <a:lnTo>
                        <a:pt x="26" y="4"/>
                      </a:lnTo>
                      <a:lnTo>
                        <a:pt x="26" y="3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5659560" y="237816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5" y="5"/>
                      </a:moveTo>
                      <a:lnTo>
                        <a:pt x="26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19"/>
                      </a:lnTo>
                      <a:lnTo>
                        <a:pt x="25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600880" y="241776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5" y="6"/>
                      </a:move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5541840" y="2459160"/>
                  <a:ext cx="44640" cy="331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5" y="6"/>
                      </a:moveTo>
                      <a:lnTo>
                        <a:pt x="26" y="5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" y="14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20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0"/>
                      </a:lnTo>
                      <a:lnTo>
                        <a:pt x="25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5483160" y="2498760"/>
                  <a:ext cx="44640" cy="3492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27" y="7"/>
                      </a:move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2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2"/>
                      </a:lnTo>
                      <a:lnTo>
                        <a:pt x="4" y="22"/>
                      </a:lnTo>
                      <a:lnTo>
                        <a:pt x="6" y="21"/>
                      </a:lnTo>
                      <a:lnTo>
                        <a:pt x="27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5424480" y="2541600"/>
                  <a:ext cx="4428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7" y="5"/>
                      </a:move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27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5369040" y="258120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5" y="7"/>
                      </a:move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4" y="21"/>
                      </a:lnTo>
                      <a:lnTo>
                        <a:pt x="25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5310360" y="262260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5" y="6"/>
                      </a:move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5251320" y="266220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5" y="7"/>
                      </a:move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6" y="3"/>
                      </a:lnTo>
                      <a:lnTo>
                        <a:pt x="25" y="2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2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2"/>
                      </a:lnTo>
                      <a:lnTo>
                        <a:pt x="4" y="22"/>
                      </a:lnTo>
                      <a:lnTo>
                        <a:pt x="5" y="21"/>
                      </a:lnTo>
                      <a:lnTo>
                        <a:pt x="25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5192640" y="270504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6" y="5"/>
                      </a:move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26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5133960" y="274464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6" y="7"/>
                      </a:move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1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2"/>
                      </a:lnTo>
                      <a:lnTo>
                        <a:pt x="4" y="22"/>
                      </a:lnTo>
                      <a:lnTo>
                        <a:pt x="5" y="21"/>
                      </a:lnTo>
                      <a:lnTo>
                        <a:pt x="26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5076720" y="2786040"/>
                  <a:ext cx="4464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5" y="6"/>
                      </a:moveTo>
                      <a:lnTo>
                        <a:pt x="26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5018040" y="2827440"/>
                  <a:ext cx="44640" cy="331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6" y="6"/>
                      </a:move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0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4959360" y="2868480"/>
                  <a:ext cx="4428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6" y="5"/>
                      </a:moveTo>
                      <a:lnTo>
                        <a:pt x="27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0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26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4900680" y="2908440"/>
                  <a:ext cx="44280" cy="3492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27" y="7"/>
                      </a:moveTo>
                      <a:lnTo>
                        <a:pt x="28" y="6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1"/>
                      </a:lnTo>
                      <a:lnTo>
                        <a:pt x="3" y="15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3" y="21"/>
                      </a:lnTo>
                      <a:lnTo>
                        <a:pt x="4" y="22"/>
                      </a:lnTo>
                      <a:lnTo>
                        <a:pt x="5" y="22"/>
                      </a:lnTo>
                      <a:lnTo>
                        <a:pt x="6" y="21"/>
                      </a:lnTo>
                      <a:lnTo>
                        <a:pt x="27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4843440" y="294948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6" y="6"/>
                      </a:move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4786200" y="299088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5" y="6"/>
                      </a:move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4" y="20"/>
                      </a:lnTo>
                      <a:lnTo>
                        <a:pt x="25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4727520" y="303228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5" y="5"/>
                      </a:moveTo>
                      <a:lnTo>
                        <a:pt x="26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4668840" y="307188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5" y="7"/>
                      </a:move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" y="15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2"/>
                      </a:lnTo>
                      <a:lnTo>
                        <a:pt x="4" y="22"/>
                      </a:lnTo>
                      <a:lnTo>
                        <a:pt x="5" y="21"/>
                      </a:lnTo>
                      <a:lnTo>
                        <a:pt x="25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4618080" y="3112920"/>
                  <a:ext cx="34920" cy="28800"/>
                </a:xfrm>
                <a:custGeom>
                  <a:avLst/>
                  <a:gdLst/>
                  <a:ahLst/>
                  <a:rect l="l" t="t" r="r" b="b"/>
                  <a:pathLst>
                    <a:path w="22" h="18">
                      <a:moveTo>
                        <a:pt x="21" y="6"/>
                      </a:move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2" y="3"/>
                      </a:lnTo>
                      <a:lnTo>
                        <a:pt x="22" y="2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2" y="12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6" y="18"/>
                      </a:lnTo>
                      <a:lnTo>
                        <a:pt x="21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3" name=""/>
              <p:cNvGrpSpPr/>
              <p:nvPr/>
            </p:nvGrpSpPr>
            <p:grpSpPr>
              <a:xfrm>
                <a:off x="3370320" y="3510000"/>
                <a:ext cx="752400" cy="509400"/>
                <a:chOff x="3370320" y="3510000"/>
                <a:chExt cx="752400" cy="509400"/>
              </a:xfrm>
            </p:grpSpPr>
            <p:sp>
              <p:nvSpPr>
                <p:cNvPr id="1724" name=""/>
                <p:cNvSpPr/>
                <p:nvPr/>
              </p:nvSpPr>
              <p:spPr>
                <a:xfrm>
                  <a:off x="3370320" y="398628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" y="15"/>
                      </a:move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1" y="18"/>
                      </a:lnTo>
                      <a:lnTo>
                        <a:pt x="2" y="19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1"/>
                      </a:lnTo>
                      <a:lnTo>
                        <a:pt x="2" y="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3429000" y="3944880"/>
                  <a:ext cx="4428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" y="16"/>
                      </a:move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26" y="7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2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3489480" y="390672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1" y="15"/>
                      </a:move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0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3548160" y="386712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1" y="14"/>
                      </a:move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0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3606840" y="3827520"/>
                  <a:ext cx="44280" cy="331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" y="15"/>
                      </a:move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1"/>
                      </a:lnTo>
                      <a:lnTo>
                        <a:pt x="2" y="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3666960" y="3787920"/>
                  <a:ext cx="4320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1" y="15"/>
                      </a:move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3724200" y="3749760"/>
                  <a:ext cx="4464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" y="14"/>
                      </a:move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2" y="19"/>
                      </a:lnTo>
                      <a:lnTo>
                        <a:pt x="3" y="20"/>
                      </a:lnTo>
                      <a:lnTo>
                        <a:pt x="4" y="20"/>
                      </a:lnTo>
                      <a:lnTo>
                        <a:pt x="5" y="19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3782880" y="3708360"/>
                  <a:ext cx="4464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" y="16"/>
                      </a:move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27" y="7"/>
                      </a:ln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1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3843360" y="3668760"/>
                  <a:ext cx="44280" cy="331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1" y="16"/>
                      </a:move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26" y="7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3902040" y="3630600"/>
                  <a:ext cx="4464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1" y="14"/>
                      </a:move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0"/>
                      </a:lnTo>
                      <a:lnTo>
                        <a:pt x="27" y="6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3960720" y="359100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" y="14"/>
                      </a:move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1" y="18"/>
                      </a:lnTo>
                      <a:lnTo>
                        <a:pt x="2" y="20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0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4021200" y="3551400"/>
                  <a:ext cx="42840" cy="31680"/>
                </a:xfrm>
                <a:custGeom>
                  <a:avLst/>
                  <a:gdLst/>
                  <a:ahLst/>
                  <a:rect l="l" t="t" r="r" b="b"/>
                  <a:pathLst>
                    <a:path w="27" h="20">
                      <a:moveTo>
                        <a:pt x="1" y="15"/>
                      </a:move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4" y="20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4079880" y="351000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1" y="16"/>
                      </a:move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6" y="7"/>
                      </a:lnTo>
                      <a:lnTo>
                        <a:pt x="27" y="6"/>
                      </a:ln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1"/>
                      </a:lnTo>
                      <a:lnTo>
                        <a:pt x="1" y="1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7" name=""/>
              <p:cNvGrpSpPr/>
              <p:nvPr/>
            </p:nvGrpSpPr>
            <p:grpSpPr>
              <a:xfrm>
                <a:off x="3038400" y="1382760"/>
                <a:ext cx="104760" cy="374760"/>
                <a:chOff x="3038400" y="1382760"/>
                <a:chExt cx="104760" cy="374760"/>
              </a:xfrm>
            </p:grpSpPr>
            <p:sp>
              <p:nvSpPr>
                <p:cNvPr id="1738" name=""/>
                <p:cNvSpPr/>
                <p:nvPr/>
              </p:nvSpPr>
              <p:spPr>
                <a:xfrm flipV="1">
                  <a:off x="3089160" y="1486080"/>
                  <a:ext cx="1440" cy="2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3038400" y="138276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66" h="68">
                      <a:moveTo>
                        <a:pt x="66" y="68"/>
                      </a:moveTo>
                      <a:lnTo>
                        <a:pt x="32" y="0"/>
                      </a:lnTo>
                      <a:lnTo>
                        <a:pt x="0" y="68"/>
                      </a:lnTo>
                      <a:lnTo>
                        <a:pt x="66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0" name=""/>
              <p:cNvGrpSpPr/>
              <p:nvPr/>
            </p:nvGrpSpPr>
            <p:grpSpPr>
              <a:xfrm>
                <a:off x="5991120" y="4765680"/>
                <a:ext cx="104760" cy="376200"/>
                <a:chOff x="5991120" y="4765680"/>
                <a:chExt cx="104760" cy="376200"/>
              </a:xfrm>
            </p:grpSpPr>
            <p:sp>
              <p:nvSpPr>
                <p:cNvPr id="1741" name=""/>
                <p:cNvSpPr/>
                <p:nvPr/>
              </p:nvSpPr>
              <p:spPr>
                <a:xfrm flipV="1">
                  <a:off x="6043320" y="4870440"/>
                  <a:ext cx="1080" cy="2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991120" y="476568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66" h="68">
                      <a:moveTo>
                        <a:pt x="66" y="68"/>
                      </a:moveTo>
                      <a:lnTo>
                        <a:pt x="33" y="0"/>
                      </a:lnTo>
                      <a:lnTo>
                        <a:pt x="0" y="68"/>
                      </a:lnTo>
                      <a:lnTo>
                        <a:pt x="66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3" name=""/>
              <p:cNvGrpSpPr/>
              <p:nvPr/>
            </p:nvGrpSpPr>
            <p:grpSpPr>
              <a:xfrm>
                <a:off x="4075200" y="2992320"/>
                <a:ext cx="104760" cy="376200"/>
                <a:chOff x="4075200" y="2992320"/>
                <a:chExt cx="104760" cy="376200"/>
              </a:xfrm>
            </p:grpSpPr>
            <p:sp>
              <p:nvSpPr>
                <p:cNvPr id="1744" name=""/>
                <p:cNvSpPr/>
                <p:nvPr/>
              </p:nvSpPr>
              <p:spPr>
                <a:xfrm>
                  <a:off x="4127400" y="2992320"/>
                  <a:ext cx="1800" cy="2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4075200" y="326052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66" h="68">
                      <a:moveTo>
                        <a:pt x="0" y="0"/>
                      </a:moveTo>
                      <a:lnTo>
                        <a:pt x="33" y="68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6" name=""/>
              <p:cNvGrpSpPr/>
              <p:nvPr/>
            </p:nvGrpSpPr>
            <p:grpSpPr>
              <a:xfrm>
                <a:off x="1266840" y="5267160"/>
                <a:ext cx="104760" cy="374760"/>
                <a:chOff x="1266840" y="5267160"/>
                <a:chExt cx="104760" cy="374760"/>
              </a:xfrm>
            </p:grpSpPr>
            <p:sp>
              <p:nvSpPr>
                <p:cNvPr id="1747" name=""/>
                <p:cNvSpPr/>
                <p:nvPr/>
              </p:nvSpPr>
              <p:spPr>
                <a:xfrm>
                  <a:off x="1319400" y="5267160"/>
                  <a:ext cx="1440" cy="27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1266840" y="553392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66" h="68">
                      <a:moveTo>
                        <a:pt x="0" y="0"/>
                      </a:moveTo>
                      <a:lnTo>
                        <a:pt x="33" y="68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9" name=""/>
              <p:cNvSpPr/>
              <p:nvPr/>
            </p:nvSpPr>
            <p:spPr>
              <a:xfrm>
                <a:off x="1635120" y="1744560"/>
                <a:ext cx="1290600" cy="654120"/>
              </a:xfrm>
              <a:custGeom>
                <a:avLst/>
                <a:gdLst/>
                <a:ahLst/>
                <a:rect l="l" t="t" r="r" b="b"/>
                <a:pathLst>
                  <a:path w="813" h="412">
                    <a:moveTo>
                      <a:pt x="0" y="394"/>
                    </a:moveTo>
                    <a:lnTo>
                      <a:pt x="8" y="412"/>
                    </a:lnTo>
                    <a:lnTo>
                      <a:pt x="813" y="17"/>
                    </a:lnTo>
                    <a:lnTo>
                      <a:pt x="804" y="0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556080" y="1619280"/>
                <a:ext cx="2301840" cy="404640"/>
              </a:xfrm>
              <a:custGeom>
                <a:avLst/>
                <a:gdLst/>
                <a:ahLst/>
                <a:rect l="l" t="t" r="r" b="b"/>
                <a:pathLst>
                  <a:path w="1450" h="255">
                    <a:moveTo>
                      <a:pt x="3" y="0"/>
                    </a:moveTo>
                    <a:lnTo>
                      <a:pt x="0" y="18"/>
                    </a:lnTo>
                    <a:lnTo>
                      <a:pt x="1447" y="255"/>
                    </a:lnTo>
                    <a:lnTo>
                      <a:pt x="1450" y="23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1768320" y="2746440"/>
                <a:ext cx="2176560" cy="406440"/>
              </a:xfrm>
              <a:custGeom>
                <a:avLst/>
                <a:gdLst/>
                <a:ahLst/>
                <a:rect l="l" t="t" r="r" b="b"/>
                <a:pathLst>
                  <a:path w="1371" h="256">
                    <a:moveTo>
                      <a:pt x="4" y="0"/>
                    </a:moveTo>
                    <a:lnTo>
                      <a:pt x="0" y="19"/>
                    </a:lnTo>
                    <a:lnTo>
                      <a:pt x="1367" y="256"/>
                    </a:lnTo>
                    <a:lnTo>
                      <a:pt x="1371" y="23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4572000" y="2370240"/>
                <a:ext cx="1289160" cy="655560"/>
              </a:xfrm>
              <a:custGeom>
                <a:avLst/>
                <a:gdLst/>
                <a:ahLst/>
                <a:rect l="l" t="t" r="r" b="b"/>
                <a:pathLst>
                  <a:path w="812" h="413">
                    <a:moveTo>
                      <a:pt x="0" y="395"/>
                    </a:moveTo>
                    <a:lnTo>
                      <a:pt x="8" y="413"/>
                    </a:lnTo>
                    <a:lnTo>
                      <a:pt x="812" y="18"/>
                    </a:lnTo>
                    <a:lnTo>
                      <a:pt x="804" y="0"/>
                    </a:lnTo>
                    <a:lnTo>
                      <a:pt x="0" y="39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1768320" y="5504040"/>
                <a:ext cx="2176560" cy="404640"/>
              </a:xfrm>
              <a:custGeom>
                <a:avLst/>
                <a:gdLst/>
                <a:ahLst/>
                <a:rect l="l" t="t" r="r" b="b"/>
                <a:pathLst>
                  <a:path w="1371" h="255">
                    <a:moveTo>
                      <a:pt x="4" y="0"/>
                    </a:moveTo>
                    <a:lnTo>
                      <a:pt x="0" y="18"/>
                    </a:lnTo>
                    <a:lnTo>
                      <a:pt x="1367" y="255"/>
                    </a:lnTo>
                    <a:lnTo>
                      <a:pt x="1371" y="23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700520" y="5129280"/>
                <a:ext cx="1162080" cy="777960"/>
              </a:xfrm>
              <a:custGeom>
                <a:avLst/>
                <a:gdLst/>
                <a:ahLst/>
                <a:rect l="l" t="t" r="r" b="b"/>
                <a:pathLst>
                  <a:path w="732" h="490">
                    <a:moveTo>
                      <a:pt x="0" y="474"/>
                    </a:moveTo>
                    <a:lnTo>
                      <a:pt x="9" y="490"/>
                    </a:lnTo>
                    <a:lnTo>
                      <a:pt x="732" y="16"/>
                    </a:lnTo>
                    <a:lnTo>
                      <a:pt x="723" y="0"/>
                    </a:lnTo>
                    <a:lnTo>
                      <a:pt x="0" y="47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5" name=""/>
              <p:cNvGrpSpPr/>
              <p:nvPr/>
            </p:nvGrpSpPr>
            <p:grpSpPr>
              <a:xfrm>
                <a:off x="3429000" y="4375080"/>
                <a:ext cx="2397240" cy="523800"/>
                <a:chOff x="3429000" y="4375080"/>
                <a:chExt cx="2397240" cy="523800"/>
              </a:xfrm>
            </p:grpSpPr>
            <p:sp>
              <p:nvSpPr>
                <p:cNvPr id="1756" name=""/>
                <p:cNvSpPr/>
                <p:nvPr/>
              </p:nvSpPr>
              <p:spPr>
                <a:xfrm>
                  <a:off x="3429000" y="4375080"/>
                  <a:ext cx="122400" cy="5400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4" y="34"/>
                      </a:lnTo>
                      <a:lnTo>
                        <a:pt x="77" y="1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3635280" y="441792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8"/>
                      </a:lnTo>
                      <a:lnTo>
                        <a:pt x="74" y="34"/>
                      </a:lnTo>
                      <a:lnTo>
                        <a:pt x="78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3841920" y="4460760"/>
                  <a:ext cx="122040" cy="5400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4" y="34"/>
                      </a:lnTo>
                      <a:lnTo>
                        <a:pt x="77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4048200" y="450216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5" y="34"/>
                      </a:lnTo>
                      <a:lnTo>
                        <a:pt x="78" y="1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4255920" y="4546440"/>
                  <a:ext cx="122400" cy="5400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3" y="0"/>
                      </a:moveTo>
                      <a:lnTo>
                        <a:pt x="0" y="18"/>
                      </a:lnTo>
                      <a:lnTo>
                        <a:pt x="73" y="34"/>
                      </a:lnTo>
                      <a:lnTo>
                        <a:pt x="77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4460760" y="458784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5" y="34"/>
                      </a:lnTo>
                      <a:lnTo>
                        <a:pt x="78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4668840" y="463068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5" y="34"/>
                      </a:lnTo>
                      <a:lnTo>
                        <a:pt x="78" y="1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4876920" y="4673520"/>
                  <a:ext cx="122040" cy="5400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3" y="0"/>
                      </a:moveTo>
                      <a:lnTo>
                        <a:pt x="0" y="18"/>
                      </a:lnTo>
                      <a:lnTo>
                        <a:pt x="73" y="34"/>
                      </a:lnTo>
                      <a:lnTo>
                        <a:pt x="77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5081760" y="4716360"/>
                  <a:ext cx="12348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5" y="34"/>
                      </a:lnTo>
                      <a:lnTo>
                        <a:pt x="78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5289480" y="4761000"/>
                  <a:ext cx="122400" cy="5400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3" y="0"/>
                      </a:moveTo>
                      <a:lnTo>
                        <a:pt x="0" y="18"/>
                      </a:lnTo>
                      <a:lnTo>
                        <a:pt x="74" y="34"/>
                      </a:lnTo>
                      <a:lnTo>
                        <a:pt x="77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5495760" y="480204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8"/>
                      </a:lnTo>
                      <a:lnTo>
                        <a:pt x="74" y="34"/>
                      </a:lnTo>
                      <a:lnTo>
                        <a:pt x="78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5702400" y="484488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5" y="34"/>
                      </a:lnTo>
                      <a:lnTo>
                        <a:pt x="78" y="1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8" name=""/>
              <p:cNvGrpSpPr/>
              <p:nvPr/>
            </p:nvGrpSpPr>
            <p:grpSpPr>
              <a:xfrm>
                <a:off x="1635120" y="4502160"/>
                <a:ext cx="1165320" cy="777960"/>
                <a:chOff x="1635120" y="4502160"/>
                <a:chExt cx="1165320" cy="777960"/>
              </a:xfrm>
            </p:grpSpPr>
            <p:sp>
              <p:nvSpPr>
                <p:cNvPr id="1769" name=""/>
                <p:cNvSpPr/>
                <p:nvPr/>
              </p:nvSpPr>
              <p:spPr>
                <a:xfrm>
                  <a:off x="1635120" y="5186520"/>
                  <a:ext cx="115920" cy="93600"/>
                </a:xfrm>
                <a:custGeom>
                  <a:avLst/>
                  <a:gdLst/>
                  <a:ahLst/>
                  <a:rect l="l" t="t" r="r" b="b"/>
                  <a:pathLst>
                    <a:path w="73" h="59">
                      <a:moveTo>
                        <a:pt x="0" y="43"/>
                      </a:moveTo>
                      <a:lnTo>
                        <a:pt x="10" y="59"/>
                      </a:lnTo>
                      <a:lnTo>
                        <a:pt x="73" y="17"/>
                      </a:lnTo>
                      <a:lnTo>
                        <a:pt x="63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1812960" y="5070600"/>
                  <a:ext cx="117360" cy="91800"/>
                </a:xfrm>
                <a:custGeom>
                  <a:avLst/>
                  <a:gdLst/>
                  <a:ahLst/>
                  <a:rect l="l" t="t" r="r" b="b"/>
                  <a:pathLst>
                    <a:path w="74" h="58">
                      <a:moveTo>
                        <a:pt x="0" y="41"/>
                      </a:moveTo>
                      <a:lnTo>
                        <a:pt x="9" y="58"/>
                      </a:lnTo>
                      <a:lnTo>
                        <a:pt x="74" y="16"/>
                      </a:lnTo>
                      <a:lnTo>
                        <a:pt x="64" y="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1992240" y="4952880"/>
                  <a:ext cx="115920" cy="92160"/>
                </a:xfrm>
                <a:custGeom>
                  <a:avLst/>
                  <a:gdLst/>
                  <a:ahLst/>
                  <a:rect l="l" t="t" r="r" b="b"/>
                  <a:pathLst>
                    <a:path w="73" h="58">
                      <a:moveTo>
                        <a:pt x="0" y="42"/>
                      </a:moveTo>
                      <a:lnTo>
                        <a:pt x="9" y="58"/>
                      </a:lnTo>
                      <a:lnTo>
                        <a:pt x="73" y="17"/>
                      </a:lnTo>
                      <a:lnTo>
                        <a:pt x="64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2168640" y="4836960"/>
                  <a:ext cx="117360" cy="92160"/>
                </a:xfrm>
                <a:custGeom>
                  <a:avLst/>
                  <a:gdLst/>
                  <a:ahLst/>
                  <a:rect l="l" t="t" r="r" b="b"/>
                  <a:pathLst>
                    <a:path w="74" h="58">
                      <a:moveTo>
                        <a:pt x="0" y="41"/>
                      </a:moveTo>
                      <a:lnTo>
                        <a:pt x="10" y="58"/>
                      </a:lnTo>
                      <a:lnTo>
                        <a:pt x="74" y="16"/>
                      </a:lnTo>
                      <a:lnTo>
                        <a:pt x="65" y="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2347920" y="4719600"/>
                  <a:ext cx="117360" cy="92160"/>
                </a:xfrm>
                <a:custGeom>
                  <a:avLst/>
                  <a:gdLst/>
                  <a:ahLst/>
                  <a:rect l="l" t="t" r="r" b="b"/>
                  <a:pathLst>
                    <a:path w="74" h="58">
                      <a:moveTo>
                        <a:pt x="0" y="42"/>
                      </a:moveTo>
                      <a:lnTo>
                        <a:pt x="10" y="58"/>
                      </a:lnTo>
                      <a:lnTo>
                        <a:pt x="74" y="17"/>
                      </a:lnTo>
                      <a:lnTo>
                        <a:pt x="64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2527200" y="4603680"/>
                  <a:ext cx="117720" cy="92160"/>
                </a:xfrm>
                <a:custGeom>
                  <a:avLst/>
                  <a:gdLst/>
                  <a:ahLst/>
                  <a:rect l="l" t="t" r="r" b="b"/>
                  <a:pathLst>
                    <a:path w="74" h="58">
                      <a:moveTo>
                        <a:pt x="0" y="42"/>
                      </a:moveTo>
                      <a:lnTo>
                        <a:pt x="9" y="58"/>
                      </a:lnTo>
                      <a:lnTo>
                        <a:pt x="74" y="16"/>
                      </a:lnTo>
                      <a:lnTo>
                        <a:pt x="64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2705040" y="4502160"/>
                  <a:ext cx="95400" cy="77760"/>
                </a:xfrm>
                <a:custGeom>
                  <a:avLst/>
                  <a:gdLst/>
                  <a:ahLst/>
                  <a:rect l="l" t="t" r="r" b="b"/>
                  <a:pathLst>
                    <a:path w="60" h="49">
                      <a:moveTo>
                        <a:pt x="0" y="32"/>
                      </a:moveTo>
                      <a:lnTo>
                        <a:pt x="9" y="49"/>
                      </a:lnTo>
                      <a:lnTo>
                        <a:pt x="60" y="17"/>
                      </a:lnTo>
                      <a:lnTo>
                        <a:pt x="50" y="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6" name=""/>
              <p:cNvSpPr/>
              <p:nvPr/>
            </p:nvSpPr>
            <p:spPr>
              <a:xfrm>
                <a:off x="1373040" y="3011400"/>
                <a:ext cx="30240" cy="2130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308480" y="3511440"/>
                <a:ext cx="30240" cy="2130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222960" y="2509920"/>
                <a:ext cx="30240" cy="2130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9" name=""/>
              <p:cNvGrpSpPr/>
              <p:nvPr/>
            </p:nvGrpSpPr>
            <p:grpSpPr>
              <a:xfrm>
                <a:off x="3159000" y="1882800"/>
                <a:ext cx="30240" cy="2004840"/>
                <a:chOff x="3159000" y="1882800"/>
                <a:chExt cx="30240" cy="2004840"/>
              </a:xfrm>
            </p:grpSpPr>
            <p:sp>
              <p:nvSpPr>
                <p:cNvPr id="1780" name=""/>
                <p:cNvSpPr/>
                <p:nvPr/>
              </p:nvSpPr>
              <p:spPr>
                <a:xfrm>
                  <a:off x="3159000" y="188280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3159000" y="2101680"/>
                  <a:ext cx="30240" cy="125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3159000" y="2322360"/>
                  <a:ext cx="30240" cy="125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3159000" y="254160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3159000" y="276084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159000" y="297972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3159000" y="319896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3159000" y="3417840"/>
                  <a:ext cx="30240" cy="125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3159000" y="363708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3159000" y="3857760"/>
                  <a:ext cx="30240" cy="298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90" name=""/>
            <p:cNvSpPr/>
            <p:nvPr/>
          </p:nvSpPr>
          <p:spPr>
            <a:xfrm>
              <a:off x="611280" y="765000"/>
              <a:ext cx="612144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thogonal Coupling of Two D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Molecule makes Miracle 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C6C-C02B-4CEC-B33D-B03763B4AB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"/>
          <p:cNvSpPr/>
          <p:nvPr/>
        </p:nvSpPr>
        <p:spPr>
          <a:xfrm>
            <a:off x="1332000" y="1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2233800" y="142920"/>
            <a:ext cx="4230000" cy="4597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of QM Electron 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0" y="6219720"/>
            <a:ext cx="89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b) D</a:t>
            </a: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molecule (stable):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2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 =(2+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/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Arial"/>
              </a:rPr>
              <a:t>A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+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Χ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1,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493560" y="1046160"/>
            <a:ext cx="8273160" cy="5120280"/>
            <a:chOff x="493560" y="1046160"/>
            <a:chExt cx="8273160" cy="5120280"/>
          </a:xfrm>
        </p:grpSpPr>
        <p:sp>
          <p:nvSpPr>
            <p:cNvPr id="1795" name=""/>
            <p:cNvSpPr/>
            <p:nvPr/>
          </p:nvSpPr>
          <p:spPr>
            <a:xfrm flipV="1">
              <a:off x="5016600" y="2111040"/>
              <a:ext cx="64584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654520" y="2111400"/>
              <a:ext cx="476280" cy="64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V="1">
              <a:off x="5016600" y="2685600"/>
              <a:ext cx="645840" cy="50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5483160" y="3325320"/>
              <a:ext cx="64620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019840" y="3191040"/>
              <a:ext cx="474480" cy="64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654520" y="2685960"/>
              <a:ext cx="474840" cy="641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027760" y="2617920"/>
              <a:ext cx="0" cy="5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494320" y="325908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130800" y="2752560"/>
              <a:ext cx="0" cy="5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662440" y="21114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264280" y="1898640"/>
              <a:ext cx="1600200" cy="1655640"/>
            </a:xfrm>
            <a:custGeom>
              <a:avLst/>
              <a:gdLst/>
              <a:ahLst/>
              <a:rect l="l" t="t" r="r" b="b"/>
              <a:pathLst>
                <a:path w="1865" h="1894">
                  <a:moveTo>
                    <a:pt x="921" y="9"/>
                  </a:moveTo>
                  <a:cubicBezTo>
                    <a:pt x="980" y="4"/>
                    <a:pt x="1039" y="0"/>
                    <a:pt x="1091" y="9"/>
                  </a:cubicBezTo>
                  <a:cubicBezTo>
                    <a:pt x="1143" y="18"/>
                    <a:pt x="1186" y="47"/>
                    <a:pt x="1233" y="66"/>
                  </a:cubicBezTo>
                  <a:cubicBezTo>
                    <a:pt x="1280" y="85"/>
                    <a:pt x="1331" y="98"/>
                    <a:pt x="1374" y="122"/>
                  </a:cubicBezTo>
                  <a:cubicBezTo>
                    <a:pt x="1417" y="146"/>
                    <a:pt x="1450" y="179"/>
                    <a:pt x="1488" y="207"/>
                  </a:cubicBezTo>
                  <a:cubicBezTo>
                    <a:pt x="1526" y="235"/>
                    <a:pt x="1563" y="254"/>
                    <a:pt x="1601" y="292"/>
                  </a:cubicBezTo>
                  <a:cubicBezTo>
                    <a:pt x="1639" y="330"/>
                    <a:pt x="1682" y="382"/>
                    <a:pt x="1715" y="434"/>
                  </a:cubicBezTo>
                  <a:cubicBezTo>
                    <a:pt x="1748" y="486"/>
                    <a:pt x="1781" y="543"/>
                    <a:pt x="1800" y="604"/>
                  </a:cubicBezTo>
                  <a:cubicBezTo>
                    <a:pt x="1819" y="665"/>
                    <a:pt x="1819" y="727"/>
                    <a:pt x="1828" y="803"/>
                  </a:cubicBezTo>
                  <a:cubicBezTo>
                    <a:pt x="1837" y="879"/>
                    <a:pt x="1865" y="968"/>
                    <a:pt x="1856" y="1058"/>
                  </a:cubicBezTo>
                  <a:cubicBezTo>
                    <a:pt x="1847" y="1148"/>
                    <a:pt x="1804" y="1261"/>
                    <a:pt x="1771" y="1341"/>
                  </a:cubicBezTo>
                  <a:cubicBezTo>
                    <a:pt x="1738" y="1421"/>
                    <a:pt x="1705" y="1483"/>
                    <a:pt x="1658" y="1540"/>
                  </a:cubicBezTo>
                  <a:cubicBezTo>
                    <a:pt x="1611" y="1597"/>
                    <a:pt x="1540" y="1644"/>
                    <a:pt x="1488" y="1682"/>
                  </a:cubicBezTo>
                  <a:cubicBezTo>
                    <a:pt x="1436" y="1720"/>
                    <a:pt x="1389" y="1739"/>
                    <a:pt x="1346" y="1767"/>
                  </a:cubicBezTo>
                  <a:cubicBezTo>
                    <a:pt x="1303" y="1795"/>
                    <a:pt x="1285" y="1833"/>
                    <a:pt x="1233" y="1852"/>
                  </a:cubicBezTo>
                  <a:cubicBezTo>
                    <a:pt x="1181" y="1871"/>
                    <a:pt x="1100" y="1875"/>
                    <a:pt x="1034" y="1880"/>
                  </a:cubicBezTo>
                  <a:cubicBezTo>
                    <a:pt x="968" y="1885"/>
                    <a:pt x="911" y="1894"/>
                    <a:pt x="836" y="1880"/>
                  </a:cubicBezTo>
                  <a:cubicBezTo>
                    <a:pt x="761" y="1866"/>
                    <a:pt x="642" y="1819"/>
                    <a:pt x="581" y="1795"/>
                  </a:cubicBezTo>
                  <a:cubicBezTo>
                    <a:pt x="520" y="1771"/>
                    <a:pt x="514" y="1766"/>
                    <a:pt x="467" y="1738"/>
                  </a:cubicBezTo>
                  <a:cubicBezTo>
                    <a:pt x="420" y="1710"/>
                    <a:pt x="349" y="1672"/>
                    <a:pt x="297" y="1625"/>
                  </a:cubicBezTo>
                  <a:cubicBezTo>
                    <a:pt x="245" y="1578"/>
                    <a:pt x="188" y="1507"/>
                    <a:pt x="155" y="1455"/>
                  </a:cubicBezTo>
                  <a:cubicBezTo>
                    <a:pt x="122" y="1403"/>
                    <a:pt x="122" y="1374"/>
                    <a:pt x="99" y="1313"/>
                  </a:cubicBezTo>
                  <a:cubicBezTo>
                    <a:pt x="76" y="1252"/>
                    <a:pt x="28" y="1171"/>
                    <a:pt x="14" y="1086"/>
                  </a:cubicBezTo>
                  <a:cubicBezTo>
                    <a:pt x="0" y="1001"/>
                    <a:pt x="5" y="883"/>
                    <a:pt x="14" y="803"/>
                  </a:cubicBezTo>
                  <a:cubicBezTo>
                    <a:pt x="23" y="723"/>
                    <a:pt x="42" y="670"/>
                    <a:pt x="70" y="604"/>
                  </a:cubicBezTo>
                  <a:cubicBezTo>
                    <a:pt x="98" y="538"/>
                    <a:pt x="142" y="467"/>
                    <a:pt x="184" y="406"/>
                  </a:cubicBezTo>
                  <a:cubicBezTo>
                    <a:pt x="226" y="345"/>
                    <a:pt x="273" y="283"/>
                    <a:pt x="325" y="236"/>
                  </a:cubicBezTo>
                  <a:cubicBezTo>
                    <a:pt x="377" y="189"/>
                    <a:pt x="439" y="150"/>
                    <a:pt x="496" y="122"/>
                  </a:cubicBezTo>
                  <a:cubicBezTo>
                    <a:pt x="553" y="94"/>
                    <a:pt x="605" y="85"/>
                    <a:pt x="666" y="66"/>
                  </a:cubicBezTo>
                  <a:cubicBezTo>
                    <a:pt x="727" y="47"/>
                    <a:pt x="812" y="18"/>
                    <a:pt x="864" y="9"/>
                  </a:cubicBezTo>
                  <a:cubicBezTo>
                    <a:pt x="916" y="0"/>
                    <a:pt x="964" y="9"/>
                    <a:pt x="978" y="9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697280" y="2989440"/>
              <a:ext cx="1602000" cy="1653840"/>
            </a:xfrm>
            <a:custGeom>
              <a:avLst/>
              <a:gdLst/>
              <a:ahLst/>
              <a:rect l="l" t="t" r="r" b="b"/>
              <a:pathLst>
                <a:path w="1865" h="1894">
                  <a:moveTo>
                    <a:pt x="921" y="9"/>
                  </a:moveTo>
                  <a:cubicBezTo>
                    <a:pt x="980" y="4"/>
                    <a:pt x="1039" y="0"/>
                    <a:pt x="1091" y="9"/>
                  </a:cubicBezTo>
                  <a:cubicBezTo>
                    <a:pt x="1143" y="18"/>
                    <a:pt x="1186" y="47"/>
                    <a:pt x="1233" y="66"/>
                  </a:cubicBezTo>
                  <a:cubicBezTo>
                    <a:pt x="1280" y="85"/>
                    <a:pt x="1331" y="98"/>
                    <a:pt x="1374" y="122"/>
                  </a:cubicBezTo>
                  <a:cubicBezTo>
                    <a:pt x="1417" y="146"/>
                    <a:pt x="1450" y="179"/>
                    <a:pt x="1488" y="207"/>
                  </a:cubicBezTo>
                  <a:cubicBezTo>
                    <a:pt x="1526" y="235"/>
                    <a:pt x="1563" y="254"/>
                    <a:pt x="1601" y="292"/>
                  </a:cubicBezTo>
                  <a:cubicBezTo>
                    <a:pt x="1639" y="330"/>
                    <a:pt x="1682" y="382"/>
                    <a:pt x="1715" y="434"/>
                  </a:cubicBezTo>
                  <a:cubicBezTo>
                    <a:pt x="1748" y="486"/>
                    <a:pt x="1781" y="543"/>
                    <a:pt x="1800" y="604"/>
                  </a:cubicBezTo>
                  <a:cubicBezTo>
                    <a:pt x="1819" y="665"/>
                    <a:pt x="1819" y="727"/>
                    <a:pt x="1828" y="803"/>
                  </a:cubicBezTo>
                  <a:cubicBezTo>
                    <a:pt x="1837" y="879"/>
                    <a:pt x="1865" y="968"/>
                    <a:pt x="1856" y="1058"/>
                  </a:cubicBezTo>
                  <a:cubicBezTo>
                    <a:pt x="1847" y="1148"/>
                    <a:pt x="1804" y="1261"/>
                    <a:pt x="1771" y="1341"/>
                  </a:cubicBezTo>
                  <a:cubicBezTo>
                    <a:pt x="1738" y="1421"/>
                    <a:pt x="1705" y="1483"/>
                    <a:pt x="1658" y="1540"/>
                  </a:cubicBezTo>
                  <a:cubicBezTo>
                    <a:pt x="1611" y="1597"/>
                    <a:pt x="1540" y="1644"/>
                    <a:pt x="1488" y="1682"/>
                  </a:cubicBezTo>
                  <a:cubicBezTo>
                    <a:pt x="1436" y="1720"/>
                    <a:pt x="1389" y="1739"/>
                    <a:pt x="1346" y="1767"/>
                  </a:cubicBezTo>
                  <a:cubicBezTo>
                    <a:pt x="1303" y="1795"/>
                    <a:pt x="1285" y="1833"/>
                    <a:pt x="1233" y="1852"/>
                  </a:cubicBezTo>
                  <a:cubicBezTo>
                    <a:pt x="1181" y="1871"/>
                    <a:pt x="1100" y="1875"/>
                    <a:pt x="1034" y="1880"/>
                  </a:cubicBezTo>
                  <a:cubicBezTo>
                    <a:pt x="968" y="1885"/>
                    <a:pt x="911" y="1894"/>
                    <a:pt x="836" y="1880"/>
                  </a:cubicBezTo>
                  <a:cubicBezTo>
                    <a:pt x="761" y="1866"/>
                    <a:pt x="642" y="1819"/>
                    <a:pt x="581" y="1795"/>
                  </a:cubicBezTo>
                  <a:cubicBezTo>
                    <a:pt x="520" y="1771"/>
                    <a:pt x="514" y="1766"/>
                    <a:pt x="467" y="1738"/>
                  </a:cubicBezTo>
                  <a:cubicBezTo>
                    <a:pt x="420" y="1710"/>
                    <a:pt x="349" y="1672"/>
                    <a:pt x="297" y="1625"/>
                  </a:cubicBezTo>
                  <a:cubicBezTo>
                    <a:pt x="245" y="1578"/>
                    <a:pt x="188" y="1507"/>
                    <a:pt x="155" y="1455"/>
                  </a:cubicBezTo>
                  <a:cubicBezTo>
                    <a:pt x="122" y="1403"/>
                    <a:pt x="122" y="1374"/>
                    <a:pt x="99" y="1313"/>
                  </a:cubicBezTo>
                  <a:cubicBezTo>
                    <a:pt x="76" y="1252"/>
                    <a:pt x="28" y="1171"/>
                    <a:pt x="14" y="1086"/>
                  </a:cubicBezTo>
                  <a:cubicBezTo>
                    <a:pt x="0" y="1001"/>
                    <a:pt x="5" y="883"/>
                    <a:pt x="14" y="803"/>
                  </a:cubicBezTo>
                  <a:cubicBezTo>
                    <a:pt x="23" y="723"/>
                    <a:pt x="42" y="670"/>
                    <a:pt x="70" y="604"/>
                  </a:cubicBezTo>
                  <a:cubicBezTo>
                    <a:pt x="98" y="538"/>
                    <a:pt x="142" y="467"/>
                    <a:pt x="184" y="406"/>
                  </a:cubicBezTo>
                  <a:cubicBezTo>
                    <a:pt x="226" y="345"/>
                    <a:pt x="273" y="283"/>
                    <a:pt x="325" y="236"/>
                  </a:cubicBezTo>
                  <a:cubicBezTo>
                    <a:pt x="377" y="189"/>
                    <a:pt x="439" y="150"/>
                    <a:pt x="496" y="122"/>
                  </a:cubicBezTo>
                  <a:cubicBezTo>
                    <a:pt x="553" y="94"/>
                    <a:pt x="605" y="85"/>
                    <a:pt x="666" y="66"/>
                  </a:cubicBezTo>
                  <a:cubicBezTo>
                    <a:pt x="727" y="47"/>
                    <a:pt x="812" y="18"/>
                    <a:pt x="864" y="9"/>
                  </a:cubicBezTo>
                  <a:cubicBezTo>
                    <a:pt x="916" y="0"/>
                    <a:pt x="964" y="9"/>
                    <a:pt x="978" y="9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832280" y="1874880"/>
              <a:ext cx="1600200" cy="1654200"/>
            </a:xfrm>
            <a:custGeom>
              <a:avLst/>
              <a:gdLst/>
              <a:ahLst/>
              <a:rect l="l" t="t" r="r" b="b"/>
              <a:pathLst>
                <a:path w="1865" h="1894">
                  <a:moveTo>
                    <a:pt x="921" y="9"/>
                  </a:moveTo>
                  <a:cubicBezTo>
                    <a:pt x="980" y="4"/>
                    <a:pt x="1039" y="0"/>
                    <a:pt x="1091" y="9"/>
                  </a:cubicBezTo>
                  <a:cubicBezTo>
                    <a:pt x="1143" y="18"/>
                    <a:pt x="1186" y="47"/>
                    <a:pt x="1233" y="66"/>
                  </a:cubicBezTo>
                  <a:cubicBezTo>
                    <a:pt x="1280" y="85"/>
                    <a:pt x="1331" y="98"/>
                    <a:pt x="1374" y="122"/>
                  </a:cubicBezTo>
                  <a:cubicBezTo>
                    <a:pt x="1417" y="146"/>
                    <a:pt x="1450" y="179"/>
                    <a:pt x="1488" y="207"/>
                  </a:cubicBezTo>
                  <a:cubicBezTo>
                    <a:pt x="1526" y="235"/>
                    <a:pt x="1563" y="254"/>
                    <a:pt x="1601" y="292"/>
                  </a:cubicBezTo>
                  <a:cubicBezTo>
                    <a:pt x="1639" y="330"/>
                    <a:pt x="1682" y="382"/>
                    <a:pt x="1715" y="434"/>
                  </a:cubicBezTo>
                  <a:cubicBezTo>
                    <a:pt x="1748" y="486"/>
                    <a:pt x="1781" y="543"/>
                    <a:pt x="1800" y="604"/>
                  </a:cubicBezTo>
                  <a:cubicBezTo>
                    <a:pt x="1819" y="665"/>
                    <a:pt x="1819" y="727"/>
                    <a:pt x="1828" y="803"/>
                  </a:cubicBezTo>
                  <a:cubicBezTo>
                    <a:pt x="1837" y="879"/>
                    <a:pt x="1865" y="968"/>
                    <a:pt x="1856" y="1058"/>
                  </a:cubicBezTo>
                  <a:cubicBezTo>
                    <a:pt x="1847" y="1148"/>
                    <a:pt x="1804" y="1261"/>
                    <a:pt x="1771" y="1341"/>
                  </a:cubicBezTo>
                  <a:cubicBezTo>
                    <a:pt x="1738" y="1421"/>
                    <a:pt x="1705" y="1483"/>
                    <a:pt x="1658" y="1540"/>
                  </a:cubicBezTo>
                  <a:cubicBezTo>
                    <a:pt x="1611" y="1597"/>
                    <a:pt x="1540" y="1644"/>
                    <a:pt x="1488" y="1682"/>
                  </a:cubicBezTo>
                  <a:cubicBezTo>
                    <a:pt x="1436" y="1720"/>
                    <a:pt x="1389" y="1739"/>
                    <a:pt x="1346" y="1767"/>
                  </a:cubicBezTo>
                  <a:cubicBezTo>
                    <a:pt x="1303" y="1795"/>
                    <a:pt x="1285" y="1833"/>
                    <a:pt x="1233" y="1852"/>
                  </a:cubicBezTo>
                  <a:cubicBezTo>
                    <a:pt x="1181" y="1871"/>
                    <a:pt x="1100" y="1875"/>
                    <a:pt x="1034" y="1880"/>
                  </a:cubicBezTo>
                  <a:cubicBezTo>
                    <a:pt x="968" y="1885"/>
                    <a:pt x="911" y="1894"/>
                    <a:pt x="836" y="1880"/>
                  </a:cubicBezTo>
                  <a:cubicBezTo>
                    <a:pt x="761" y="1866"/>
                    <a:pt x="642" y="1819"/>
                    <a:pt x="581" y="1795"/>
                  </a:cubicBezTo>
                  <a:cubicBezTo>
                    <a:pt x="520" y="1771"/>
                    <a:pt x="514" y="1766"/>
                    <a:pt x="467" y="1738"/>
                  </a:cubicBezTo>
                  <a:cubicBezTo>
                    <a:pt x="420" y="1710"/>
                    <a:pt x="349" y="1672"/>
                    <a:pt x="297" y="1625"/>
                  </a:cubicBezTo>
                  <a:cubicBezTo>
                    <a:pt x="245" y="1578"/>
                    <a:pt x="188" y="1507"/>
                    <a:pt x="155" y="1455"/>
                  </a:cubicBezTo>
                  <a:cubicBezTo>
                    <a:pt x="122" y="1403"/>
                    <a:pt x="122" y="1374"/>
                    <a:pt x="99" y="1313"/>
                  </a:cubicBezTo>
                  <a:cubicBezTo>
                    <a:pt x="76" y="1252"/>
                    <a:pt x="28" y="1171"/>
                    <a:pt x="14" y="1086"/>
                  </a:cubicBezTo>
                  <a:cubicBezTo>
                    <a:pt x="0" y="1001"/>
                    <a:pt x="5" y="883"/>
                    <a:pt x="14" y="803"/>
                  </a:cubicBezTo>
                  <a:cubicBezTo>
                    <a:pt x="23" y="723"/>
                    <a:pt x="42" y="670"/>
                    <a:pt x="70" y="604"/>
                  </a:cubicBezTo>
                  <a:cubicBezTo>
                    <a:pt x="98" y="538"/>
                    <a:pt x="142" y="467"/>
                    <a:pt x="184" y="406"/>
                  </a:cubicBezTo>
                  <a:cubicBezTo>
                    <a:pt x="226" y="345"/>
                    <a:pt x="273" y="283"/>
                    <a:pt x="325" y="236"/>
                  </a:cubicBezTo>
                  <a:cubicBezTo>
                    <a:pt x="377" y="189"/>
                    <a:pt x="439" y="150"/>
                    <a:pt x="496" y="122"/>
                  </a:cubicBezTo>
                  <a:cubicBezTo>
                    <a:pt x="553" y="94"/>
                    <a:pt x="605" y="85"/>
                    <a:pt x="666" y="66"/>
                  </a:cubicBezTo>
                  <a:cubicBezTo>
                    <a:pt x="727" y="47"/>
                    <a:pt x="812" y="18"/>
                    <a:pt x="864" y="9"/>
                  </a:cubicBezTo>
                  <a:cubicBezTo>
                    <a:pt x="916" y="0"/>
                    <a:pt x="964" y="9"/>
                    <a:pt x="978" y="9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229280" y="1773360"/>
              <a:ext cx="1601640" cy="1654200"/>
            </a:xfrm>
            <a:custGeom>
              <a:avLst/>
              <a:gdLst/>
              <a:ahLst/>
              <a:rect l="l" t="t" r="r" b="b"/>
              <a:pathLst>
                <a:path w="1865" h="1894">
                  <a:moveTo>
                    <a:pt x="921" y="9"/>
                  </a:moveTo>
                  <a:cubicBezTo>
                    <a:pt x="980" y="4"/>
                    <a:pt x="1039" y="0"/>
                    <a:pt x="1091" y="9"/>
                  </a:cubicBezTo>
                  <a:cubicBezTo>
                    <a:pt x="1143" y="18"/>
                    <a:pt x="1186" y="47"/>
                    <a:pt x="1233" y="66"/>
                  </a:cubicBezTo>
                  <a:cubicBezTo>
                    <a:pt x="1280" y="85"/>
                    <a:pt x="1331" y="98"/>
                    <a:pt x="1374" y="122"/>
                  </a:cubicBezTo>
                  <a:cubicBezTo>
                    <a:pt x="1417" y="146"/>
                    <a:pt x="1450" y="179"/>
                    <a:pt x="1488" y="207"/>
                  </a:cubicBezTo>
                  <a:cubicBezTo>
                    <a:pt x="1526" y="235"/>
                    <a:pt x="1563" y="254"/>
                    <a:pt x="1601" y="292"/>
                  </a:cubicBezTo>
                  <a:cubicBezTo>
                    <a:pt x="1639" y="330"/>
                    <a:pt x="1682" y="382"/>
                    <a:pt x="1715" y="434"/>
                  </a:cubicBezTo>
                  <a:cubicBezTo>
                    <a:pt x="1748" y="486"/>
                    <a:pt x="1781" y="543"/>
                    <a:pt x="1800" y="604"/>
                  </a:cubicBezTo>
                  <a:cubicBezTo>
                    <a:pt x="1819" y="665"/>
                    <a:pt x="1819" y="727"/>
                    <a:pt x="1828" y="803"/>
                  </a:cubicBezTo>
                  <a:cubicBezTo>
                    <a:pt x="1837" y="879"/>
                    <a:pt x="1865" y="968"/>
                    <a:pt x="1856" y="1058"/>
                  </a:cubicBezTo>
                  <a:cubicBezTo>
                    <a:pt x="1847" y="1148"/>
                    <a:pt x="1804" y="1261"/>
                    <a:pt x="1771" y="1341"/>
                  </a:cubicBezTo>
                  <a:cubicBezTo>
                    <a:pt x="1738" y="1421"/>
                    <a:pt x="1705" y="1483"/>
                    <a:pt x="1658" y="1540"/>
                  </a:cubicBezTo>
                  <a:cubicBezTo>
                    <a:pt x="1611" y="1597"/>
                    <a:pt x="1540" y="1644"/>
                    <a:pt x="1488" y="1682"/>
                  </a:cubicBezTo>
                  <a:cubicBezTo>
                    <a:pt x="1436" y="1720"/>
                    <a:pt x="1389" y="1739"/>
                    <a:pt x="1346" y="1767"/>
                  </a:cubicBezTo>
                  <a:cubicBezTo>
                    <a:pt x="1303" y="1795"/>
                    <a:pt x="1285" y="1833"/>
                    <a:pt x="1233" y="1852"/>
                  </a:cubicBezTo>
                  <a:cubicBezTo>
                    <a:pt x="1181" y="1871"/>
                    <a:pt x="1100" y="1875"/>
                    <a:pt x="1034" y="1880"/>
                  </a:cubicBezTo>
                  <a:cubicBezTo>
                    <a:pt x="968" y="1885"/>
                    <a:pt x="911" y="1894"/>
                    <a:pt x="836" y="1880"/>
                  </a:cubicBezTo>
                  <a:cubicBezTo>
                    <a:pt x="761" y="1866"/>
                    <a:pt x="642" y="1819"/>
                    <a:pt x="581" y="1795"/>
                  </a:cubicBezTo>
                  <a:cubicBezTo>
                    <a:pt x="520" y="1771"/>
                    <a:pt x="514" y="1766"/>
                    <a:pt x="467" y="1738"/>
                  </a:cubicBezTo>
                  <a:cubicBezTo>
                    <a:pt x="420" y="1710"/>
                    <a:pt x="349" y="1672"/>
                    <a:pt x="297" y="1625"/>
                  </a:cubicBezTo>
                  <a:cubicBezTo>
                    <a:pt x="245" y="1578"/>
                    <a:pt x="188" y="1507"/>
                    <a:pt x="155" y="1455"/>
                  </a:cubicBezTo>
                  <a:cubicBezTo>
                    <a:pt x="122" y="1403"/>
                    <a:pt x="122" y="1374"/>
                    <a:pt x="99" y="1313"/>
                  </a:cubicBezTo>
                  <a:cubicBezTo>
                    <a:pt x="76" y="1252"/>
                    <a:pt x="28" y="1171"/>
                    <a:pt x="14" y="1086"/>
                  </a:cubicBezTo>
                  <a:cubicBezTo>
                    <a:pt x="0" y="1001"/>
                    <a:pt x="5" y="883"/>
                    <a:pt x="14" y="803"/>
                  </a:cubicBezTo>
                  <a:cubicBezTo>
                    <a:pt x="23" y="723"/>
                    <a:pt x="42" y="670"/>
                    <a:pt x="70" y="604"/>
                  </a:cubicBezTo>
                  <a:cubicBezTo>
                    <a:pt x="98" y="538"/>
                    <a:pt x="142" y="467"/>
                    <a:pt x="184" y="406"/>
                  </a:cubicBezTo>
                  <a:cubicBezTo>
                    <a:pt x="226" y="345"/>
                    <a:pt x="273" y="283"/>
                    <a:pt x="325" y="236"/>
                  </a:cubicBezTo>
                  <a:cubicBezTo>
                    <a:pt x="377" y="189"/>
                    <a:pt x="439" y="150"/>
                    <a:pt x="496" y="122"/>
                  </a:cubicBezTo>
                  <a:cubicBezTo>
                    <a:pt x="553" y="94"/>
                    <a:pt x="605" y="85"/>
                    <a:pt x="666" y="66"/>
                  </a:cubicBezTo>
                  <a:cubicBezTo>
                    <a:pt x="727" y="47"/>
                    <a:pt x="812" y="18"/>
                    <a:pt x="864" y="9"/>
                  </a:cubicBezTo>
                  <a:cubicBezTo>
                    <a:pt x="916" y="0"/>
                    <a:pt x="964" y="9"/>
                    <a:pt x="978" y="9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957920" y="2516040"/>
              <a:ext cx="203040" cy="203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027840" y="2651040"/>
              <a:ext cx="20304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559480" y="2617920"/>
              <a:ext cx="20304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391000" y="3664080"/>
              <a:ext cx="204840" cy="2030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595200" y="1539720"/>
              <a:ext cx="20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hr orbit of D (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H="1">
              <a:off x="6724440" y="1808280"/>
              <a:ext cx="47628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307840" y="1133640"/>
              <a:ext cx="34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 center; &lt;e&gt;=(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↑ + e↓)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946560" y="241632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V="1">
              <a:off x="6248520" y="2651040"/>
              <a:ext cx="85248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93560" y="4059360"/>
              <a:ext cx="1602000" cy="1654200"/>
            </a:xfrm>
            <a:custGeom>
              <a:avLst/>
              <a:gdLst/>
              <a:ahLst/>
              <a:rect l="l" t="t" r="r" b="b"/>
              <a:pathLst>
                <a:path w="1865" h="1894">
                  <a:moveTo>
                    <a:pt x="921" y="9"/>
                  </a:moveTo>
                  <a:cubicBezTo>
                    <a:pt x="980" y="4"/>
                    <a:pt x="1039" y="0"/>
                    <a:pt x="1091" y="9"/>
                  </a:cubicBezTo>
                  <a:cubicBezTo>
                    <a:pt x="1143" y="18"/>
                    <a:pt x="1186" y="47"/>
                    <a:pt x="1233" y="66"/>
                  </a:cubicBezTo>
                  <a:cubicBezTo>
                    <a:pt x="1280" y="85"/>
                    <a:pt x="1331" y="98"/>
                    <a:pt x="1374" y="122"/>
                  </a:cubicBezTo>
                  <a:cubicBezTo>
                    <a:pt x="1417" y="146"/>
                    <a:pt x="1450" y="179"/>
                    <a:pt x="1488" y="207"/>
                  </a:cubicBezTo>
                  <a:cubicBezTo>
                    <a:pt x="1526" y="235"/>
                    <a:pt x="1563" y="254"/>
                    <a:pt x="1601" y="292"/>
                  </a:cubicBezTo>
                  <a:cubicBezTo>
                    <a:pt x="1639" y="330"/>
                    <a:pt x="1682" y="382"/>
                    <a:pt x="1715" y="434"/>
                  </a:cubicBezTo>
                  <a:cubicBezTo>
                    <a:pt x="1748" y="486"/>
                    <a:pt x="1781" y="543"/>
                    <a:pt x="1800" y="604"/>
                  </a:cubicBezTo>
                  <a:cubicBezTo>
                    <a:pt x="1819" y="665"/>
                    <a:pt x="1819" y="727"/>
                    <a:pt x="1828" y="803"/>
                  </a:cubicBezTo>
                  <a:cubicBezTo>
                    <a:pt x="1837" y="879"/>
                    <a:pt x="1865" y="968"/>
                    <a:pt x="1856" y="1058"/>
                  </a:cubicBezTo>
                  <a:cubicBezTo>
                    <a:pt x="1847" y="1148"/>
                    <a:pt x="1804" y="1261"/>
                    <a:pt x="1771" y="1341"/>
                  </a:cubicBezTo>
                  <a:cubicBezTo>
                    <a:pt x="1738" y="1421"/>
                    <a:pt x="1705" y="1483"/>
                    <a:pt x="1658" y="1540"/>
                  </a:cubicBezTo>
                  <a:cubicBezTo>
                    <a:pt x="1611" y="1597"/>
                    <a:pt x="1540" y="1644"/>
                    <a:pt x="1488" y="1682"/>
                  </a:cubicBezTo>
                  <a:cubicBezTo>
                    <a:pt x="1436" y="1720"/>
                    <a:pt x="1389" y="1739"/>
                    <a:pt x="1346" y="1767"/>
                  </a:cubicBezTo>
                  <a:cubicBezTo>
                    <a:pt x="1303" y="1795"/>
                    <a:pt x="1285" y="1833"/>
                    <a:pt x="1233" y="1852"/>
                  </a:cubicBezTo>
                  <a:cubicBezTo>
                    <a:pt x="1181" y="1871"/>
                    <a:pt x="1100" y="1875"/>
                    <a:pt x="1034" y="1880"/>
                  </a:cubicBezTo>
                  <a:cubicBezTo>
                    <a:pt x="968" y="1885"/>
                    <a:pt x="911" y="1894"/>
                    <a:pt x="836" y="1880"/>
                  </a:cubicBezTo>
                  <a:cubicBezTo>
                    <a:pt x="761" y="1866"/>
                    <a:pt x="642" y="1819"/>
                    <a:pt x="581" y="1795"/>
                  </a:cubicBezTo>
                  <a:cubicBezTo>
                    <a:pt x="520" y="1771"/>
                    <a:pt x="514" y="1766"/>
                    <a:pt x="467" y="1738"/>
                  </a:cubicBezTo>
                  <a:cubicBezTo>
                    <a:pt x="420" y="1710"/>
                    <a:pt x="349" y="1672"/>
                    <a:pt x="297" y="1625"/>
                  </a:cubicBezTo>
                  <a:cubicBezTo>
                    <a:pt x="245" y="1578"/>
                    <a:pt x="188" y="1507"/>
                    <a:pt x="155" y="1455"/>
                  </a:cubicBezTo>
                  <a:cubicBezTo>
                    <a:pt x="122" y="1403"/>
                    <a:pt x="122" y="1374"/>
                    <a:pt x="99" y="1313"/>
                  </a:cubicBezTo>
                  <a:cubicBezTo>
                    <a:pt x="76" y="1252"/>
                    <a:pt x="28" y="1171"/>
                    <a:pt x="14" y="1086"/>
                  </a:cubicBezTo>
                  <a:cubicBezTo>
                    <a:pt x="0" y="1001"/>
                    <a:pt x="5" y="883"/>
                    <a:pt x="14" y="803"/>
                  </a:cubicBezTo>
                  <a:cubicBezTo>
                    <a:pt x="23" y="723"/>
                    <a:pt x="42" y="670"/>
                    <a:pt x="70" y="604"/>
                  </a:cubicBezTo>
                  <a:cubicBezTo>
                    <a:pt x="98" y="538"/>
                    <a:pt x="142" y="467"/>
                    <a:pt x="184" y="406"/>
                  </a:cubicBezTo>
                  <a:cubicBezTo>
                    <a:pt x="226" y="345"/>
                    <a:pt x="273" y="283"/>
                    <a:pt x="325" y="236"/>
                  </a:cubicBezTo>
                  <a:cubicBezTo>
                    <a:pt x="377" y="189"/>
                    <a:pt x="439" y="150"/>
                    <a:pt x="496" y="122"/>
                  </a:cubicBezTo>
                  <a:cubicBezTo>
                    <a:pt x="553" y="94"/>
                    <a:pt x="605" y="85"/>
                    <a:pt x="666" y="66"/>
                  </a:cubicBezTo>
                  <a:cubicBezTo>
                    <a:pt x="727" y="47"/>
                    <a:pt x="812" y="18"/>
                    <a:pt x="864" y="9"/>
                  </a:cubicBezTo>
                  <a:cubicBezTo>
                    <a:pt x="916" y="0"/>
                    <a:pt x="964" y="9"/>
                    <a:pt x="978" y="9"/>
                  </a:cubicBez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942840" y="1133640"/>
              <a:ext cx="1602000" cy="1653840"/>
            </a:xfrm>
            <a:custGeom>
              <a:avLst/>
              <a:gdLst/>
              <a:ahLst/>
              <a:rect l="l" t="t" r="r" b="b"/>
              <a:pathLst>
                <a:path w="1865" h="1894">
                  <a:moveTo>
                    <a:pt x="921" y="9"/>
                  </a:moveTo>
                  <a:cubicBezTo>
                    <a:pt x="980" y="4"/>
                    <a:pt x="1039" y="0"/>
                    <a:pt x="1091" y="9"/>
                  </a:cubicBezTo>
                  <a:cubicBezTo>
                    <a:pt x="1143" y="18"/>
                    <a:pt x="1186" y="47"/>
                    <a:pt x="1233" y="66"/>
                  </a:cubicBezTo>
                  <a:cubicBezTo>
                    <a:pt x="1280" y="85"/>
                    <a:pt x="1331" y="98"/>
                    <a:pt x="1374" y="122"/>
                  </a:cubicBezTo>
                  <a:cubicBezTo>
                    <a:pt x="1417" y="146"/>
                    <a:pt x="1450" y="179"/>
                    <a:pt x="1488" y="207"/>
                  </a:cubicBezTo>
                  <a:cubicBezTo>
                    <a:pt x="1526" y="235"/>
                    <a:pt x="1563" y="254"/>
                    <a:pt x="1601" y="292"/>
                  </a:cubicBezTo>
                  <a:cubicBezTo>
                    <a:pt x="1639" y="330"/>
                    <a:pt x="1682" y="382"/>
                    <a:pt x="1715" y="434"/>
                  </a:cubicBezTo>
                  <a:cubicBezTo>
                    <a:pt x="1748" y="486"/>
                    <a:pt x="1781" y="543"/>
                    <a:pt x="1800" y="604"/>
                  </a:cubicBezTo>
                  <a:cubicBezTo>
                    <a:pt x="1819" y="665"/>
                    <a:pt x="1819" y="727"/>
                    <a:pt x="1828" y="803"/>
                  </a:cubicBezTo>
                  <a:cubicBezTo>
                    <a:pt x="1837" y="879"/>
                    <a:pt x="1865" y="968"/>
                    <a:pt x="1856" y="1058"/>
                  </a:cubicBezTo>
                  <a:cubicBezTo>
                    <a:pt x="1847" y="1148"/>
                    <a:pt x="1804" y="1261"/>
                    <a:pt x="1771" y="1341"/>
                  </a:cubicBezTo>
                  <a:cubicBezTo>
                    <a:pt x="1738" y="1421"/>
                    <a:pt x="1705" y="1483"/>
                    <a:pt x="1658" y="1540"/>
                  </a:cubicBezTo>
                  <a:cubicBezTo>
                    <a:pt x="1611" y="1597"/>
                    <a:pt x="1540" y="1644"/>
                    <a:pt x="1488" y="1682"/>
                  </a:cubicBezTo>
                  <a:cubicBezTo>
                    <a:pt x="1436" y="1720"/>
                    <a:pt x="1389" y="1739"/>
                    <a:pt x="1346" y="1767"/>
                  </a:cubicBezTo>
                  <a:cubicBezTo>
                    <a:pt x="1303" y="1795"/>
                    <a:pt x="1285" y="1833"/>
                    <a:pt x="1233" y="1852"/>
                  </a:cubicBezTo>
                  <a:cubicBezTo>
                    <a:pt x="1181" y="1871"/>
                    <a:pt x="1100" y="1875"/>
                    <a:pt x="1034" y="1880"/>
                  </a:cubicBezTo>
                  <a:cubicBezTo>
                    <a:pt x="968" y="1885"/>
                    <a:pt x="911" y="1894"/>
                    <a:pt x="836" y="1880"/>
                  </a:cubicBezTo>
                  <a:cubicBezTo>
                    <a:pt x="761" y="1866"/>
                    <a:pt x="642" y="1819"/>
                    <a:pt x="581" y="1795"/>
                  </a:cubicBezTo>
                  <a:cubicBezTo>
                    <a:pt x="520" y="1771"/>
                    <a:pt x="514" y="1766"/>
                    <a:pt x="467" y="1738"/>
                  </a:cubicBezTo>
                  <a:cubicBezTo>
                    <a:pt x="420" y="1710"/>
                    <a:pt x="349" y="1672"/>
                    <a:pt x="297" y="1625"/>
                  </a:cubicBezTo>
                  <a:cubicBezTo>
                    <a:pt x="245" y="1578"/>
                    <a:pt x="188" y="1507"/>
                    <a:pt x="155" y="1455"/>
                  </a:cubicBezTo>
                  <a:cubicBezTo>
                    <a:pt x="122" y="1403"/>
                    <a:pt x="122" y="1374"/>
                    <a:pt x="99" y="1313"/>
                  </a:cubicBezTo>
                  <a:cubicBezTo>
                    <a:pt x="76" y="1252"/>
                    <a:pt x="28" y="1171"/>
                    <a:pt x="14" y="1086"/>
                  </a:cubicBezTo>
                  <a:cubicBezTo>
                    <a:pt x="0" y="1001"/>
                    <a:pt x="5" y="883"/>
                    <a:pt x="14" y="803"/>
                  </a:cubicBezTo>
                  <a:cubicBezTo>
                    <a:pt x="23" y="723"/>
                    <a:pt x="42" y="670"/>
                    <a:pt x="70" y="604"/>
                  </a:cubicBezTo>
                  <a:cubicBezTo>
                    <a:pt x="98" y="538"/>
                    <a:pt x="142" y="467"/>
                    <a:pt x="184" y="406"/>
                  </a:cubicBezTo>
                  <a:cubicBezTo>
                    <a:pt x="226" y="345"/>
                    <a:pt x="273" y="283"/>
                    <a:pt x="325" y="236"/>
                  </a:cubicBezTo>
                  <a:cubicBezTo>
                    <a:pt x="377" y="189"/>
                    <a:pt x="439" y="150"/>
                    <a:pt x="496" y="122"/>
                  </a:cubicBezTo>
                  <a:cubicBezTo>
                    <a:pt x="553" y="94"/>
                    <a:pt x="605" y="85"/>
                    <a:pt x="666" y="66"/>
                  </a:cubicBezTo>
                  <a:cubicBezTo>
                    <a:pt x="727" y="47"/>
                    <a:pt x="812" y="18"/>
                    <a:pt x="864" y="9"/>
                  </a:cubicBezTo>
                  <a:cubicBezTo>
                    <a:pt x="916" y="0"/>
                    <a:pt x="964" y="9"/>
                    <a:pt x="978" y="9"/>
                  </a:cubicBezTo>
                </a:path>
              </a:pathLst>
            </a:custGeom>
            <a:solidFill>
              <a:srgbClr val="fbfda1"/>
            </a:solidFill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528920" y="4059360"/>
              <a:ext cx="1601640" cy="1654200"/>
            </a:xfrm>
            <a:custGeom>
              <a:avLst/>
              <a:gdLst/>
              <a:ahLst/>
              <a:rect l="l" t="t" r="r" b="b"/>
              <a:pathLst>
                <a:path w="1865" h="1894">
                  <a:moveTo>
                    <a:pt x="921" y="9"/>
                  </a:moveTo>
                  <a:cubicBezTo>
                    <a:pt x="980" y="4"/>
                    <a:pt x="1039" y="0"/>
                    <a:pt x="1091" y="9"/>
                  </a:cubicBezTo>
                  <a:cubicBezTo>
                    <a:pt x="1143" y="18"/>
                    <a:pt x="1186" y="47"/>
                    <a:pt x="1233" y="66"/>
                  </a:cubicBezTo>
                  <a:cubicBezTo>
                    <a:pt x="1280" y="85"/>
                    <a:pt x="1331" y="98"/>
                    <a:pt x="1374" y="122"/>
                  </a:cubicBezTo>
                  <a:cubicBezTo>
                    <a:pt x="1417" y="146"/>
                    <a:pt x="1450" y="179"/>
                    <a:pt x="1488" y="207"/>
                  </a:cubicBezTo>
                  <a:cubicBezTo>
                    <a:pt x="1526" y="235"/>
                    <a:pt x="1563" y="254"/>
                    <a:pt x="1601" y="292"/>
                  </a:cubicBezTo>
                  <a:cubicBezTo>
                    <a:pt x="1639" y="330"/>
                    <a:pt x="1682" y="382"/>
                    <a:pt x="1715" y="434"/>
                  </a:cubicBezTo>
                  <a:cubicBezTo>
                    <a:pt x="1748" y="486"/>
                    <a:pt x="1781" y="543"/>
                    <a:pt x="1800" y="604"/>
                  </a:cubicBezTo>
                  <a:cubicBezTo>
                    <a:pt x="1819" y="665"/>
                    <a:pt x="1819" y="727"/>
                    <a:pt x="1828" y="803"/>
                  </a:cubicBezTo>
                  <a:cubicBezTo>
                    <a:pt x="1837" y="879"/>
                    <a:pt x="1865" y="968"/>
                    <a:pt x="1856" y="1058"/>
                  </a:cubicBezTo>
                  <a:cubicBezTo>
                    <a:pt x="1847" y="1148"/>
                    <a:pt x="1804" y="1261"/>
                    <a:pt x="1771" y="1341"/>
                  </a:cubicBezTo>
                  <a:cubicBezTo>
                    <a:pt x="1738" y="1421"/>
                    <a:pt x="1705" y="1483"/>
                    <a:pt x="1658" y="1540"/>
                  </a:cubicBezTo>
                  <a:cubicBezTo>
                    <a:pt x="1611" y="1597"/>
                    <a:pt x="1540" y="1644"/>
                    <a:pt x="1488" y="1682"/>
                  </a:cubicBezTo>
                  <a:cubicBezTo>
                    <a:pt x="1436" y="1720"/>
                    <a:pt x="1389" y="1739"/>
                    <a:pt x="1346" y="1767"/>
                  </a:cubicBezTo>
                  <a:cubicBezTo>
                    <a:pt x="1303" y="1795"/>
                    <a:pt x="1285" y="1833"/>
                    <a:pt x="1233" y="1852"/>
                  </a:cubicBezTo>
                  <a:cubicBezTo>
                    <a:pt x="1181" y="1871"/>
                    <a:pt x="1100" y="1875"/>
                    <a:pt x="1034" y="1880"/>
                  </a:cubicBezTo>
                  <a:cubicBezTo>
                    <a:pt x="968" y="1885"/>
                    <a:pt x="911" y="1894"/>
                    <a:pt x="836" y="1880"/>
                  </a:cubicBezTo>
                  <a:cubicBezTo>
                    <a:pt x="761" y="1866"/>
                    <a:pt x="642" y="1819"/>
                    <a:pt x="581" y="1795"/>
                  </a:cubicBezTo>
                  <a:cubicBezTo>
                    <a:pt x="520" y="1771"/>
                    <a:pt x="514" y="1766"/>
                    <a:pt x="467" y="1738"/>
                  </a:cubicBezTo>
                  <a:cubicBezTo>
                    <a:pt x="420" y="1710"/>
                    <a:pt x="349" y="1672"/>
                    <a:pt x="297" y="1625"/>
                  </a:cubicBezTo>
                  <a:cubicBezTo>
                    <a:pt x="245" y="1578"/>
                    <a:pt x="188" y="1507"/>
                    <a:pt x="155" y="1455"/>
                  </a:cubicBezTo>
                  <a:cubicBezTo>
                    <a:pt x="122" y="1403"/>
                    <a:pt x="122" y="1374"/>
                    <a:pt x="99" y="1313"/>
                  </a:cubicBezTo>
                  <a:cubicBezTo>
                    <a:pt x="76" y="1252"/>
                    <a:pt x="28" y="1171"/>
                    <a:pt x="14" y="1086"/>
                  </a:cubicBezTo>
                  <a:cubicBezTo>
                    <a:pt x="0" y="1001"/>
                    <a:pt x="5" y="883"/>
                    <a:pt x="14" y="803"/>
                  </a:cubicBezTo>
                  <a:cubicBezTo>
                    <a:pt x="23" y="723"/>
                    <a:pt x="42" y="670"/>
                    <a:pt x="70" y="604"/>
                  </a:cubicBezTo>
                  <a:cubicBezTo>
                    <a:pt x="98" y="538"/>
                    <a:pt x="142" y="467"/>
                    <a:pt x="184" y="406"/>
                  </a:cubicBezTo>
                  <a:cubicBezTo>
                    <a:pt x="226" y="345"/>
                    <a:pt x="273" y="283"/>
                    <a:pt x="325" y="236"/>
                  </a:cubicBezTo>
                  <a:cubicBezTo>
                    <a:pt x="377" y="189"/>
                    <a:pt x="439" y="150"/>
                    <a:pt x="496" y="122"/>
                  </a:cubicBezTo>
                  <a:cubicBezTo>
                    <a:pt x="553" y="94"/>
                    <a:pt x="605" y="85"/>
                    <a:pt x="666" y="66"/>
                  </a:cubicBezTo>
                  <a:cubicBezTo>
                    <a:pt x="727" y="47"/>
                    <a:pt x="812" y="18"/>
                    <a:pt x="864" y="9"/>
                  </a:cubicBezTo>
                  <a:cubicBezTo>
                    <a:pt x="916" y="0"/>
                    <a:pt x="964" y="9"/>
                    <a:pt x="978" y="9"/>
                  </a:cubicBezTo>
                </a:path>
              </a:pathLst>
            </a:custGeom>
            <a:solidFill>
              <a:srgbClr val="f8f8f8"/>
            </a:solidFill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643040" y="1854360"/>
              <a:ext cx="204840" cy="2030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147680" y="4778280"/>
              <a:ext cx="204840" cy="203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273400" y="4778280"/>
              <a:ext cx="204840" cy="203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547640" y="4059360"/>
              <a:ext cx="549360" cy="1665000"/>
            </a:xfrm>
            <a:prstGeom prst="donut">
              <a:avLst>
                <a:gd name="adj" fmla="val 25000"/>
              </a:avLst>
            </a:prstGeom>
            <a:solidFill>
              <a:srgbClr val="fb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639800" y="4103640"/>
              <a:ext cx="366840" cy="3603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bfd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639800" y="5319720"/>
              <a:ext cx="366840" cy="3603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bfd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072440" y="2979720"/>
              <a:ext cx="200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a) D atom (stabl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185440" y="5003640"/>
              <a:ext cx="344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c) 4D/TSC (life time about 60 f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341080" y="1046160"/>
              <a:ext cx="134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53 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V="1">
              <a:off x="2496960" y="1314360"/>
              <a:ext cx="27468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465640" y="3319560"/>
              <a:ext cx="19090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Bosonized elec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Center torus f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(e↑ + e↓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1989000" y="4059360"/>
              <a:ext cx="96228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174680" y="5815080"/>
              <a:ext cx="123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454040" y="585936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3 p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 rot="270600">
              <a:off x="4818240" y="3112560"/>
              <a:ext cx="1419120" cy="270000"/>
            </a:xfrm>
            <a:prstGeom prst="donut">
              <a:avLst>
                <a:gd name="adj" fmla="val 1145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 rot="4103400">
              <a:off x="5072400" y="2593080"/>
              <a:ext cx="1582560" cy="298440"/>
            </a:xfrm>
            <a:prstGeom prst="donut">
              <a:avLst>
                <a:gd name="adj" fmla="val 1145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 rot="18136200">
              <a:off x="4592520" y="2597040"/>
              <a:ext cx="1574640" cy="145800"/>
            </a:xfrm>
            <a:prstGeom prst="donut">
              <a:avLst>
                <a:gd name="adj" fmla="val 1145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 rot="180000">
              <a:off x="4828680" y="3075120"/>
              <a:ext cx="822600" cy="269640"/>
            </a:xfrm>
            <a:prstGeom prst="donut">
              <a:avLst>
                <a:gd name="adj" fmla="val 1145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 rot="508800">
              <a:off x="5368680" y="3152520"/>
              <a:ext cx="912600" cy="269640"/>
            </a:xfrm>
            <a:prstGeom prst="donut">
              <a:avLst>
                <a:gd name="adj" fmla="val 1145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 rot="5817600">
              <a:off x="4803480" y="2511000"/>
              <a:ext cx="1576440" cy="344520"/>
            </a:xfrm>
            <a:prstGeom prst="donut">
              <a:avLst>
                <a:gd name="adj" fmla="val 1145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835520" y="3024360"/>
              <a:ext cx="366840" cy="3603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bfd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961240" y="3159000"/>
              <a:ext cx="366480" cy="3603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bfd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465880" y="1943280"/>
              <a:ext cx="366480" cy="3603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bfd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330880" y="3024360"/>
              <a:ext cx="366480" cy="3603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bfd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5641920" y="1402920"/>
              <a:ext cx="550800" cy="67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831720" y="3076560"/>
              <a:ext cx="1651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Orbit of Bosoniz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Electron coup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For (e↑ + e↓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086520" y="3024360"/>
              <a:ext cx="87156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H="1">
              <a:off x="5643360" y="2843280"/>
              <a:ext cx="41436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106960" y="2708280"/>
              <a:ext cx="27468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565360" y="204156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│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Ψ</a:t>
              </a:r>
              <a:r>
                <a:rPr b="0" lang="ja-JP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│</a:t>
              </a:r>
              <a:r>
                <a:rPr b="0" lang="ja-JP" sz="1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449440" y="1898640"/>
              <a:ext cx="45720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053720" y="4967280"/>
              <a:ext cx="34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180880" y="4959360"/>
              <a:ext cx="34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9C50-34FA-433F-AF2A-98F1300AA4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824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 Function for 4D/TSC (t=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31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4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~ [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A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B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+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A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B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]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S1,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+ [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A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D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+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A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D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]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S1,S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+ [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A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C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+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A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C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]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S2,S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+ [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B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D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+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D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]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S1,S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+ [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B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C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+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C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]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S2,S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+ [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C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D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+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C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D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]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S3,S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&lt;N.C.&gt;=1/(6(1+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Si,Sj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Sk,S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j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00"/>
                </a:solidFill>
                <a:latin typeface="Arial"/>
                <a:ea typeface="Arial"/>
              </a:rPr>
              <a:t>6-Bonds of “Bosonozed” electron-pairs (e↑+ e↓), which forms Regular Tetrahed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4-Electron-Centers at Vertexes of Regular Tetrahedr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B6D-B7F7-4D11-B10A-7C36A0AF1B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00000" y="43992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  <a:ea typeface="ＭＳ 明朝"/>
              </a:rPr>
              <a:t>Table 1: Annual Production of Minor Actinides by Fission Power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42920" y="1268280"/>
          <a:ext cx="6984720" cy="4105080"/>
        </p:xfrm>
        <a:graphic>
          <a:graphicData uri="http://schemas.openxmlformats.org/drawingml/2006/table">
            <a:tbl>
              <a:tblPr/>
              <a:tblGrid>
                <a:gridCol w="1675440"/>
                <a:gridCol w="2600640"/>
                <a:gridCol w="2708640"/>
              </a:tblGrid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Minor Actin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PW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(3410MWt), 33GWd/M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FB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(2500MWt), 150GWd/M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Cooling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3 years        10 ye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Cooling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3 ye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Np-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57.9%          41.3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9.4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Am-2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27.4%          48.8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54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Am-242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0.06%          0.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1.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Am-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11.9%          8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25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Cm-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0.03%          0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0.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Cm-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2.67%          1.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7.7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Cm-2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0.15%          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0.8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Total We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23.8kg         33.9k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24.0k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547640" y="5400720"/>
            <a:ext cx="655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Note: These actinides are most harmful ones with radioactivity (alpha- and gamma-emitt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with long half-lives (effect remains for more than 1 million year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EFB-5197-4A0D-9804-86DB376DB2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"/>
          <p:cNvSpPr/>
          <p:nvPr/>
        </p:nvSpPr>
        <p:spPr>
          <a:xfrm>
            <a:off x="2273040" y="368280"/>
            <a:ext cx="4429800" cy="4597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Orbits of TSC : at t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7" name=""/>
          <p:cNvGrpSpPr/>
          <p:nvPr/>
        </p:nvGrpSpPr>
        <p:grpSpPr>
          <a:xfrm>
            <a:off x="2185920" y="1585800"/>
            <a:ext cx="5230440" cy="4678560"/>
            <a:chOff x="2185920" y="1585800"/>
            <a:chExt cx="5230440" cy="4678560"/>
          </a:xfrm>
        </p:grpSpPr>
        <p:sp>
          <p:nvSpPr>
            <p:cNvPr id="1858" name=""/>
            <p:cNvSpPr/>
            <p:nvPr/>
          </p:nvSpPr>
          <p:spPr>
            <a:xfrm flipV="1">
              <a:off x="3222720" y="2889360"/>
              <a:ext cx="853920" cy="6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V="1">
              <a:off x="3851280" y="3743280"/>
              <a:ext cx="853920" cy="6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222720" y="3564000"/>
              <a:ext cx="628560" cy="85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076640" y="2889360"/>
              <a:ext cx="630360" cy="85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V="1">
              <a:off x="3222720" y="3654360"/>
              <a:ext cx="853920" cy="674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3851280" y="4508640"/>
              <a:ext cx="853920" cy="6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222720" y="4329000"/>
              <a:ext cx="628560" cy="85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076640" y="3654360"/>
              <a:ext cx="628560" cy="855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222720" y="3564000"/>
              <a:ext cx="0" cy="76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851280" y="4419720"/>
              <a:ext cx="0" cy="76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707000" y="3743280"/>
              <a:ext cx="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076640" y="2889360"/>
              <a:ext cx="0" cy="765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627360" y="2664000"/>
              <a:ext cx="2116080" cy="2205000"/>
            </a:xfrm>
            <a:custGeom>
              <a:avLst/>
              <a:gdLst/>
              <a:ahLst/>
              <a:rect l="l" t="t" r="r" b="b"/>
              <a:pathLst>
                <a:path w="1865" h="1894">
                  <a:moveTo>
                    <a:pt x="921" y="9"/>
                  </a:moveTo>
                  <a:cubicBezTo>
                    <a:pt x="980" y="4"/>
                    <a:pt x="1039" y="0"/>
                    <a:pt x="1091" y="9"/>
                  </a:cubicBezTo>
                  <a:cubicBezTo>
                    <a:pt x="1143" y="18"/>
                    <a:pt x="1186" y="47"/>
                    <a:pt x="1233" y="66"/>
                  </a:cubicBezTo>
                  <a:cubicBezTo>
                    <a:pt x="1280" y="85"/>
                    <a:pt x="1331" y="98"/>
                    <a:pt x="1374" y="122"/>
                  </a:cubicBezTo>
                  <a:cubicBezTo>
                    <a:pt x="1417" y="146"/>
                    <a:pt x="1450" y="179"/>
                    <a:pt x="1488" y="207"/>
                  </a:cubicBezTo>
                  <a:cubicBezTo>
                    <a:pt x="1526" y="235"/>
                    <a:pt x="1563" y="254"/>
                    <a:pt x="1601" y="292"/>
                  </a:cubicBezTo>
                  <a:cubicBezTo>
                    <a:pt x="1639" y="330"/>
                    <a:pt x="1682" y="382"/>
                    <a:pt x="1715" y="434"/>
                  </a:cubicBezTo>
                  <a:cubicBezTo>
                    <a:pt x="1748" y="486"/>
                    <a:pt x="1781" y="543"/>
                    <a:pt x="1800" y="604"/>
                  </a:cubicBezTo>
                  <a:cubicBezTo>
                    <a:pt x="1819" y="665"/>
                    <a:pt x="1819" y="727"/>
                    <a:pt x="1828" y="803"/>
                  </a:cubicBezTo>
                  <a:cubicBezTo>
                    <a:pt x="1837" y="879"/>
                    <a:pt x="1865" y="968"/>
                    <a:pt x="1856" y="1058"/>
                  </a:cubicBezTo>
                  <a:cubicBezTo>
                    <a:pt x="1847" y="1148"/>
                    <a:pt x="1804" y="1261"/>
                    <a:pt x="1771" y="1341"/>
                  </a:cubicBezTo>
                  <a:cubicBezTo>
                    <a:pt x="1738" y="1421"/>
                    <a:pt x="1705" y="1483"/>
                    <a:pt x="1658" y="1540"/>
                  </a:cubicBezTo>
                  <a:cubicBezTo>
                    <a:pt x="1611" y="1597"/>
                    <a:pt x="1540" y="1644"/>
                    <a:pt x="1488" y="1682"/>
                  </a:cubicBezTo>
                  <a:cubicBezTo>
                    <a:pt x="1436" y="1720"/>
                    <a:pt x="1389" y="1739"/>
                    <a:pt x="1346" y="1767"/>
                  </a:cubicBezTo>
                  <a:cubicBezTo>
                    <a:pt x="1303" y="1795"/>
                    <a:pt x="1285" y="1833"/>
                    <a:pt x="1233" y="1852"/>
                  </a:cubicBezTo>
                  <a:cubicBezTo>
                    <a:pt x="1181" y="1871"/>
                    <a:pt x="1100" y="1875"/>
                    <a:pt x="1034" y="1880"/>
                  </a:cubicBezTo>
                  <a:cubicBezTo>
                    <a:pt x="968" y="1885"/>
                    <a:pt x="911" y="1894"/>
                    <a:pt x="836" y="1880"/>
                  </a:cubicBezTo>
                  <a:cubicBezTo>
                    <a:pt x="761" y="1866"/>
                    <a:pt x="642" y="1819"/>
                    <a:pt x="581" y="1795"/>
                  </a:cubicBezTo>
                  <a:cubicBezTo>
                    <a:pt x="520" y="1771"/>
                    <a:pt x="514" y="1766"/>
                    <a:pt x="467" y="1738"/>
                  </a:cubicBezTo>
                  <a:cubicBezTo>
                    <a:pt x="420" y="1710"/>
                    <a:pt x="349" y="1672"/>
                    <a:pt x="297" y="1625"/>
                  </a:cubicBezTo>
                  <a:cubicBezTo>
                    <a:pt x="245" y="1578"/>
                    <a:pt x="188" y="1507"/>
                    <a:pt x="155" y="1455"/>
                  </a:cubicBezTo>
                  <a:cubicBezTo>
                    <a:pt x="122" y="1403"/>
                    <a:pt x="122" y="1374"/>
                    <a:pt x="99" y="1313"/>
                  </a:cubicBezTo>
                  <a:cubicBezTo>
                    <a:pt x="76" y="1252"/>
                    <a:pt x="28" y="1171"/>
                    <a:pt x="14" y="1086"/>
                  </a:cubicBezTo>
                  <a:cubicBezTo>
                    <a:pt x="0" y="1001"/>
                    <a:pt x="5" y="883"/>
                    <a:pt x="14" y="803"/>
                  </a:cubicBezTo>
                  <a:cubicBezTo>
                    <a:pt x="23" y="723"/>
                    <a:pt x="42" y="670"/>
                    <a:pt x="70" y="604"/>
                  </a:cubicBezTo>
                  <a:cubicBezTo>
                    <a:pt x="98" y="538"/>
                    <a:pt x="142" y="467"/>
                    <a:pt x="184" y="406"/>
                  </a:cubicBezTo>
                  <a:cubicBezTo>
                    <a:pt x="226" y="345"/>
                    <a:pt x="273" y="283"/>
                    <a:pt x="325" y="236"/>
                  </a:cubicBezTo>
                  <a:cubicBezTo>
                    <a:pt x="377" y="189"/>
                    <a:pt x="439" y="150"/>
                    <a:pt x="496" y="122"/>
                  </a:cubicBezTo>
                  <a:cubicBezTo>
                    <a:pt x="553" y="94"/>
                    <a:pt x="605" y="85"/>
                    <a:pt x="666" y="66"/>
                  </a:cubicBezTo>
                  <a:cubicBezTo>
                    <a:pt x="727" y="47"/>
                    <a:pt x="812" y="18"/>
                    <a:pt x="864" y="9"/>
                  </a:cubicBezTo>
                  <a:cubicBezTo>
                    <a:pt x="916" y="0"/>
                    <a:pt x="964" y="9"/>
                    <a:pt x="978" y="9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816280" y="4059360"/>
              <a:ext cx="2116080" cy="2205000"/>
            </a:xfrm>
            <a:custGeom>
              <a:avLst/>
              <a:gdLst/>
              <a:ahLst/>
              <a:rect l="l" t="t" r="r" b="b"/>
              <a:pathLst>
                <a:path w="1865" h="1894">
                  <a:moveTo>
                    <a:pt x="921" y="9"/>
                  </a:moveTo>
                  <a:cubicBezTo>
                    <a:pt x="980" y="4"/>
                    <a:pt x="1039" y="0"/>
                    <a:pt x="1091" y="9"/>
                  </a:cubicBezTo>
                  <a:cubicBezTo>
                    <a:pt x="1143" y="18"/>
                    <a:pt x="1186" y="47"/>
                    <a:pt x="1233" y="66"/>
                  </a:cubicBezTo>
                  <a:cubicBezTo>
                    <a:pt x="1280" y="85"/>
                    <a:pt x="1331" y="98"/>
                    <a:pt x="1374" y="122"/>
                  </a:cubicBezTo>
                  <a:cubicBezTo>
                    <a:pt x="1417" y="146"/>
                    <a:pt x="1450" y="179"/>
                    <a:pt x="1488" y="207"/>
                  </a:cubicBezTo>
                  <a:cubicBezTo>
                    <a:pt x="1526" y="235"/>
                    <a:pt x="1563" y="254"/>
                    <a:pt x="1601" y="292"/>
                  </a:cubicBezTo>
                  <a:cubicBezTo>
                    <a:pt x="1639" y="330"/>
                    <a:pt x="1682" y="382"/>
                    <a:pt x="1715" y="434"/>
                  </a:cubicBezTo>
                  <a:cubicBezTo>
                    <a:pt x="1748" y="486"/>
                    <a:pt x="1781" y="543"/>
                    <a:pt x="1800" y="604"/>
                  </a:cubicBezTo>
                  <a:cubicBezTo>
                    <a:pt x="1819" y="665"/>
                    <a:pt x="1819" y="727"/>
                    <a:pt x="1828" y="803"/>
                  </a:cubicBezTo>
                  <a:cubicBezTo>
                    <a:pt x="1837" y="879"/>
                    <a:pt x="1865" y="968"/>
                    <a:pt x="1856" y="1058"/>
                  </a:cubicBezTo>
                  <a:cubicBezTo>
                    <a:pt x="1847" y="1148"/>
                    <a:pt x="1804" y="1261"/>
                    <a:pt x="1771" y="1341"/>
                  </a:cubicBezTo>
                  <a:cubicBezTo>
                    <a:pt x="1738" y="1421"/>
                    <a:pt x="1705" y="1483"/>
                    <a:pt x="1658" y="1540"/>
                  </a:cubicBezTo>
                  <a:cubicBezTo>
                    <a:pt x="1611" y="1597"/>
                    <a:pt x="1540" y="1644"/>
                    <a:pt x="1488" y="1682"/>
                  </a:cubicBezTo>
                  <a:cubicBezTo>
                    <a:pt x="1436" y="1720"/>
                    <a:pt x="1389" y="1739"/>
                    <a:pt x="1346" y="1767"/>
                  </a:cubicBezTo>
                  <a:cubicBezTo>
                    <a:pt x="1303" y="1795"/>
                    <a:pt x="1285" y="1833"/>
                    <a:pt x="1233" y="1852"/>
                  </a:cubicBezTo>
                  <a:cubicBezTo>
                    <a:pt x="1181" y="1871"/>
                    <a:pt x="1100" y="1875"/>
                    <a:pt x="1034" y="1880"/>
                  </a:cubicBezTo>
                  <a:cubicBezTo>
                    <a:pt x="968" y="1885"/>
                    <a:pt x="911" y="1894"/>
                    <a:pt x="836" y="1880"/>
                  </a:cubicBezTo>
                  <a:cubicBezTo>
                    <a:pt x="761" y="1866"/>
                    <a:pt x="642" y="1819"/>
                    <a:pt x="581" y="1795"/>
                  </a:cubicBezTo>
                  <a:cubicBezTo>
                    <a:pt x="520" y="1771"/>
                    <a:pt x="514" y="1766"/>
                    <a:pt x="467" y="1738"/>
                  </a:cubicBezTo>
                  <a:cubicBezTo>
                    <a:pt x="420" y="1710"/>
                    <a:pt x="349" y="1672"/>
                    <a:pt x="297" y="1625"/>
                  </a:cubicBezTo>
                  <a:cubicBezTo>
                    <a:pt x="245" y="1578"/>
                    <a:pt x="188" y="1507"/>
                    <a:pt x="155" y="1455"/>
                  </a:cubicBezTo>
                  <a:cubicBezTo>
                    <a:pt x="122" y="1403"/>
                    <a:pt x="122" y="1374"/>
                    <a:pt x="99" y="1313"/>
                  </a:cubicBezTo>
                  <a:cubicBezTo>
                    <a:pt x="76" y="1252"/>
                    <a:pt x="28" y="1171"/>
                    <a:pt x="14" y="1086"/>
                  </a:cubicBezTo>
                  <a:cubicBezTo>
                    <a:pt x="0" y="1001"/>
                    <a:pt x="5" y="883"/>
                    <a:pt x="14" y="803"/>
                  </a:cubicBezTo>
                  <a:cubicBezTo>
                    <a:pt x="23" y="723"/>
                    <a:pt x="42" y="670"/>
                    <a:pt x="70" y="604"/>
                  </a:cubicBezTo>
                  <a:cubicBezTo>
                    <a:pt x="98" y="538"/>
                    <a:pt x="142" y="467"/>
                    <a:pt x="184" y="406"/>
                  </a:cubicBezTo>
                  <a:cubicBezTo>
                    <a:pt x="226" y="345"/>
                    <a:pt x="273" y="283"/>
                    <a:pt x="325" y="236"/>
                  </a:cubicBezTo>
                  <a:cubicBezTo>
                    <a:pt x="377" y="189"/>
                    <a:pt x="439" y="150"/>
                    <a:pt x="496" y="122"/>
                  </a:cubicBezTo>
                  <a:cubicBezTo>
                    <a:pt x="553" y="94"/>
                    <a:pt x="605" y="85"/>
                    <a:pt x="666" y="66"/>
                  </a:cubicBezTo>
                  <a:cubicBezTo>
                    <a:pt x="727" y="47"/>
                    <a:pt x="812" y="18"/>
                    <a:pt x="864" y="9"/>
                  </a:cubicBezTo>
                  <a:cubicBezTo>
                    <a:pt x="916" y="0"/>
                    <a:pt x="964" y="9"/>
                    <a:pt x="978" y="9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997360" y="2573280"/>
              <a:ext cx="2116080" cy="2205000"/>
            </a:xfrm>
            <a:custGeom>
              <a:avLst/>
              <a:gdLst/>
              <a:ahLst/>
              <a:rect l="l" t="t" r="r" b="b"/>
              <a:pathLst>
                <a:path w="1865" h="1894">
                  <a:moveTo>
                    <a:pt x="921" y="9"/>
                  </a:moveTo>
                  <a:cubicBezTo>
                    <a:pt x="980" y="4"/>
                    <a:pt x="1039" y="0"/>
                    <a:pt x="1091" y="9"/>
                  </a:cubicBezTo>
                  <a:cubicBezTo>
                    <a:pt x="1143" y="18"/>
                    <a:pt x="1186" y="47"/>
                    <a:pt x="1233" y="66"/>
                  </a:cubicBezTo>
                  <a:cubicBezTo>
                    <a:pt x="1280" y="85"/>
                    <a:pt x="1331" y="98"/>
                    <a:pt x="1374" y="122"/>
                  </a:cubicBezTo>
                  <a:cubicBezTo>
                    <a:pt x="1417" y="146"/>
                    <a:pt x="1450" y="179"/>
                    <a:pt x="1488" y="207"/>
                  </a:cubicBezTo>
                  <a:cubicBezTo>
                    <a:pt x="1526" y="235"/>
                    <a:pt x="1563" y="254"/>
                    <a:pt x="1601" y="292"/>
                  </a:cubicBezTo>
                  <a:cubicBezTo>
                    <a:pt x="1639" y="330"/>
                    <a:pt x="1682" y="382"/>
                    <a:pt x="1715" y="434"/>
                  </a:cubicBezTo>
                  <a:cubicBezTo>
                    <a:pt x="1748" y="486"/>
                    <a:pt x="1781" y="543"/>
                    <a:pt x="1800" y="604"/>
                  </a:cubicBezTo>
                  <a:cubicBezTo>
                    <a:pt x="1819" y="665"/>
                    <a:pt x="1819" y="727"/>
                    <a:pt x="1828" y="803"/>
                  </a:cubicBezTo>
                  <a:cubicBezTo>
                    <a:pt x="1837" y="879"/>
                    <a:pt x="1865" y="968"/>
                    <a:pt x="1856" y="1058"/>
                  </a:cubicBezTo>
                  <a:cubicBezTo>
                    <a:pt x="1847" y="1148"/>
                    <a:pt x="1804" y="1261"/>
                    <a:pt x="1771" y="1341"/>
                  </a:cubicBezTo>
                  <a:cubicBezTo>
                    <a:pt x="1738" y="1421"/>
                    <a:pt x="1705" y="1483"/>
                    <a:pt x="1658" y="1540"/>
                  </a:cubicBezTo>
                  <a:cubicBezTo>
                    <a:pt x="1611" y="1597"/>
                    <a:pt x="1540" y="1644"/>
                    <a:pt x="1488" y="1682"/>
                  </a:cubicBezTo>
                  <a:cubicBezTo>
                    <a:pt x="1436" y="1720"/>
                    <a:pt x="1389" y="1739"/>
                    <a:pt x="1346" y="1767"/>
                  </a:cubicBezTo>
                  <a:cubicBezTo>
                    <a:pt x="1303" y="1795"/>
                    <a:pt x="1285" y="1833"/>
                    <a:pt x="1233" y="1852"/>
                  </a:cubicBezTo>
                  <a:cubicBezTo>
                    <a:pt x="1181" y="1871"/>
                    <a:pt x="1100" y="1875"/>
                    <a:pt x="1034" y="1880"/>
                  </a:cubicBezTo>
                  <a:cubicBezTo>
                    <a:pt x="968" y="1885"/>
                    <a:pt x="911" y="1894"/>
                    <a:pt x="836" y="1880"/>
                  </a:cubicBezTo>
                  <a:cubicBezTo>
                    <a:pt x="761" y="1866"/>
                    <a:pt x="642" y="1819"/>
                    <a:pt x="581" y="1795"/>
                  </a:cubicBezTo>
                  <a:cubicBezTo>
                    <a:pt x="520" y="1771"/>
                    <a:pt x="514" y="1766"/>
                    <a:pt x="467" y="1738"/>
                  </a:cubicBezTo>
                  <a:cubicBezTo>
                    <a:pt x="420" y="1710"/>
                    <a:pt x="349" y="1672"/>
                    <a:pt x="297" y="1625"/>
                  </a:cubicBezTo>
                  <a:cubicBezTo>
                    <a:pt x="245" y="1578"/>
                    <a:pt x="188" y="1507"/>
                    <a:pt x="155" y="1455"/>
                  </a:cubicBezTo>
                  <a:cubicBezTo>
                    <a:pt x="122" y="1403"/>
                    <a:pt x="122" y="1374"/>
                    <a:pt x="99" y="1313"/>
                  </a:cubicBezTo>
                  <a:cubicBezTo>
                    <a:pt x="76" y="1252"/>
                    <a:pt x="28" y="1171"/>
                    <a:pt x="14" y="1086"/>
                  </a:cubicBezTo>
                  <a:cubicBezTo>
                    <a:pt x="0" y="1001"/>
                    <a:pt x="5" y="883"/>
                    <a:pt x="14" y="803"/>
                  </a:cubicBezTo>
                  <a:cubicBezTo>
                    <a:pt x="23" y="723"/>
                    <a:pt x="42" y="670"/>
                    <a:pt x="70" y="604"/>
                  </a:cubicBezTo>
                  <a:cubicBezTo>
                    <a:pt x="98" y="538"/>
                    <a:pt x="142" y="467"/>
                    <a:pt x="184" y="406"/>
                  </a:cubicBezTo>
                  <a:cubicBezTo>
                    <a:pt x="226" y="345"/>
                    <a:pt x="273" y="283"/>
                    <a:pt x="325" y="236"/>
                  </a:cubicBezTo>
                  <a:cubicBezTo>
                    <a:pt x="377" y="189"/>
                    <a:pt x="439" y="150"/>
                    <a:pt x="496" y="122"/>
                  </a:cubicBezTo>
                  <a:cubicBezTo>
                    <a:pt x="553" y="94"/>
                    <a:pt x="605" y="85"/>
                    <a:pt x="666" y="66"/>
                  </a:cubicBezTo>
                  <a:cubicBezTo>
                    <a:pt x="727" y="47"/>
                    <a:pt x="812" y="18"/>
                    <a:pt x="864" y="9"/>
                  </a:cubicBezTo>
                  <a:cubicBezTo>
                    <a:pt x="916" y="0"/>
                    <a:pt x="964" y="9"/>
                    <a:pt x="978" y="9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185920" y="2438280"/>
              <a:ext cx="2116080" cy="2205000"/>
            </a:xfrm>
            <a:custGeom>
              <a:avLst/>
              <a:gdLst/>
              <a:ahLst/>
              <a:rect l="l" t="t" r="r" b="b"/>
              <a:pathLst>
                <a:path w="1865" h="1894">
                  <a:moveTo>
                    <a:pt x="921" y="9"/>
                  </a:moveTo>
                  <a:cubicBezTo>
                    <a:pt x="980" y="4"/>
                    <a:pt x="1039" y="0"/>
                    <a:pt x="1091" y="9"/>
                  </a:cubicBezTo>
                  <a:cubicBezTo>
                    <a:pt x="1143" y="18"/>
                    <a:pt x="1186" y="47"/>
                    <a:pt x="1233" y="66"/>
                  </a:cubicBezTo>
                  <a:cubicBezTo>
                    <a:pt x="1280" y="85"/>
                    <a:pt x="1331" y="98"/>
                    <a:pt x="1374" y="122"/>
                  </a:cubicBezTo>
                  <a:cubicBezTo>
                    <a:pt x="1417" y="146"/>
                    <a:pt x="1450" y="179"/>
                    <a:pt x="1488" y="207"/>
                  </a:cubicBezTo>
                  <a:cubicBezTo>
                    <a:pt x="1526" y="235"/>
                    <a:pt x="1563" y="254"/>
                    <a:pt x="1601" y="292"/>
                  </a:cubicBezTo>
                  <a:cubicBezTo>
                    <a:pt x="1639" y="330"/>
                    <a:pt x="1682" y="382"/>
                    <a:pt x="1715" y="434"/>
                  </a:cubicBezTo>
                  <a:cubicBezTo>
                    <a:pt x="1748" y="486"/>
                    <a:pt x="1781" y="543"/>
                    <a:pt x="1800" y="604"/>
                  </a:cubicBezTo>
                  <a:cubicBezTo>
                    <a:pt x="1819" y="665"/>
                    <a:pt x="1819" y="727"/>
                    <a:pt x="1828" y="803"/>
                  </a:cubicBezTo>
                  <a:cubicBezTo>
                    <a:pt x="1837" y="879"/>
                    <a:pt x="1865" y="968"/>
                    <a:pt x="1856" y="1058"/>
                  </a:cubicBezTo>
                  <a:cubicBezTo>
                    <a:pt x="1847" y="1148"/>
                    <a:pt x="1804" y="1261"/>
                    <a:pt x="1771" y="1341"/>
                  </a:cubicBezTo>
                  <a:cubicBezTo>
                    <a:pt x="1738" y="1421"/>
                    <a:pt x="1705" y="1483"/>
                    <a:pt x="1658" y="1540"/>
                  </a:cubicBezTo>
                  <a:cubicBezTo>
                    <a:pt x="1611" y="1597"/>
                    <a:pt x="1540" y="1644"/>
                    <a:pt x="1488" y="1682"/>
                  </a:cubicBezTo>
                  <a:cubicBezTo>
                    <a:pt x="1436" y="1720"/>
                    <a:pt x="1389" y="1739"/>
                    <a:pt x="1346" y="1767"/>
                  </a:cubicBezTo>
                  <a:cubicBezTo>
                    <a:pt x="1303" y="1795"/>
                    <a:pt x="1285" y="1833"/>
                    <a:pt x="1233" y="1852"/>
                  </a:cubicBezTo>
                  <a:cubicBezTo>
                    <a:pt x="1181" y="1871"/>
                    <a:pt x="1100" y="1875"/>
                    <a:pt x="1034" y="1880"/>
                  </a:cubicBezTo>
                  <a:cubicBezTo>
                    <a:pt x="968" y="1885"/>
                    <a:pt x="911" y="1894"/>
                    <a:pt x="836" y="1880"/>
                  </a:cubicBezTo>
                  <a:cubicBezTo>
                    <a:pt x="761" y="1866"/>
                    <a:pt x="642" y="1819"/>
                    <a:pt x="581" y="1795"/>
                  </a:cubicBezTo>
                  <a:cubicBezTo>
                    <a:pt x="520" y="1771"/>
                    <a:pt x="514" y="1766"/>
                    <a:pt x="467" y="1738"/>
                  </a:cubicBezTo>
                  <a:cubicBezTo>
                    <a:pt x="420" y="1710"/>
                    <a:pt x="349" y="1672"/>
                    <a:pt x="297" y="1625"/>
                  </a:cubicBezTo>
                  <a:cubicBezTo>
                    <a:pt x="245" y="1578"/>
                    <a:pt x="188" y="1507"/>
                    <a:pt x="155" y="1455"/>
                  </a:cubicBezTo>
                  <a:cubicBezTo>
                    <a:pt x="122" y="1403"/>
                    <a:pt x="122" y="1374"/>
                    <a:pt x="99" y="1313"/>
                  </a:cubicBezTo>
                  <a:cubicBezTo>
                    <a:pt x="76" y="1252"/>
                    <a:pt x="28" y="1171"/>
                    <a:pt x="14" y="1086"/>
                  </a:cubicBezTo>
                  <a:cubicBezTo>
                    <a:pt x="0" y="1001"/>
                    <a:pt x="5" y="883"/>
                    <a:pt x="14" y="803"/>
                  </a:cubicBezTo>
                  <a:cubicBezTo>
                    <a:pt x="23" y="723"/>
                    <a:pt x="42" y="670"/>
                    <a:pt x="70" y="604"/>
                  </a:cubicBezTo>
                  <a:cubicBezTo>
                    <a:pt x="98" y="538"/>
                    <a:pt x="142" y="467"/>
                    <a:pt x="184" y="406"/>
                  </a:cubicBezTo>
                  <a:cubicBezTo>
                    <a:pt x="226" y="345"/>
                    <a:pt x="273" y="283"/>
                    <a:pt x="325" y="236"/>
                  </a:cubicBezTo>
                  <a:cubicBezTo>
                    <a:pt x="377" y="189"/>
                    <a:pt x="439" y="150"/>
                    <a:pt x="496" y="122"/>
                  </a:cubicBezTo>
                  <a:cubicBezTo>
                    <a:pt x="553" y="94"/>
                    <a:pt x="605" y="85"/>
                    <a:pt x="666" y="66"/>
                  </a:cubicBezTo>
                  <a:cubicBezTo>
                    <a:pt x="727" y="47"/>
                    <a:pt x="812" y="18"/>
                    <a:pt x="864" y="9"/>
                  </a:cubicBezTo>
                  <a:cubicBezTo>
                    <a:pt x="916" y="0"/>
                    <a:pt x="964" y="9"/>
                    <a:pt x="978" y="9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132000" y="3429000"/>
              <a:ext cx="270000" cy="270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572000" y="3608280"/>
              <a:ext cx="270000" cy="270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941640" y="3564000"/>
              <a:ext cx="270000" cy="2696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716280" y="4959360"/>
              <a:ext cx="270000" cy="270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716280" y="2573280"/>
              <a:ext cx="720720" cy="717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bfd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346640" y="4194000"/>
              <a:ext cx="720720" cy="71784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bfd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862360" y="4059360"/>
              <a:ext cx="720720" cy="717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bfd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537000" y="3968640"/>
              <a:ext cx="720720" cy="71784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bfd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382360" y="2125800"/>
              <a:ext cx="20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hr orbit of D (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5516640" y="2484360"/>
              <a:ext cx="63000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650400" y="1585800"/>
              <a:ext cx="34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 center; &lt;e&gt;=(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↑ + e↓)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H="1">
              <a:off x="4122360" y="1898640"/>
              <a:ext cx="88920" cy="85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832360" y="329580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886280" y="3608280"/>
              <a:ext cx="112572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4CA2-9FC3-47D2-A75C-E758DF04D7B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/>
          <p:nvPr/>
        </p:nvSpPr>
        <p:spPr>
          <a:xfrm>
            <a:off x="2520" y="33386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341280" y="3564000"/>
            <a:ext cx="2472480" cy="2921040"/>
            <a:chOff x="341280" y="3564000"/>
            <a:chExt cx="2472480" cy="2921040"/>
          </a:xfrm>
        </p:grpSpPr>
        <p:sp>
          <p:nvSpPr>
            <p:cNvPr id="1890" name=""/>
            <p:cNvSpPr/>
            <p:nvPr/>
          </p:nvSpPr>
          <p:spPr>
            <a:xfrm>
              <a:off x="1600200" y="4427640"/>
              <a:ext cx="608040" cy="618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41280" y="4427640"/>
              <a:ext cx="608040" cy="618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457280" y="4498920"/>
              <a:ext cx="432000" cy="4334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595520" y="3693960"/>
              <a:ext cx="630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31640" y="611676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92000" y="611676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 f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36560" y="4498920"/>
              <a:ext cx="432000" cy="4334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096920" y="4140360"/>
              <a:ext cx="432000" cy="433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096920" y="4859280"/>
              <a:ext cx="432000" cy="4334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528920" y="4498920"/>
              <a:ext cx="30924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09640" y="4643280"/>
              <a:ext cx="309600" cy="31464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528920" y="4643280"/>
              <a:ext cx="31104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809640" y="4498920"/>
              <a:ext cx="31104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168560" y="4140360"/>
              <a:ext cx="311040" cy="315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168560" y="5003640"/>
              <a:ext cx="28872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168560" y="4859280"/>
              <a:ext cx="30924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168560" y="4282920"/>
              <a:ext cx="309240" cy="31464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384200" y="4498920"/>
              <a:ext cx="216000" cy="21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457280" y="4356000"/>
              <a:ext cx="216000" cy="21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096920" y="4788000"/>
              <a:ext cx="216000" cy="21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025640" y="4932360"/>
              <a:ext cx="215640" cy="21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1384200" y="4787640"/>
              <a:ext cx="217440" cy="215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1384200" y="4571640"/>
              <a:ext cx="21600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H="1">
              <a:off x="1025640" y="4211640"/>
              <a:ext cx="28728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1312920" y="4355640"/>
              <a:ext cx="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384200" y="4427640"/>
              <a:ext cx="0" cy="720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1025280" y="4498920"/>
              <a:ext cx="215640" cy="21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025640" y="4643280"/>
              <a:ext cx="64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025640" y="4788000"/>
              <a:ext cx="576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025640" y="5219640"/>
              <a:ext cx="608040" cy="6192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025640" y="3564000"/>
              <a:ext cx="608040" cy="6192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 flipV="1">
              <a:off x="746280" y="3595320"/>
              <a:ext cx="22536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799280" y="5622840"/>
              <a:ext cx="101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528920" y="5219640"/>
              <a:ext cx="647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4" name=""/>
          <p:cNvGrpSpPr/>
          <p:nvPr/>
        </p:nvGrpSpPr>
        <p:grpSpPr>
          <a:xfrm>
            <a:off x="3992040" y="4238640"/>
            <a:ext cx="3501000" cy="1316160"/>
            <a:chOff x="3992040" y="4238640"/>
            <a:chExt cx="3501000" cy="1316160"/>
          </a:xfrm>
        </p:grpSpPr>
        <p:sp>
          <p:nvSpPr>
            <p:cNvPr id="1925" name=""/>
            <p:cNvSpPr/>
            <p:nvPr/>
          </p:nvSpPr>
          <p:spPr>
            <a:xfrm>
              <a:off x="4437000" y="446400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076640" y="4464000"/>
              <a:ext cx="309600" cy="3160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182000" y="4419720"/>
              <a:ext cx="31104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821640" y="4419720"/>
              <a:ext cx="30924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002360" y="4599000"/>
              <a:ext cx="3114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002360" y="4238640"/>
              <a:ext cx="309600" cy="315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270320" y="4276800"/>
              <a:ext cx="309600" cy="31572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270320" y="463248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697360" y="4599000"/>
              <a:ext cx="889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832360" y="4643280"/>
              <a:ext cx="809640" cy="0"/>
            </a:xfrm>
            <a:prstGeom prst="line">
              <a:avLst/>
            </a:prstGeom>
            <a:ln w="28440">
              <a:solidFill>
                <a:srgbClr val="fa083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42000" y="4643280"/>
              <a:ext cx="809640" cy="0"/>
            </a:xfrm>
            <a:prstGeom prst="line">
              <a:avLst/>
            </a:prstGeom>
            <a:ln w="28440">
              <a:solidFill>
                <a:srgbClr val="fa083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992040" y="51865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737040" y="509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4707000" y="324000"/>
            <a:ext cx="2206440" cy="2151000"/>
            <a:chOff x="4707000" y="324000"/>
            <a:chExt cx="2206440" cy="2151000"/>
          </a:xfrm>
        </p:grpSpPr>
        <p:sp>
          <p:nvSpPr>
            <p:cNvPr id="1939" name=""/>
            <p:cNvSpPr/>
            <p:nvPr/>
          </p:nvSpPr>
          <p:spPr>
            <a:xfrm>
              <a:off x="5132160" y="1071720"/>
              <a:ext cx="588960" cy="6127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789520" y="1085760"/>
              <a:ext cx="588960" cy="6145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288040" y="1228680"/>
              <a:ext cx="295200" cy="3063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927760" y="1233720"/>
              <a:ext cx="293400" cy="30780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610240" y="898560"/>
              <a:ext cx="293400" cy="3063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610240" y="1549440"/>
              <a:ext cx="293400" cy="3081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248080" y="2124000"/>
              <a:ext cx="114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157720" y="2168640"/>
              <a:ext cx="117792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r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4x2.8 f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199200" y="746280"/>
              <a:ext cx="714240" cy="252360"/>
            </a:xfrm>
            <a:prstGeom prst="wedgeRectCallout">
              <a:avLst>
                <a:gd name="adj1" fmla="val -60444"/>
                <a:gd name="adj2" fmla="val 1688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 or 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707000" y="324000"/>
              <a:ext cx="857160" cy="314280"/>
            </a:xfrm>
            <a:prstGeom prst="wedgeRectCallout">
              <a:avLst>
                <a:gd name="adj1" fmla="val 51666"/>
                <a:gd name="adj2" fmla="val 11111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472000" y="728640"/>
              <a:ext cx="588960" cy="6127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629320" y="908280"/>
              <a:ext cx="293400" cy="3078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468760" y="1403280"/>
              <a:ext cx="588960" cy="613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607000" y="1538280"/>
              <a:ext cx="293760" cy="3081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3" name=""/>
          <p:cNvSpPr/>
          <p:nvPr/>
        </p:nvSpPr>
        <p:spPr>
          <a:xfrm>
            <a:off x="1420920" y="169380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2057400" y="264168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2057400" y="278604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484200" y="81108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3095640" y="541440"/>
            <a:ext cx="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542880" y="235908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542880" y="254160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2050920" y="1139760"/>
            <a:ext cx="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2050920" y="1319040"/>
            <a:ext cx="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1479600" y="25884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1479600" y="43956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4" name=""/>
          <p:cNvGrpSpPr/>
          <p:nvPr/>
        </p:nvGrpSpPr>
        <p:grpSpPr>
          <a:xfrm>
            <a:off x="341280" y="189000"/>
            <a:ext cx="3016080" cy="2779560"/>
            <a:chOff x="341280" y="189000"/>
            <a:chExt cx="3016080" cy="2779560"/>
          </a:xfrm>
        </p:grpSpPr>
        <p:sp>
          <p:nvSpPr>
            <p:cNvPr id="1965" name=""/>
            <p:cNvSpPr/>
            <p:nvPr/>
          </p:nvSpPr>
          <p:spPr>
            <a:xfrm>
              <a:off x="672840" y="2394000"/>
              <a:ext cx="1100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068280" y="24606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279440" y="1611360"/>
              <a:ext cx="403200" cy="407880"/>
            </a:xfrm>
            <a:prstGeom prst="ellipse">
              <a:avLst/>
            </a:prstGeom>
            <a:gradFill rotWithShape="0">
              <a:gsLst>
                <a:gs pos="0">
                  <a:srgbClr val="a5f9f9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437480" y="1739880"/>
              <a:ext cx="22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</a:t>
              </a:r>
              <a:r>
                <a:rPr b="1" lang="en-US" sz="1800" spc="-1" strike="noStrike" baseline="30000">
                  <a:solidFill>
                    <a:srgbClr val="010000"/>
                  </a:solidFill>
                  <a:latin typeface="Century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917360" y="2560680"/>
              <a:ext cx="403200" cy="407880"/>
            </a:xfrm>
            <a:prstGeom prst="ellipse">
              <a:avLst/>
            </a:prstGeom>
            <a:gradFill rotWithShape="0">
              <a:gsLst>
                <a:gs pos="0">
                  <a:srgbClr val="a5f9f9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077200" y="2671920"/>
              <a:ext cx="22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</a:t>
              </a:r>
              <a:r>
                <a:rPr b="1" lang="en-US" sz="1800" spc="-1" strike="noStrike" baseline="30000">
                  <a:solidFill>
                    <a:srgbClr val="010000"/>
                  </a:solidFill>
                  <a:latin typeface="Century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41280" y="730080"/>
              <a:ext cx="403200" cy="408240"/>
            </a:xfrm>
            <a:prstGeom prst="ellipse">
              <a:avLst/>
            </a:prstGeom>
            <a:gradFill rotWithShape="0">
              <a:gsLst>
                <a:gs pos="0">
                  <a:srgbClr val="a5f9f9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91400" y="847800"/>
              <a:ext cx="22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</a:t>
              </a:r>
              <a:r>
                <a:rPr b="1" lang="en-US" sz="1800" spc="-1" strike="noStrike" baseline="30000">
                  <a:solidFill>
                    <a:srgbClr val="010000"/>
                  </a:solidFill>
                  <a:latin typeface="Century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954160" y="458640"/>
              <a:ext cx="403200" cy="408240"/>
            </a:xfrm>
            <a:prstGeom prst="ellipse">
              <a:avLst/>
            </a:prstGeom>
            <a:gradFill rotWithShape="0">
              <a:gsLst>
                <a:gs pos="0">
                  <a:srgbClr val="a5f9f9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112200" y="587520"/>
              <a:ext cx="22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</a:t>
              </a:r>
              <a:r>
                <a:rPr b="1" lang="en-US" sz="1800" spc="-1" strike="noStrike" baseline="30000">
                  <a:solidFill>
                    <a:srgbClr val="010000"/>
                  </a:solidFill>
                  <a:latin typeface="Century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09320" y="2290680"/>
              <a:ext cx="335160" cy="338400"/>
            </a:xfrm>
            <a:prstGeom prst="ellipse">
              <a:avLst/>
            </a:prstGeom>
            <a:gradFill rotWithShape="0">
              <a:gsLst>
                <a:gs pos="0">
                  <a:srgbClr val="fdf83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25600" y="2349360"/>
              <a:ext cx="25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10000"/>
                  </a:solidFill>
                  <a:latin typeface="Century"/>
                </a:rPr>
                <a:t>e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917360" y="1069920"/>
              <a:ext cx="336600" cy="339840"/>
            </a:xfrm>
            <a:prstGeom prst="ellipse">
              <a:avLst/>
            </a:prstGeom>
            <a:gradFill rotWithShape="0">
              <a:gsLst>
                <a:gs pos="0">
                  <a:srgbClr val="fdf83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035440" y="1135080"/>
              <a:ext cx="25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10000"/>
                  </a:solidFill>
                  <a:latin typeface="Century"/>
                </a:rPr>
                <a:t>e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346040" y="189000"/>
              <a:ext cx="336600" cy="339480"/>
            </a:xfrm>
            <a:prstGeom prst="ellipse">
              <a:avLst/>
            </a:prstGeom>
            <a:gradFill rotWithShape="0">
              <a:gsLst>
                <a:gs pos="0">
                  <a:srgbClr val="fdf83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478160" y="244440"/>
              <a:ext cx="25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10000"/>
                  </a:solidFill>
                  <a:latin typeface="Century"/>
                </a:rPr>
                <a:t>e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944800" y="2019240"/>
              <a:ext cx="336240" cy="339840"/>
            </a:xfrm>
            <a:prstGeom prst="ellipse">
              <a:avLst/>
            </a:prstGeom>
            <a:gradFill rotWithShape="0">
              <a:gsLst>
                <a:gs pos="0">
                  <a:srgbClr val="fdf83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033360" y="2085840"/>
              <a:ext cx="1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059280" y="2073240"/>
              <a:ext cx="25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10000"/>
                  </a:solidFill>
                  <a:latin typeface="Century"/>
                </a:rPr>
                <a:t>e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033360" y="2270160"/>
              <a:ext cx="1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814400" y="1544760"/>
              <a:ext cx="13500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6" name=""/>
            <p:cNvGrpSpPr/>
            <p:nvPr/>
          </p:nvGrpSpPr>
          <p:grpSpPr>
            <a:xfrm>
              <a:off x="739440" y="1060560"/>
              <a:ext cx="1074960" cy="551880"/>
              <a:chOff x="739440" y="1060560"/>
              <a:chExt cx="1074960" cy="551880"/>
            </a:xfrm>
          </p:grpSpPr>
          <p:sp>
            <p:nvSpPr>
              <p:cNvPr id="1987" name=""/>
              <p:cNvSpPr/>
              <p:nvPr/>
            </p:nvSpPr>
            <p:spPr>
              <a:xfrm>
                <a:off x="739440" y="1060560"/>
                <a:ext cx="994680" cy="517680"/>
              </a:xfrm>
              <a:custGeom>
                <a:avLst/>
                <a:gdLst/>
                <a:ahLst/>
                <a:rect l="l" t="t" r="r" b="b"/>
                <a:pathLst>
                  <a:path w="1168" h="603">
                    <a:moveTo>
                      <a:pt x="10" y="0"/>
                    </a:moveTo>
                    <a:lnTo>
                      <a:pt x="0" y="23"/>
                    </a:lnTo>
                    <a:lnTo>
                      <a:pt x="1158" y="603"/>
                    </a:lnTo>
                    <a:lnTo>
                      <a:pt x="1168" y="58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707120" y="1522440"/>
                <a:ext cx="107280" cy="90000"/>
              </a:xfrm>
              <a:custGeom>
                <a:avLst/>
                <a:gdLst/>
                <a:ahLst/>
                <a:rect l="l" t="t" r="r" b="b"/>
                <a:pathLst>
                  <a:path w="126" h="105">
                    <a:moveTo>
                      <a:pt x="0" y="105"/>
                    </a:moveTo>
                    <a:lnTo>
                      <a:pt x="126" y="104"/>
                    </a:lnTo>
                    <a:lnTo>
                      <a:pt x="49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9" name=""/>
            <p:cNvGrpSpPr/>
            <p:nvPr/>
          </p:nvGrpSpPr>
          <p:grpSpPr>
            <a:xfrm>
              <a:off x="1611000" y="1663560"/>
              <a:ext cx="203400" cy="95400"/>
              <a:chOff x="1611000" y="1663560"/>
              <a:chExt cx="203400" cy="95400"/>
            </a:xfrm>
          </p:grpSpPr>
          <p:sp>
            <p:nvSpPr>
              <p:cNvPr id="1990" name=""/>
              <p:cNvSpPr/>
              <p:nvPr/>
            </p:nvSpPr>
            <p:spPr>
              <a:xfrm>
                <a:off x="1611000" y="1699920"/>
                <a:ext cx="117360" cy="58680"/>
              </a:xfrm>
              <a:custGeom>
                <a:avLst/>
                <a:gdLst/>
                <a:ahLst/>
                <a:rect l="l" t="t" r="r" b="b"/>
                <a:pathLst>
                  <a:path w="138" h="68">
                    <a:moveTo>
                      <a:pt x="0" y="43"/>
                    </a:moveTo>
                    <a:lnTo>
                      <a:pt x="7" y="68"/>
                    </a:lnTo>
                    <a:lnTo>
                      <a:pt x="138" y="26"/>
                    </a:lnTo>
                    <a:lnTo>
                      <a:pt x="131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08920" y="1663560"/>
                <a:ext cx="105480" cy="9540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35" y="110"/>
                    </a:moveTo>
                    <a:lnTo>
                      <a:pt x="124" y="18"/>
                    </a:lnTo>
                    <a:lnTo>
                      <a:pt x="0" y="0"/>
                    </a:lnTo>
                    <a:lnTo>
                      <a:pt x="35" y="11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2" name=""/>
            <p:cNvGrpSpPr/>
            <p:nvPr/>
          </p:nvGrpSpPr>
          <p:grpSpPr>
            <a:xfrm>
              <a:off x="1949400" y="790560"/>
              <a:ext cx="1077840" cy="820800"/>
              <a:chOff x="1949400" y="790560"/>
              <a:chExt cx="1077840" cy="820800"/>
            </a:xfrm>
          </p:grpSpPr>
          <p:sp>
            <p:nvSpPr>
              <p:cNvPr id="1993" name=""/>
              <p:cNvSpPr/>
              <p:nvPr/>
            </p:nvSpPr>
            <p:spPr>
              <a:xfrm>
                <a:off x="2019960" y="790560"/>
                <a:ext cx="1007280" cy="772560"/>
              </a:xfrm>
              <a:custGeom>
                <a:avLst/>
                <a:gdLst/>
                <a:ahLst/>
                <a:rect l="l" t="t" r="r" b="b"/>
                <a:pathLst>
                  <a:path w="1183" h="901">
                    <a:moveTo>
                      <a:pt x="1183" y="21"/>
                    </a:moveTo>
                    <a:lnTo>
                      <a:pt x="1168" y="0"/>
                    </a:lnTo>
                    <a:lnTo>
                      <a:pt x="0" y="881"/>
                    </a:lnTo>
                    <a:lnTo>
                      <a:pt x="14" y="901"/>
                    </a:lnTo>
                    <a:lnTo>
                      <a:pt x="1183" y="21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949400" y="1512000"/>
                <a:ext cx="106200" cy="99360"/>
              </a:xfrm>
              <a:custGeom>
                <a:avLst/>
                <a:gdLst/>
                <a:ahLst/>
                <a:rect l="l" t="t" r="r" b="b"/>
                <a:pathLst>
                  <a:path w="125" h="116">
                    <a:moveTo>
                      <a:pt x="58" y="0"/>
                    </a:moveTo>
                    <a:lnTo>
                      <a:pt x="0" y="116"/>
                    </a:lnTo>
                    <a:lnTo>
                      <a:pt x="125" y="94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5" name=""/>
            <p:cNvGrpSpPr/>
            <p:nvPr/>
          </p:nvGrpSpPr>
          <p:grpSpPr>
            <a:xfrm>
              <a:off x="1858680" y="1679400"/>
              <a:ext cx="235080" cy="884160"/>
              <a:chOff x="1858680" y="1679400"/>
              <a:chExt cx="235080" cy="884160"/>
            </a:xfrm>
          </p:grpSpPr>
          <p:sp>
            <p:nvSpPr>
              <p:cNvPr id="1996" name=""/>
              <p:cNvSpPr/>
              <p:nvPr/>
            </p:nvSpPr>
            <p:spPr>
              <a:xfrm>
                <a:off x="1895040" y="1772640"/>
                <a:ext cx="198720" cy="790920"/>
              </a:xfrm>
              <a:custGeom>
                <a:avLst/>
                <a:gdLst/>
                <a:ahLst/>
                <a:rect l="l" t="t" r="r" b="b"/>
                <a:pathLst>
                  <a:path w="234" h="921">
                    <a:moveTo>
                      <a:pt x="210" y="921"/>
                    </a:moveTo>
                    <a:lnTo>
                      <a:pt x="234" y="914"/>
                    </a:lnTo>
                    <a:lnTo>
                      <a:pt x="24" y="0"/>
                    </a:lnTo>
                    <a:lnTo>
                      <a:pt x="0" y="6"/>
                    </a:lnTo>
                    <a:lnTo>
                      <a:pt x="210" y="921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858680" y="1679400"/>
                <a:ext cx="93960" cy="108720"/>
              </a:xfrm>
              <a:custGeom>
                <a:avLst/>
                <a:gdLst/>
                <a:ahLst/>
                <a:rect l="l" t="t" r="r" b="b"/>
                <a:pathLst>
                  <a:path w="111" h="127">
                    <a:moveTo>
                      <a:pt x="111" y="100"/>
                    </a:moveTo>
                    <a:lnTo>
                      <a:pt x="28" y="0"/>
                    </a:lnTo>
                    <a:lnTo>
                      <a:pt x="0" y="127"/>
                    </a:lnTo>
                    <a:lnTo>
                      <a:pt x="111" y="1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8" name=""/>
            <p:cNvGrpSpPr/>
            <p:nvPr/>
          </p:nvGrpSpPr>
          <p:grpSpPr>
            <a:xfrm>
              <a:off x="668160" y="1679400"/>
              <a:ext cx="1214280" cy="760320"/>
              <a:chOff x="668160" y="1679400"/>
              <a:chExt cx="1214280" cy="760320"/>
            </a:xfrm>
          </p:grpSpPr>
          <p:sp>
            <p:nvSpPr>
              <p:cNvPr id="1999" name=""/>
              <p:cNvSpPr/>
              <p:nvPr/>
            </p:nvSpPr>
            <p:spPr>
              <a:xfrm>
                <a:off x="668160" y="1729080"/>
                <a:ext cx="1118880" cy="710640"/>
              </a:xfrm>
              <a:custGeom>
                <a:avLst/>
                <a:gdLst/>
                <a:ahLst/>
                <a:rect l="l" t="t" r="r" b="b"/>
                <a:pathLst>
                  <a:path w="1313" h="827">
                    <a:moveTo>
                      <a:pt x="0" y="794"/>
                    </a:moveTo>
                    <a:lnTo>
                      <a:pt x="19" y="827"/>
                    </a:lnTo>
                    <a:lnTo>
                      <a:pt x="1313" y="33"/>
                    </a:lnTo>
                    <a:lnTo>
                      <a:pt x="1294" y="0"/>
                    </a:lnTo>
                    <a:lnTo>
                      <a:pt x="0" y="79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45280" y="1679400"/>
                <a:ext cx="137160" cy="122040"/>
              </a:xfrm>
              <a:custGeom>
                <a:avLst/>
                <a:gdLst/>
                <a:ahLst/>
                <a:rect l="l" t="t" r="r" b="b"/>
                <a:pathLst>
                  <a:path w="161" h="142">
                    <a:moveTo>
                      <a:pt x="74" y="142"/>
                    </a:moveTo>
                    <a:lnTo>
                      <a:pt x="161" y="0"/>
                    </a:lnTo>
                    <a:lnTo>
                      <a:pt x="0" y="12"/>
                    </a:lnTo>
                    <a:lnTo>
                      <a:pt x="74" y="14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1" name=""/>
            <p:cNvGrpSpPr/>
            <p:nvPr/>
          </p:nvGrpSpPr>
          <p:grpSpPr>
            <a:xfrm>
              <a:off x="1949400" y="1400040"/>
              <a:ext cx="109440" cy="144720"/>
              <a:chOff x="1949400" y="1400040"/>
              <a:chExt cx="109440" cy="144720"/>
            </a:xfrm>
          </p:grpSpPr>
          <p:sp>
            <p:nvSpPr>
              <p:cNvPr id="2002" name=""/>
              <p:cNvSpPr/>
              <p:nvPr/>
            </p:nvSpPr>
            <p:spPr>
              <a:xfrm>
                <a:off x="1990440" y="140004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46" y="19"/>
                    </a:moveTo>
                    <a:lnTo>
                      <a:pt x="15" y="0"/>
                    </a:lnTo>
                    <a:lnTo>
                      <a:pt x="0" y="26"/>
                    </a:lnTo>
                    <a:lnTo>
                      <a:pt x="31" y="46"/>
                    </a:lnTo>
                    <a:lnTo>
                      <a:pt x="46" y="1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949400" y="1400040"/>
                <a:ext cx="109440" cy="144720"/>
              </a:xfrm>
              <a:custGeom>
                <a:avLst/>
                <a:gdLst/>
                <a:ahLst/>
                <a:rect l="l" t="t" r="r" b="b"/>
                <a:pathLst>
                  <a:path w="130" h="167">
                    <a:moveTo>
                      <a:pt x="2" y="0"/>
                    </a:moveTo>
                    <a:lnTo>
                      <a:pt x="0" y="167"/>
                    </a:lnTo>
                    <a:lnTo>
                      <a:pt x="130" y="6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4" name=""/>
            <p:cNvGrpSpPr/>
            <p:nvPr/>
          </p:nvGrpSpPr>
          <p:grpSpPr>
            <a:xfrm>
              <a:off x="1949400" y="1673280"/>
              <a:ext cx="1010880" cy="496440"/>
              <a:chOff x="1949400" y="1673280"/>
              <a:chExt cx="1010880" cy="496440"/>
            </a:xfrm>
          </p:grpSpPr>
          <p:sp>
            <p:nvSpPr>
              <p:cNvPr id="2005" name=""/>
              <p:cNvSpPr/>
              <p:nvPr/>
            </p:nvSpPr>
            <p:spPr>
              <a:xfrm>
                <a:off x="2053800" y="1716840"/>
                <a:ext cx="906480" cy="452880"/>
              </a:xfrm>
              <a:custGeom>
                <a:avLst/>
                <a:gdLst/>
                <a:ahLst/>
                <a:rect l="l" t="t" r="r" b="b"/>
                <a:pathLst>
                  <a:path w="1065" h="527">
                    <a:moveTo>
                      <a:pt x="1049" y="527"/>
                    </a:moveTo>
                    <a:lnTo>
                      <a:pt x="1065" y="491"/>
                    </a:lnTo>
                    <a:lnTo>
                      <a:pt x="15" y="0"/>
                    </a:lnTo>
                    <a:lnTo>
                      <a:pt x="0" y="36"/>
                    </a:lnTo>
                    <a:lnTo>
                      <a:pt x="1049" y="52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949400" y="1673280"/>
                <a:ext cx="137520" cy="117720"/>
              </a:xfrm>
              <a:custGeom>
                <a:avLst/>
                <a:gdLst/>
                <a:ahLst/>
                <a:rect l="l" t="t" r="r" b="b"/>
                <a:pathLst>
                  <a:path w="162" h="137">
                    <a:moveTo>
                      <a:pt x="162" y="0"/>
                    </a:moveTo>
                    <a:lnTo>
                      <a:pt x="0" y="7"/>
                    </a:lnTo>
                    <a:lnTo>
                      <a:pt x="103" y="137"/>
                    </a:lnTo>
                    <a:lnTo>
                      <a:pt x="162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7" name=""/>
            <p:cNvGrpSpPr/>
            <p:nvPr/>
          </p:nvGrpSpPr>
          <p:grpSpPr>
            <a:xfrm>
              <a:off x="1531800" y="522360"/>
              <a:ext cx="309240" cy="1022040"/>
              <a:chOff x="1531800" y="522360"/>
              <a:chExt cx="309240" cy="1022040"/>
            </a:xfrm>
          </p:grpSpPr>
          <p:sp>
            <p:nvSpPr>
              <p:cNvPr id="2008" name=""/>
              <p:cNvSpPr/>
              <p:nvPr/>
            </p:nvSpPr>
            <p:spPr>
              <a:xfrm>
                <a:off x="1531800" y="522360"/>
                <a:ext cx="265320" cy="904680"/>
              </a:xfrm>
              <a:custGeom>
                <a:avLst/>
                <a:gdLst/>
                <a:ahLst/>
                <a:rect l="l" t="t" r="r" b="b"/>
                <a:pathLst>
                  <a:path w="312" h="1052">
                    <a:moveTo>
                      <a:pt x="36" y="0"/>
                    </a:moveTo>
                    <a:lnTo>
                      <a:pt x="0" y="11"/>
                    </a:lnTo>
                    <a:lnTo>
                      <a:pt x="276" y="1052"/>
                    </a:lnTo>
                    <a:lnTo>
                      <a:pt x="312" y="1041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22240" y="1403640"/>
                <a:ext cx="118800" cy="14076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0" y="39"/>
                    </a:moveTo>
                    <a:lnTo>
                      <a:pt x="108" y="164"/>
                    </a:lnTo>
                    <a:lnTo>
                      <a:pt x="14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0" name=""/>
            <p:cNvSpPr/>
            <p:nvPr/>
          </p:nvSpPr>
          <p:spPr>
            <a:xfrm flipV="1">
              <a:off x="742680" y="663120"/>
              <a:ext cx="221148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76080" y="1138320"/>
              <a:ext cx="1339920" cy="14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H="1">
              <a:off x="2284200" y="866880"/>
              <a:ext cx="804960" cy="16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3" name=""/>
            <p:cNvGrpSpPr/>
            <p:nvPr/>
          </p:nvGrpSpPr>
          <p:grpSpPr>
            <a:xfrm>
              <a:off x="672840" y="1066680"/>
              <a:ext cx="676440" cy="615600"/>
              <a:chOff x="672840" y="1066680"/>
              <a:chExt cx="676440" cy="615600"/>
            </a:xfrm>
          </p:grpSpPr>
          <p:sp>
            <p:nvSpPr>
              <p:cNvPr id="2014" name=""/>
              <p:cNvSpPr/>
              <p:nvPr/>
            </p:nvSpPr>
            <p:spPr>
              <a:xfrm>
                <a:off x="672840" y="1066680"/>
                <a:ext cx="21240" cy="201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5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00920" y="1092240"/>
                <a:ext cx="21960" cy="1944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0" y="23"/>
                    </a:lnTo>
                    <a:lnTo>
                      <a:pt x="21" y="23"/>
                    </a:lnTo>
                    <a:lnTo>
                      <a:pt x="23" y="23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29000" y="111780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58160" y="1144800"/>
                <a:ext cx="21240" cy="19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1" y="23"/>
                    </a:lnTo>
                    <a:lnTo>
                      <a:pt x="22" y="23"/>
                    </a:lnTo>
                    <a:lnTo>
                      <a:pt x="23" y="23"/>
                    </a:lnTo>
                    <a:lnTo>
                      <a:pt x="24" y="23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86960" y="1169640"/>
                <a:ext cx="21240" cy="205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0" y="23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3" y="23"/>
                    </a:lnTo>
                    <a:lnTo>
                      <a:pt x="24" y="22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23" y="18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815400" y="1196280"/>
                <a:ext cx="21960" cy="1944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0" y="23"/>
                    </a:lnTo>
                    <a:lnTo>
                      <a:pt x="21" y="23"/>
                    </a:lnTo>
                    <a:lnTo>
                      <a:pt x="22" y="23"/>
                    </a:lnTo>
                    <a:lnTo>
                      <a:pt x="23" y="23"/>
                    </a:lnTo>
                    <a:lnTo>
                      <a:pt x="24" y="22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4" y="18"/>
                    </a:lnTo>
                    <a:lnTo>
                      <a:pt x="23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843480" y="1221120"/>
                <a:ext cx="21240" cy="21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5" y="2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1" y="23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872640" y="1247760"/>
                <a:ext cx="21240" cy="205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900720" y="127332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5" y="1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4" y="24"/>
                    </a:lnTo>
                    <a:lnTo>
                      <a:pt x="25" y="23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928800" y="1299600"/>
                <a:ext cx="21240" cy="21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1" y="23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957960" y="1325160"/>
                <a:ext cx="21240" cy="205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986400" y="135180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19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014480" y="1377720"/>
                <a:ext cx="23040" cy="194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1" y="23"/>
                    </a:lnTo>
                    <a:lnTo>
                      <a:pt x="22" y="23"/>
                    </a:lnTo>
                    <a:lnTo>
                      <a:pt x="23" y="23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043280" y="1403280"/>
                <a:ext cx="21240" cy="205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072440" y="1429920"/>
                <a:ext cx="21240" cy="19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1" y="23"/>
                    </a:lnTo>
                    <a:lnTo>
                      <a:pt x="22" y="23"/>
                    </a:lnTo>
                    <a:lnTo>
                      <a:pt x="23" y="23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100520" y="145512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5" y="1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0" y="23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128960" y="1481760"/>
                <a:ext cx="21240" cy="19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1" y="23"/>
                    </a:lnTo>
                    <a:lnTo>
                      <a:pt x="22" y="23"/>
                    </a:lnTo>
                    <a:lnTo>
                      <a:pt x="23" y="23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157760" y="1507320"/>
                <a:ext cx="21240" cy="205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185840" y="153324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214280" y="1558800"/>
                <a:ext cx="23040" cy="2052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243440" y="1585440"/>
                <a:ext cx="21240" cy="205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272240" y="1610640"/>
                <a:ext cx="21240" cy="205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4" y="20"/>
                    </a:lnTo>
                    <a:lnTo>
                      <a:pt x="23" y="19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300320" y="163728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0" y="23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328760" y="1662120"/>
                <a:ext cx="20520" cy="20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5" y="2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2" y="22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3" y="19"/>
                    </a:lnTo>
                    <a:lnTo>
                      <a:pt x="23" y="18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8" name=""/>
            <p:cNvGrpSpPr/>
            <p:nvPr/>
          </p:nvGrpSpPr>
          <p:grpSpPr>
            <a:xfrm>
              <a:off x="1611000" y="2016000"/>
              <a:ext cx="408240" cy="547560"/>
              <a:chOff x="1611000" y="2016000"/>
              <a:chExt cx="408240" cy="547560"/>
            </a:xfrm>
          </p:grpSpPr>
          <p:sp>
            <p:nvSpPr>
              <p:cNvPr id="2039" name=""/>
              <p:cNvSpPr/>
              <p:nvPr/>
            </p:nvSpPr>
            <p:spPr>
              <a:xfrm>
                <a:off x="1611000" y="2016000"/>
                <a:ext cx="18720" cy="2304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6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21" y="2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33680" y="2046960"/>
                <a:ext cx="19440" cy="230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6" y="2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6" y="26"/>
                    </a:lnTo>
                    <a:lnTo>
                      <a:pt x="17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7"/>
                    </a:lnTo>
                    <a:lnTo>
                      <a:pt x="22" y="26"/>
                    </a:lnTo>
                    <a:lnTo>
                      <a:pt x="23" y="25"/>
                    </a:lnTo>
                    <a:lnTo>
                      <a:pt x="23" y="24"/>
                    </a:lnTo>
                    <a:lnTo>
                      <a:pt x="22" y="2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57440" y="2077920"/>
                <a:ext cx="17640" cy="2304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6" y="26"/>
                    </a:lnTo>
                    <a:lnTo>
                      <a:pt x="17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7"/>
                    </a:lnTo>
                    <a:lnTo>
                      <a:pt x="21" y="26"/>
                    </a:lnTo>
                    <a:lnTo>
                      <a:pt x="21" y="25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79760" y="2108880"/>
                <a:ext cx="18720" cy="2376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7" y="2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7" y="26"/>
                    </a:lnTo>
                    <a:lnTo>
                      <a:pt x="18" y="28"/>
                    </a:lnTo>
                    <a:lnTo>
                      <a:pt x="19" y="28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2" y="26"/>
                    </a:lnTo>
                    <a:lnTo>
                      <a:pt x="22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703880" y="2140560"/>
                <a:ext cx="18720" cy="2376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6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5" y="26"/>
                    </a:lnTo>
                    <a:lnTo>
                      <a:pt x="16" y="27"/>
                    </a:lnTo>
                    <a:lnTo>
                      <a:pt x="18" y="28"/>
                    </a:lnTo>
                    <a:lnTo>
                      <a:pt x="19" y="28"/>
                    </a:lnTo>
                    <a:lnTo>
                      <a:pt x="20" y="27"/>
                    </a:lnTo>
                    <a:lnTo>
                      <a:pt x="21" y="26"/>
                    </a:lnTo>
                    <a:lnTo>
                      <a:pt x="22" y="25"/>
                    </a:lnTo>
                    <a:lnTo>
                      <a:pt x="22" y="23"/>
                    </a:lnTo>
                    <a:lnTo>
                      <a:pt x="21" y="2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726920" y="2172240"/>
                <a:ext cx="18720" cy="2304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21" y="22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749960" y="2203200"/>
                <a:ext cx="17640" cy="2304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6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21" y="22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773000" y="2233800"/>
                <a:ext cx="18720" cy="2304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6" y="2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7" y="26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7"/>
                    </a:lnTo>
                    <a:lnTo>
                      <a:pt x="21" y="27"/>
                    </a:lnTo>
                    <a:lnTo>
                      <a:pt x="22" y="26"/>
                    </a:lnTo>
                    <a:lnTo>
                      <a:pt x="22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796040" y="2264760"/>
                <a:ext cx="18720" cy="241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6" y="2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7" y="26"/>
                    </a:lnTo>
                    <a:lnTo>
                      <a:pt x="18" y="28"/>
                    </a:lnTo>
                    <a:lnTo>
                      <a:pt x="19" y="28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2" y="26"/>
                    </a:lnTo>
                    <a:lnTo>
                      <a:pt x="22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819800" y="2296080"/>
                <a:ext cx="18720" cy="2376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6" y="3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5" y="27"/>
                    </a:lnTo>
                    <a:lnTo>
                      <a:pt x="16" y="28"/>
                    </a:lnTo>
                    <a:lnTo>
                      <a:pt x="17" y="28"/>
                    </a:lnTo>
                    <a:lnTo>
                      <a:pt x="19" y="28"/>
                    </a:lnTo>
                    <a:lnTo>
                      <a:pt x="20" y="28"/>
                    </a:lnTo>
                    <a:lnTo>
                      <a:pt x="21" y="27"/>
                    </a:lnTo>
                    <a:lnTo>
                      <a:pt x="22" y="26"/>
                    </a:lnTo>
                    <a:lnTo>
                      <a:pt x="22" y="24"/>
                    </a:lnTo>
                    <a:lnTo>
                      <a:pt x="21" y="2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842840" y="2328480"/>
                <a:ext cx="18720" cy="2196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19" y="26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21" y="22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1865520" y="2359440"/>
                <a:ext cx="17640" cy="2304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6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21" y="22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1888560" y="2390400"/>
                <a:ext cx="18720" cy="2304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6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7" y="25"/>
                    </a:lnTo>
                    <a:lnTo>
                      <a:pt x="18" y="26"/>
                    </a:lnTo>
                    <a:lnTo>
                      <a:pt x="19" y="27"/>
                    </a:lnTo>
                    <a:lnTo>
                      <a:pt x="20" y="27"/>
                    </a:lnTo>
                    <a:lnTo>
                      <a:pt x="21" y="26"/>
                    </a:lnTo>
                    <a:lnTo>
                      <a:pt x="22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22" y="22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1911600" y="2421360"/>
                <a:ext cx="18720" cy="2376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6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8" y="28"/>
                    </a:lnTo>
                    <a:lnTo>
                      <a:pt x="19" y="28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21" y="22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35720" y="2452320"/>
                <a:ext cx="18720" cy="2376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5" y="3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5" y="27"/>
                    </a:lnTo>
                    <a:lnTo>
                      <a:pt x="16" y="28"/>
                    </a:lnTo>
                    <a:lnTo>
                      <a:pt x="17" y="28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21" y="27"/>
                    </a:lnTo>
                    <a:lnTo>
                      <a:pt x="22" y="26"/>
                    </a:lnTo>
                    <a:lnTo>
                      <a:pt x="22" y="24"/>
                    </a:lnTo>
                    <a:lnTo>
                      <a:pt x="21" y="2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958760" y="2482920"/>
                <a:ext cx="18720" cy="241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5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27"/>
                    </a:lnTo>
                    <a:lnTo>
                      <a:pt x="17" y="28"/>
                    </a:lnTo>
                    <a:lnTo>
                      <a:pt x="18" y="28"/>
                    </a:lnTo>
                    <a:lnTo>
                      <a:pt x="19" y="28"/>
                    </a:lnTo>
                    <a:lnTo>
                      <a:pt x="20" y="28"/>
                    </a:lnTo>
                    <a:lnTo>
                      <a:pt x="21" y="27"/>
                    </a:lnTo>
                    <a:lnTo>
                      <a:pt x="22" y="26"/>
                    </a:lnTo>
                    <a:lnTo>
                      <a:pt x="22" y="25"/>
                    </a:lnTo>
                    <a:lnTo>
                      <a:pt x="21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1981800" y="2514960"/>
                <a:ext cx="17640" cy="2304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6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6" y="26"/>
                    </a:lnTo>
                    <a:lnTo>
                      <a:pt x="17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7"/>
                    </a:lnTo>
                    <a:lnTo>
                      <a:pt x="21" y="26"/>
                    </a:lnTo>
                    <a:lnTo>
                      <a:pt x="21" y="25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004840" y="254664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6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1" y="19"/>
                    </a:lnTo>
                    <a:lnTo>
                      <a:pt x="12" y="19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7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7" name=""/>
            <p:cNvSpPr/>
            <p:nvPr/>
          </p:nvSpPr>
          <p:spPr>
            <a:xfrm flipH="1">
              <a:off x="682560" y="527040"/>
              <a:ext cx="730080" cy="17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V="1">
              <a:off x="752400" y="2290680"/>
              <a:ext cx="220176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680840" y="527040"/>
              <a:ext cx="1339920" cy="155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614240" y="527040"/>
              <a:ext cx="33516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217600" y="1407960"/>
              <a:ext cx="803160" cy="74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V="1">
              <a:off x="682560" y="1341360"/>
              <a:ext cx="133956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3" name=""/>
            <p:cNvGrpSpPr/>
            <p:nvPr/>
          </p:nvGrpSpPr>
          <p:grpSpPr>
            <a:xfrm>
              <a:off x="2280960" y="728640"/>
              <a:ext cx="676080" cy="479520"/>
              <a:chOff x="2280960" y="728640"/>
              <a:chExt cx="676080" cy="479520"/>
            </a:xfrm>
          </p:grpSpPr>
          <p:sp>
            <p:nvSpPr>
              <p:cNvPr id="2064" name=""/>
              <p:cNvSpPr/>
              <p:nvPr/>
            </p:nvSpPr>
            <p:spPr>
              <a:xfrm>
                <a:off x="2934360" y="728640"/>
                <a:ext cx="22680" cy="176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6" y="6"/>
                    </a:moveTo>
                    <a:lnTo>
                      <a:pt x="26" y="4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902680" y="750600"/>
                <a:ext cx="22680" cy="180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6" y="6"/>
                    </a:moveTo>
                    <a:lnTo>
                      <a:pt x="27" y="5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872080" y="77220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25" y="7"/>
                    </a:moveTo>
                    <a:lnTo>
                      <a:pt x="26" y="6"/>
                    </a:lnTo>
                    <a:lnTo>
                      <a:pt x="26" y="5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840400" y="795240"/>
                <a:ext cx="22680" cy="176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5" y="5"/>
                    </a:moveTo>
                    <a:lnTo>
                      <a:pt x="26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19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809080" y="816840"/>
                <a:ext cx="22680" cy="180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5" y="6"/>
                    </a:moveTo>
                    <a:lnTo>
                      <a:pt x="26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2777400" y="83916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5" y="6"/>
                    </a:moveTo>
                    <a:lnTo>
                      <a:pt x="26" y="5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0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745720" y="86076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27" y="7"/>
                    </a:moveTo>
                    <a:lnTo>
                      <a:pt x="28" y="6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714040" y="883800"/>
                <a:ext cx="23760" cy="1800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7" y="5"/>
                    </a:move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2684520" y="905040"/>
                <a:ext cx="22680" cy="1872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5" y="7"/>
                    </a:moveTo>
                    <a:lnTo>
                      <a:pt x="26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1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652840" y="927360"/>
                <a:ext cx="22680" cy="176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5" y="6"/>
                    </a:moveTo>
                    <a:lnTo>
                      <a:pt x="26" y="5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621160" y="948960"/>
                <a:ext cx="22680" cy="1872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5" y="7"/>
                    </a:moveTo>
                    <a:lnTo>
                      <a:pt x="26" y="6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5" y="21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589480" y="972000"/>
                <a:ext cx="22680" cy="180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6" y="5"/>
                    </a:moveTo>
                    <a:lnTo>
                      <a:pt x="27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558160" y="993600"/>
                <a:ext cx="22680" cy="1872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6" y="7"/>
                    </a:moveTo>
                    <a:lnTo>
                      <a:pt x="27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5" y="21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527200" y="1015920"/>
                <a:ext cx="23760" cy="1800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5" y="6"/>
                    </a:moveTo>
                    <a:lnTo>
                      <a:pt x="26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495880" y="103824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6" y="6"/>
                    </a:moveTo>
                    <a:lnTo>
                      <a:pt x="27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464200" y="1060560"/>
                <a:ext cx="23760" cy="1800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6" y="5"/>
                    </a:moveTo>
                    <a:lnTo>
                      <a:pt x="27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432520" y="108216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27" y="7"/>
                    </a:moveTo>
                    <a:lnTo>
                      <a:pt x="28" y="6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3" y="15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3" y="21"/>
                    </a:lnTo>
                    <a:lnTo>
                      <a:pt x="4" y="22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401920" y="1104120"/>
                <a:ext cx="22680" cy="180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6" y="6"/>
                    </a:moveTo>
                    <a:lnTo>
                      <a:pt x="27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370960" y="1126440"/>
                <a:ext cx="22680" cy="1872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5" y="6"/>
                    </a:moveTo>
                    <a:lnTo>
                      <a:pt x="26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2339640" y="1149120"/>
                <a:ext cx="22680" cy="176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5" y="5"/>
                    </a:moveTo>
                    <a:lnTo>
                      <a:pt x="26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307960" y="1170360"/>
                <a:ext cx="22680" cy="1872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5" y="7"/>
                    </a:moveTo>
                    <a:lnTo>
                      <a:pt x="26" y="6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5" y="21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280960" y="119268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21" y="6"/>
                    </a:moveTo>
                    <a:lnTo>
                      <a:pt x="22" y="5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6" y="18"/>
                    </a:lnTo>
                    <a:lnTo>
                      <a:pt x="21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6" name=""/>
            <p:cNvGrpSpPr/>
            <p:nvPr/>
          </p:nvGrpSpPr>
          <p:grpSpPr>
            <a:xfrm>
              <a:off x="1611000" y="1407960"/>
              <a:ext cx="402840" cy="274320"/>
              <a:chOff x="1611000" y="1407960"/>
              <a:chExt cx="402840" cy="274320"/>
            </a:xfrm>
          </p:grpSpPr>
          <p:sp>
            <p:nvSpPr>
              <p:cNvPr id="2087" name=""/>
              <p:cNvSpPr/>
              <p:nvPr/>
            </p:nvSpPr>
            <p:spPr>
              <a:xfrm>
                <a:off x="1611000" y="1664640"/>
                <a:ext cx="22680" cy="176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" y="15"/>
                    </a:move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1642320" y="1642320"/>
                <a:ext cx="23400" cy="1800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" y="16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26" y="7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1674720" y="1621800"/>
                <a:ext cx="22680" cy="180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" y="15"/>
                    </a:move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25" y="6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1706040" y="1600560"/>
                <a:ext cx="22680" cy="180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" y="14"/>
                    </a:move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1737720" y="1578960"/>
                <a:ext cx="23400" cy="176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" y="15"/>
                    </a:moveTo>
                    <a:lnTo>
                      <a:pt x="1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1769760" y="155772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" y="15"/>
                    </a:move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25" y="6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1800360" y="1537200"/>
                <a:ext cx="23760" cy="1692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" y="14"/>
                    </a:move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0"/>
                    </a:lnTo>
                    <a:lnTo>
                      <a:pt x="5" y="19"/>
                    </a:lnTo>
                    <a:lnTo>
                      <a:pt x="27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1832040" y="1514880"/>
                <a:ext cx="23760" cy="1800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" y="16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27" y="7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1864440" y="1493280"/>
                <a:ext cx="23400" cy="176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1" y="16"/>
                    </a:move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26" y="7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1895760" y="1472760"/>
                <a:ext cx="23760" cy="1800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1" y="14"/>
                    </a:move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27" y="6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1927440" y="1451520"/>
                <a:ext cx="22680" cy="176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" y="14"/>
                    </a:move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0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1959840" y="1430280"/>
                <a:ext cx="22680" cy="169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1" y="15"/>
                    </a:move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4" y="20"/>
                    </a:lnTo>
                    <a:lnTo>
                      <a:pt x="25" y="6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1991160" y="1407960"/>
                <a:ext cx="22680" cy="180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" y="16"/>
                    </a:move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26" y="7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0" name=""/>
            <p:cNvGrpSpPr/>
            <p:nvPr/>
          </p:nvGrpSpPr>
          <p:grpSpPr>
            <a:xfrm>
              <a:off x="1433160" y="257040"/>
              <a:ext cx="55800" cy="200880"/>
              <a:chOff x="1433160" y="257040"/>
              <a:chExt cx="55800" cy="200880"/>
            </a:xfrm>
          </p:grpSpPr>
          <p:sp>
            <p:nvSpPr>
              <p:cNvPr id="2101" name=""/>
              <p:cNvSpPr/>
              <p:nvPr/>
            </p:nvSpPr>
            <p:spPr>
              <a:xfrm flipV="1">
                <a:off x="1460160" y="312120"/>
                <a:ext cx="72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1433160" y="257040"/>
                <a:ext cx="55800" cy="5796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66" y="68"/>
                    </a:moveTo>
                    <a:lnTo>
                      <a:pt x="32" y="0"/>
                    </a:lnTo>
                    <a:lnTo>
                      <a:pt x="0" y="68"/>
                    </a:lnTo>
                    <a:lnTo>
                      <a:pt x="6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3" name=""/>
            <p:cNvGrpSpPr/>
            <p:nvPr/>
          </p:nvGrpSpPr>
          <p:grpSpPr>
            <a:xfrm>
              <a:off x="3017520" y="2085840"/>
              <a:ext cx="57240" cy="204480"/>
              <a:chOff x="3017520" y="2085840"/>
              <a:chExt cx="57240" cy="204480"/>
            </a:xfrm>
          </p:grpSpPr>
          <p:sp>
            <p:nvSpPr>
              <p:cNvPr id="2104" name=""/>
              <p:cNvSpPr/>
              <p:nvPr/>
            </p:nvSpPr>
            <p:spPr>
              <a:xfrm flipV="1">
                <a:off x="3045960" y="2142720"/>
                <a:ext cx="72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3017520" y="2085840"/>
                <a:ext cx="57240" cy="5868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66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6" name=""/>
            <p:cNvGrpSpPr/>
            <p:nvPr/>
          </p:nvGrpSpPr>
          <p:grpSpPr>
            <a:xfrm>
              <a:off x="1989000" y="1127160"/>
              <a:ext cx="57240" cy="203040"/>
              <a:chOff x="1989000" y="1127160"/>
              <a:chExt cx="57240" cy="203040"/>
            </a:xfrm>
          </p:grpSpPr>
          <p:sp>
            <p:nvSpPr>
              <p:cNvPr id="2107" name=""/>
              <p:cNvSpPr/>
              <p:nvPr/>
            </p:nvSpPr>
            <p:spPr>
              <a:xfrm>
                <a:off x="2017440" y="1127160"/>
                <a:ext cx="720" cy="14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1989000" y="1271880"/>
                <a:ext cx="57240" cy="5832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0" y="0"/>
                    </a:moveTo>
                    <a:lnTo>
                      <a:pt x="33" y="68"/>
                    </a:lnTo>
                    <a:lnTo>
                      <a:pt x="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9" name=""/>
            <p:cNvGrpSpPr/>
            <p:nvPr/>
          </p:nvGrpSpPr>
          <p:grpSpPr>
            <a:xfrm>
              <a:off x="482400" y="2357280"/>
              <a:ext cx="55440" cy="203040"/>
              <a:chOff x="482400" y="2357280"/>
              <a:chExt cx="55440" cy="203040"/>
            </a:xfrm>
          </p:grpSpPr>
          <p:sp>
            <p:nvSpPr>
              <p:cNvPr id="2110" name=""/>
              <p:cNvSpPr/>
              <p:nvPr/>
            </p:nvSpPr>
            <p:spPr>
              <a:xfrm>
                <a:off x="510120" y="2357280"/>
                <a:ext cx="72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482400" y="2502000"/>
                <a:ext cx="55440" cy="5832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0" y="0"/>
                    </a:moveTo>
                    <a:lnTo>
                      <a:pt x="33" y="68"/>
                    </a:lnTo>
                    <a:lnTo>
                      <a:pt x="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2" name=""/>
            <p:cNvSpPr/>
            <p:nvPr/>
          </p:nvSpPr>
          <p:spPr>
            <a:xfrm>
              <a:off x="679320" y="452520"/>
              <a:ext cx="693720" cy="353880"/>
            </a:xfrm>
            <a:custGeom>
              <a:avLst/>
              <a:gdLst/>
              <a:ahLst/>
              <a:rect l="l" t="t" r="r" b="b"/>
              <a:pathLst>
                <a:path w="813" h="412">
                  <a:moveTo>
                    <a:pt x="0" y="394"/>
                  </a:moveTo>
                  <a:lnTo>
                    <a:pt x="8" y="412"/>
                  </a:lnTo>
                  <a:lnTo>
                    <a:pt x="813" y="17"/>
                  </a:lnTo>
                  <a:lnTo>
                    <a:pt x="804" y="0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711080" y="384120"/>
              <a:ext cx="1235160" cy="219240"/>
            </a:xfrm>
            <a:custGeom>
              <a:avLst/>
              <a:gdLst/>
              <a:ahLst/>
              <a:rect l="l" t="t" r="r" b="b"/>
              <a:pathLst>
                <a:path w="1450" h="255">
                  <a:moveTo>
                    <a:pt x="3" y="0"/>
                  </a:moveTo>
                  <a:lnTo>
                    <a:pt x="0" y="18"/>
                  </a:lnTo>
                  <a:lnTo>
                    <a:pt x="1447" y="255"/>
                  </a:lnTo>
                  <a:lnTo>
                    <a:pt x="1450" y="23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750600" y="993600"/>
              <a:ext cx="1168560" cy="220680"/>
            </a:xfrm>
            <a:custGeom>
              <a:avLst/>
              <a:gdLst/>
              <a:ahLst/>
              <a:rect l="l" t="t" r="r" b="b"/>
              <a:pathLst>
                <a:path w="1371" h="256">
                  <a:moveTo>
                    <a:pt x="4" y="0"/>
                  </a:moveTo>
                  <a:lnTo>
                    <a:pt x="0" y="19"/>
                  </a:lnTo>
                  <a:lnTo>
                    <a:pt x="1367" y="256"/>
                  </a:lnTo>
                  <a:lnTo>
                    <a:pt x="1371" y="23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255760" y="790560"/>
              <a:ext cx="691920" cy="355680"/>
            </a:xfrm>
            <a:custGeom>
              <a:avLst/>
              <a:gdLst/>
              <a:ahLst/>
              <a:rect l="l" t="t" r="r" b="b"/>
              <a:pathLst>
                <a:path w="812" h="413">
                  <a:moveTo>
                    <a:pt x="0" y="395"/>
                  </a:moveTo>
                  <a:lnTo>
                    <a:pt x="8" y="413"/>
                  </a:lnTo>
                  <a:lnTo>
                    <a:pt x="812" y="18"/>
                  </a:lnTo>
                  <a:lnTo>
                    <a:pt x="804" y="0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50600" y="2486160"/>
              <a:ext cx="1168560" cy="218880"/>
            </a:xfrm>
            <a:custGeom>
              <a:avLst/>
              <a:gdLst/>
              <a:ahLst/>
              <a:rect l="l" t="t" r="r" b="b"/>
              <a:pathLst>
                <a:path w="1371" h="255">
                  <a:moveTo>
                    <a:pt x="4" y="0"/>
                  </a:moveTo>
                  <a:lnTo>
                    <a:pt x="0" y="18"/>
                  </a:lnTo>
                  <a:lnTo>
                    <a:pt x="1367" y="255"/>
                  </a:lnTo>
                  <a:lnTo>
                    <a:pt x="1371" y="23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325600" y="2282760"/>
              <a:ext cx="623880" cy="420840"/>
            </a:xfrm>
            <a:custGeom>
              <a:avLst/>
              <a:gdLst/>
              <a:ahLst/>
              <a:rect l="l" t="t" r="r" b="b"/>
              <a:pathLst>
                <a:path w="732" h="490">
                  <a:moveTo>
                    <a:pt x="0" y="474"/>
                  </a:moveTo>
                  <a:lnTo>
                    <a:pt x="9" y="490"/>
                  </a:lnTo>
                  <a:lnTo>
                    <a:pt x="732" y="16"/>
                  </a:lnTo>
                  <a:lnTo>
                    <a:pt x="723" y="0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8" name=""/>
            <p:cNvGrpSpPr/>
            <p:nvPr/>
          </p:nvGrpSpPr>
          <p:grpSpPr>
            <a:xfrm>
              <a:off x="1643040" y="1874880"/>
              <a:ext cx="1285200" cy="284040"/>
              <a:chOff x="1643040" y="1874880"/>
              <a:chExt cx="1285200" cy="284040"/>
            </a:xfrm>
          </p:grpSpPr>
          <p:sp>
            <p:nvSpPr>
              <p:cNvPr id="2119" name=""/>
              <p:cNvSpPr/>
              <p:nvPr/>
            </p:nvSpPr>
            <p:spPr>
              <a:xfrm>
                <a:off x="1643040" y="1874880"/>
                <a:ext cx="65520" cy="2916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3" y="0"/>
                    </a:moveTo>
                    <a:lnTo>
                      <a:pt x="0" y="19"/>
                    </a:lnTo>
                    <a:lnTo>
                      <a:pt x="74" y="34"/>
                    </a:lnTo>
                    <a:lnTo>
                      <a:pt x="77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1753560" y="1897920"/>
                <a:ext cx="66240" cy="2916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3" y="0"/>
                    </a:moveTo>
                    <a:lnTo>
                      <a:pt x="0" y="18"/>
                    </a:lnTo>
                    <a:lnTo>
                      <a:pt x="74" y="34"/>
                    </a:lnTo>
                    <a:lnTo>
                      <a:pt x="78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1864440" y="1921320"/>
                <a:ext cx="65160" cy="2916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3" y="0"/>
                    </a:moveTo>
                    <a:lnTo>
                      <a:pt x="0" y="19"/>
                    </a:lnTo>
                    <a:lnTo>
                      <a:pt x="74" y="34"/>
                    </a:lnTo>
                    <a:lnTo>
                      <a:pt x="77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1974960" y="1943640"/>
                <a:ext cx="66240" cy="2916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3" y="0"/>
                    </a:moveTo>
                    <a:lnTo>
                      <a:pt x="0" y="19"/>
                    </a:lnTo>
                    <a:lnTo>
                      <a:pt x="75" y="34"/>
                    </a:lnTo>
                    <a:lnTo>
                      <a:pt x="78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086200" y="1967760"/>
                <a:ext cx="65520" cy="2916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3" y="0"/>
                    </a:moveTo>
                    <a:lnTo>
                      <a:pt x="0" y="18"/>
                    </a:lnTo>
                    <a:lnTo>
                      <a:pt x="73" y="34"/>
                    </a:lnTo>
                    <a:lnTo>
                      <a:pt x="77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196360" y="1990080"/>
                <a:ext cx="66240" cy="2916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3" y="0"/>
                    </a:moveTo>
                    <a:lnTo>
                      <a:pt x="0" y="19"/>
                    </a:lnTo>
                    <a:lnTo>
                      <a:pt x="75" y="34"/>
                    </a:lnTo>
                    <a:lnTo>
                      <a:pt x="78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307960" y="2013480"/>
                <a:ext cx="66240" cy="2916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3" y="0"/>
                    </a:moveTo>
                    <a:lnTo>
                      <a:pt x="0" y="19"/>
                    </a:lnTo>
                    <a:lnTo>
                      <a:pt x="75" y="34"/>
                    </a:lnTo>
                    <a:lnTo>
                      <a:pt x="78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419560" y="2036520"/>
                <a:ext cx="65160" cy="2916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3" y="0"/>
                    </a:moveTo>
                    <a:lnTo>
                      <a:pt x="0" y="18"/>
                    </a:lnTo>
                    <a:lnTo>
                      <a:pt x="73" y="34"/>
                    </a:lnTo>
                    <a:lnTo>
                      <a:pt x="77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529360" y="2059920"/>
                <a:ext cx="65880" cy="2916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3" y="0"/>
                    </a:moveTo>
                    <a:lnTo>
                      <a:pt x="0" y="19"/>
                    </a:lnTo>
                    <a:lnTo>
                      <a:pt x="75" y="34"/>
                    </a:lnTo>
                    <a:lnTo>
                      <a:pt x="78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640600" y="2084040"/>
                <a:ext cx="65520" cy="2916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3" y="0"/>
                    </a:moveTo>
                    <a:lnTo>
                      <a:pt x="0" y="18"/>
                    </a:lnTo>
                    <a:lnTo>
                      <a:pt x="74" y="34"/>
                    </a:lnTo>
                    <a:lnTo>
                      <a:pt x="77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751480" y="2106360"/>
                <a:ext cx="66240" cy="2916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3" y="0"/>
                    </a:moveTo>
                    <a:lnTo>
                      <a:pt x="0" y="18"/>
                    </a:lnTo>
                    <a:lnTo>
                      <a:pt x="74" y="34"/>
                    </a:lnTo>
                    <a:lnTo>
                      <a:pt x="78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862000" y="2129760"/>
                <a:ext cx="66240" cy="2916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3" y="0"/>
                    </a:moveTo>
                    <a:lnTo>
                      <a:pt x="0" y="19"/>
                    </a:lnTo>
                    <a:lnTo>
                      <a:pt x="75" y="34"/>
                    </a:lnTo>
                    <a:lnTo>
                      <a:pt x="78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1" name=""/>
            <p:cNvGrpSpPr/>
            <p:nvPr/>
          </p:nvGrpSpPr>
          <p:grpSpPr>
            <a:xfrm>
              <a:off x="679320" y="1944720"/>
              <a:ext cx="625320" cy="420120"/>
              <a:chOff x="679320" y="1944720"/>
              <a:chExt cx="625320" cy="420120"/>
            </a:xfrm>
          </p:grpSpPr>
          <p:sp>
            <p:nvSpPr>
              <p:cNvPr id="2132" name=""/>
              <p:cNvSpPr/>
              <p:nvPr/>
            </p:nvSpPr>
            <p:spPr>
              <a:xfrm>
                <a:off x="679320" y="2314440"/>
                <a:ext cx="61920" cy="50400"/>
              </a:xfrm>
              <a:custGeom>
                <a:avLst/>
                <a:gdLst/>
                <a:ahLst/>
                <a:rect l="l" t="t" r="r" b="b"/>
                <a:pathLst>
                  <a:path w="73" h="59">
                    <a:moveTo>
                      <a:pt x="0" y="43"/>
                    </a:moveTo>
                    <a:lnTo>
                      <a:pt x="10" y="59"/>
                    </a:lnTo>
                    <a:lnTo>
                      <a:pt x="73" y="17"/>
                    </a:lnTo>
                    <a:lnTo>
                      <a:pt x="63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74720" y="2251800"/>
                <a:ext cx="62640" cy="49320"/>
              </a:xfrm>
              <a:custGeom>
                <a:avLst/>
                <a:gdLst/>
                <a:ahLst/>
                <a:rect l="l" t="t" r="r" b="b"/>
                <a:pathLst>
                  <a:path w="74" h="58">
                    <a:moveTo>
                      <a:pt x="0" y="41"/>
                    </a:moveTo>
                    <a:lnTo>
                      <a:pt x="9" y="58"/>
                    </a:lnTo>
                    <a:lnTo>
                      <a:pt x="74" y="16"/>
                    </a:lnTo>
                    <a:lnTo>
                      <a:pt x="64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870840" y="2188080"/>
                <a:ext cx="61920" cy="49680"/>
              </a:xfrm>
              <a:custGeom>
                <a:avLst/>
                <a:gdLst/>
                <a:ahLst/>
                <a:rect l="l" t="t" r="r" b="b"/>
                <a:pathLst>
                  <a:path w="73" h="58">
                    <a:moveTo>
                      <a:pt x="0" y="42"/>
                    </a:moveTo>
                    <a:lnTo>
                      <a:pt x="9" y="58"/>
                    </a:lnTo>
                    <a:lnTo>
                      <a:pt x="73" y="17"/>
                    </a:lnTo>
                    <a:lnTo>
                      <a:pt x="6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965520" y="2125440"/>
                <a:ext cx="62640" cy="49680"/>
              </a:xfrm>
              <a:custGeom>
                <a:avLst/>
                <a:gdLst/>
                <a:ahLst/>
                <a:rect l="l" t="t" r="r" b="b"/>
                <a:pathLst>
                  <a:path w="74" h="58">
                    <a:moveTo>
                      <a:pt x="0" y="41"/>
                    </a:moveTo>
                    <a:lnTo>
                      <a:pt x="10" y="58"/>
                    </a:lnTo>
                    <a:lnTo>
                      <a:pt x="74" y="16"/>
                    </a:lnTo>
                    <a:lnTo>
                      <a:pt x="65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1061640" y="2062080"/>
                <a:ext cx="62640" cy="49680"/>
              </a:xfrm>
              <a:custGeom>
                <a:avLst/>
                <a:gdLst/>
                <a:ahLst/>
                <a:rect l="l" t="t" r="r" b="b"/>
                <a:pathLst>
                  <a:path w="74" h="58">
                    <a:moveTo>
                      <a:pt x="0" y="42"/>
                    </a:moveTo>
                    <a:lnTo>
                      <a:pt x="10" y="58"/>
                    </a:lnTo>
                    <a:lnTo>
                      <a:pt x="74" y="17"/>
                    </a:lnTo>
                    <a:lnTo>
                      <a:pt x="6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1158120" y="1999440"/>
                <a:ext cx="63000" cy="49680"/>
              </a:xfrm>
              <a:custGeom>
                <a:avLst/>
                <a:gdLst/>
                <a:ahLst/>
                <a:rect l="l" t="t" r="r" b="b"/>
                <a:pathLst>
                  <a:path w="74" h="58">
                    <a:moveTo>
                      <a:pt x="0" y="42"/>
                    </a:moveTo>
                    <a:lnTo>
                      <a:pt x="9" y="58"/>
                    </a:lnTo>
                    <a:lnTo>
                      <a:pt x="74" y="16"/>
                    </a:lnTo>
                    <a:lnTo>
                      <a:pt x="6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1253520" y="1944720"/>
                <a:ext cx="51120" cy="4176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0" y="32"/>
                    </a:moveTo>
                    <a:lnTo>
                      <a:pt x="9" y="49"/>
                    </a:lnTo>
                    <a:lnTo>
                      <a:pt x="60" y="17"/>
                    </a:lnTo>
                    <a:lnTo>
                      <a:pt x="5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9" name=""/>
            <p:cNvSpPr/>
            <p:nvPr/>
          </p:nvSpPr>
          <p:spPr>
            <a:xfrm>
              <a:off x="539640" y="1138320"/>
              <a:ext cx="15840" cy="1152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114280" y="1407960"/>
              <a:ext cx="15840" cy="1152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143160" y="866880"/>
              <a:ext cx="15840" cy="1152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2" name=""/>
            <p:cNvGrpSpPr/>
            <p:nvPr/>
          </p:nvGrpSpPr>
          <p:grpSpPr>
            <a:xfrm>
              <a:off x="1498320" y="527040"/>
              <a:ext cx="15840" cy="1083960"/>
              <a:chOff x="1498320" y="527040"/>
              <a:chExt cx="15840" cy="1083960"/>
            </a:xfrm>
          </p:grpSpPr>
          <p:sp>
            <p:nvSpPr>
              <p:cNvPr id="2143" name=""/>
              <p:cNvSpPr/>
              <p:nvPr/>
            </p:nvSpPr>
            <p:spPr>
              <a:xfrm>
                <a:off x="1498320" y="527040"/>
                <a:ext cx="15840" cy="6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1498320" y="645120"/>
                <a:ext cx="15840" cy="6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1498320" y="764640"/>
                <a:ext cx="15840" cy="67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1498320" y="883080"/>
                <a:ext cx="15840" cy="6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1498320" y="1001880"/>
                <a:ext cx="15840" cy="6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1498320" y="1120320"/>
                <a:ext cx="15840" cy="67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1498320" y="1238760"/>
                <a:ext cx="15840" cy="6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1498320" y="1357200"/>
                <a:ext cx="15840" cy="6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1498320" y="1475640"/>
                <a:ext cx="15840" cy="6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1498320" y="1595160"/>
                <a:ext cx="15840" cy="15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3" name=""/>
          <p:cNvSpPr/>
          <p:nvPr/>
        </p:nvSpPr>
        <p:spPr>
          <a:xfrm>
            <a:off x="3762360" y="1314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2637000" y="437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 flipH="1" rot="19377000">
            <a:off x="2905560" y="2798280"/>
            <a:ext cx="1935360" cy="540000"/>
          </a:xfrm>
          <a:prstGeom prst="rightArrow">
            <a:avLst>
              <a:gd name="adj1" fmla="val 50000"/>
              <a:gd name="adj2" fmla="val 896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212400" y="631044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*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4978800" y="612936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Break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795200" y="271152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Minimum T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50920" y="280044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TSC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18D-8B17-4EA2-96B7-FC149289FB3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mum-Size State of T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392720" cy="4525920"/>
          </a:xfrm>
          <a:prstGeom prst="rect">
            <a:avLst/>
          </a:prstGeom>
          <a:solidFill>
            <a:srgbClr val="fcffb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(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  <a:ea typeface="Arial"/>
              </a:rPr>
              <a:t>2.8 f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  <a:ea typeface="Arial"/>
              </a:rPr>
              <a:t>classical e</a:t>
            </a:r>
            <a:r>
              <a:rPr b="0" lang="ja-JP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-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  <a:ea typeface="Arial"/>
              </a:rPr>
              <a:t> rad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p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d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2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5.6 f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e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= 1.44/5.6 = 0.257M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nucleu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1.2A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2" name=""/>
          <p:cNvGrpSpPr/>
          <p:nvPr/>
        </p:nvGrpSpPr>
        <p:grpSpPr>
          <a:xfrm>
            <a:off x="684360" y="1773360"/>
            <a:ext cx="3382920" cy="4464000"/>
            <a:chOff x="684360" y="1773360"/>
            <a:chExt cx="3382920" cy="4464000"/>
          </a:xfrm>
        </p:grpSpPr>
        <p:sp>
          <p:nvSpPr>
            <p:cNvPr id="2163" name=""/>
            <p:cNvSpPr/>
            <p:nvPr/>
          </p:nvSpPr>
          <p:spPr>
            <a:xfrm>
              <a:off x="900000" y="3176640"/>
              <a:ext cx="1152720" cy="11523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185920" y="3203640"/>
              <a:ext cx="1152720" cy="1154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203480" y="3473280"/>
              <a:ext cx="577800" cy="5763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457360" y="3483000"/>
              <a:ext cx="574920" cy="5763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835280" y="2852640"/>
              <a:ext cx="576000" cy="5763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835280" y="4076640"/>
              <a:ext cx="576000" cy="5763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971640" y="5589720"/>
              <a:ext cx="22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971640" y="5661000"/>
              <a:ext cx="23050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x2.8 f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987640" y="2565360"/>
              <a:ext cx="1079640" cy="393840"/>
            </a:xfrm>
            <a:prstGeom prst="wedgeRectCallout">
              <a:avLst>
                <a:gd name="adj1" fmla="val -63675"/>
                <a:gd name="adj2" fmla="val 2137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 or 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84360" y="1773360"/>
              <a:ext cx="1058760" cy="393480"/>
            </a:xfrm>
            <a:prstGeom prst="wedgeRectCallout">
              <a:avLst>
                <a:gd name="adj1" fmla="val 52550"/>
                <a:gd name="adj2" fmla="val 19153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3" name=""/>
          <p:cNvSpPr/>
          <p:nvPr/>
        </p:nvSpPr>
        <p:spPr>
          <a:xfrm>
            <a:off x="1547640" y="2565360"/>
            <a:ext cx="1152720" cy="1152720"/>
          </a:xfrm>
          <a:prstGeom prst="ellipse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1547640" y="3789360"/>
            <a:ext cx="1152720" cy="1152360"/>
          </a:xfrm>
          <a:prstGeom prst="ellipse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2340000" y="2781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BB4D-92AF-4FF8-B109-6B374B4A3D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D Fusion-Rat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Minimum-State TS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= exp(-0.218n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/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/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d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-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0.257 MeV, 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d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5.6 f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2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5 f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2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0.91, 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4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0.83, 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2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0.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4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0.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ff3300"/>
                </a:solidFill>
                <a:latin typeface="Arial"/>
                <a:ea typeface="Arial"/>
              </a:rPr>
              <a:t>λ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  <a:ea typeface="Arial"/>
              </a:rPr>
              <a:t>4d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  <a:ea typeface="Arial"/>
              </a:rPr>
              <a:t> = (3E-4)P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  <a:ea typeface="Arial"/>
              </a:rPr>
              <a:t>4d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  <a:ea typeface="Arial"/>
              </a:rPr>
              <a:t> = 2.3E-4 (f/s/clu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ja-JP" sz="2800" spc="-1" strike="noStrike">
                <a:solidFill>
                  <a:srgbClr val="ff3300"/>
                </a:solidFill>
                <a:latin typeface="Arial"/>
                <a:ea typeface="Arial"/>
              </a:rPr>
              <a:t>46 MW/cc, for N</a:t>
            </a:r>
            <a:r>
              <a:rPr b="1" lang="ja-JP" sz="2000" spc="-1" strike="noStrike">
                <a:solidFill>
                  <a:srgbClr val="ff3300"/>
                </a:solidFill>
                <a:latin typeface="Arial"/>
                <a:ea typeface="Arial"/>
              </a:rPr>
              <a:t>tsc</a:t>
            </a:r>
            <a:r>
              <a:rPr b="1" lang="ja-JP" sz="2800" spc="-1" strike="noStrike">
                <a:solidFill>
                  <a:srgbClr val="ff3300"/>
                </a:solidFill>
                <a:latin typeface="Arial"/>
                <a:ea typeface="Arial"/>
              </a:rPr>
              <a:t> = 2E22 cm</a:t>
            </a:r>
            <a:r>
              <a:rPr b="1" lang="ja-JP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00"/>
                </a:solidFill>
                <a:latin typeface="Arial"/>
                <a:ea typeface="Arial"/>
              </a:rPr>
              <a:t>                          </a:t>
            </a:r>
            <a:r>
              <a:rPr b="1" lang="ja-JP" sz="2800" spc="-1" strike="noStrike">
                <a:solidFill>
                  <a:srgbClr val="ff3300"/>
                </a:solidFill>
                <a:latin typeface="Arial"/>
                <a:ea typeface="Arial"/>
              </a:rPr>
              <a:t>: 23keV /Pd-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9900cc"/>
                </a:solidFill>
                <a:latin typeface="Arial"/>
                <a:ea typeface="Arial"/>
              </a:rPr>
              <a:t>El-Boher Exp.: 24.8 keV/Pd-atom (ICCF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06E-3083-47F4-BA6F-60CB9A4ED0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8" name=""/>
          <p:cNvGrpSpPr/>
          <p:nvPr/>
        </p:nvGrpSpPr>
        <p:grpSpPr>
          <a:xfrm>
            <a:off x="468360" y="189000"/>
            <a:ext cx="8496360" cy="6335640"/>
            <a:chOff x="468360" y="189000"/>
            <a:chExt cx="8496360" cy="6335640"/>
          </a:xfrm>
        </p:grpSpPr>
        <p:grpSp>
          <p:nvGrpSpPr>
            <p:cNvPr id="2179" name=""/>
            <p:cNvGrpSpPr/>
            <p:nvPr/>
          </p:nvGrpSpPr>
          <p:grpSpPr>
            <a:xfrm>
              <a:off x="468360" y="609480"/>
              <a:ext cx="8496360" cy="5915160"/>
              <a:chOff x="468360" y="609480"/>
              <a:chExt cx="8496360" cy="5915160"/>
            </a:xfrm>
          </p:grpSpPr>
          <p:sp>
            <p:nvSpPr>
              <p:cNvPr id="2180" name=""/>
              <p:cNvSpPr/>
              <p:nvPr/>
            </p:nvSpPr>
            <p:spPr>
              <a:xfrm>
                <a:off x="468360" y="609480"/>
                <a:ext cx="835164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3800" spc="-1" strike="noStrike">
                    <a:solidFill>
                      <a:srgbClr val="1910c6"/>
                    </a:solidFill>
                    <a:latin typeface="Tahoma"/>
                  </a:rPr>
                  <a:t>V</a:t>
                </a:r>
                <a:r>
                  <a:rPr b="0" lang="ja-JP" sz="2400" spc="-1" strike="noStrike">
                    <a:solidFill>
                      <a:srgbClr val="1910c6"/>
                    </a:solidFill>
                    <a:latin typeface="Tahoma"/>
                  </a:rPr>
                  <a:t>s</a:t>
                </a:r>
                <a:r>
                  <a:rPr b="0" lang="ja-JP" sz="3800" spc="-1" strike="noStrike">
                    <a:solidFill>
                      <a:srgbClr val="1910c6"/>
                    </a:solidFill>
                    <a:latin typeface="Tahoma"/>
                  </a:rPr>
                  <a:t> Potential for </a:t>
                </a:r>
                <a:r>
                  <a:rPr b="0" lang="ja-JP" sz="3800" spc="-1" strike="noStrike">
                    <a:solidFill>
                      <a:srgbClr val="ff0303"/>
                    </a:solidFill>
                    <a:latin typeface="Tahoma"/>
                  </a:rPr>
                  <a:t>e*(4,4)</a:t>
                </a:r>
                <a:r>
                  <a:rPr b="0" lang="el-GR" sz="3800" spc="-1" strike="noStrike">
                    <a:solidFill>
                      <a:srgbClr val="ff0303"/>
                    </a:solidFill>
                    <a:latin typeface="Tahoma"/>
                  </a:rPr>
                  <a:t>αα</a:t>
                </a:r>
                <a:r>
                  <a:rPr b="0" lang="ja-JP" sz="3800" spc="-1" strike="noStrike">
                    <a:solidFill>
                      <a:srgbClr val="1910c6"/>
                    </a:solidFill>
                    <a:latin typeface="Tahoma"/>
                  </a:rPr>
                  <a:t> molecule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914400" y="1557360"/>
                <a:ext cx="7905600" cy="208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marL="335880" indent="-335880">
                  <a:lnSpc>
                    <a:spcPct val="100000"/>
                  </a:lnSpc>
                  <a:spcBef>
                    <a:spcPts val="700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Tahoma"/>
                  </a:rPr>
                  <a:t>V</a:t>
                </a:r>
                <a:r>
                  <a:rPr b="0" lang="ja-JP" sz="1600" spc="-1" strike="noStrike">
                    <a:solidFill>
                      <a:srgbClr val="000000"/>
                    </a:solidFill>
                    <a:latin typeface="Tahoma"/>
                  </a:rPr>
                  <a:t>min</a:t>
                </a:r>
                <a:r>
                  <a:rPr b="0" lang="ja-JP" sz="2800" spc="-1" strike="noStrike">
                    <a:solidFill>
                      <a:srgbClr val="000000"/>
                    </a:solidFill>
                    <a:latin typeface="Tahoma"/>
                  </a:rPr>
                  <a:t> = -9.83 keV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35880" indent="-335880">
                  <a:lnSpc>
                    <a:spcPct val="100000"/>
                  </a:lnSpc>
                  <a:spcBef>
                    <a:spcPts val="700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r>
                  <a:rPr b="0" lang="ja-JP" sz="1800" spc="-1" strike="noStrike">
                    <a:solidFill>
                      <a:srgbClr val="000000"/>
                    </a:solidFill>
                    <a:latin typeface="Tahoma"/>
                  </a:rPr>
                  <a:t>dd</a:t>
                </a:r>
                <a:r>
                  <a:rPr b="0" lang="ja-JP" sz="2800" spc="-1" strike="noStrike">
                    <a:solidFill>
                      <a:srgbClr val="000000"/>
                    </a:solidFill>
                    <a:latin typeface="Tahoma"/>
                  </a:rPr>
                  <a:t>(GS) = 13 p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35880" indent="-335880">
                  <a:lnSpc>
                    <a:spcPct val="100000"/>
                  </a:lnSpc>
                  <a:spcBef>
                    <a:spcPts val="700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ja-JP" sz="2800" spc="-1" strike="noStrike">
                    <a:solidFill>
                      <a:srgbClr val="000000"/>
                    </a:solidFill>
                    <a:latin typeface="Tahoma"/>
                  </a:rPr>
                  <a:t>b-parameter = </a:t>
                </a:r>
                <a:r>
                  <a:rPr b="0" lang="ja-JP" sz="2800" spc="-1" strike="noStrike">
                    <a:solidFill>
                      <a:srgbClr val="ff0303"/>
                    </a:solidFill>
                    <a:latin typeface="Tahoma"/>
                  </a:rPr>
                  <a:t>0.6 pm</a:t>
                </a:r>
                <a:r>
                  <a:rPr b="0" lang="ja-JP" sz="2800" spc="-1" strike="noStrike">
                    <a:solidFill>
                      <a:srgbClr val="000000"/>
                    </a:solidFill>
                    <a:latin typeface="Tahoma"/>
                  </a:rPr>
                  <a:t> (radius, </a:t>
                </a:r>
                <a:r>
                  <a:rPr b="0" lang="ja-JP" sz="2800" spc="-1" strike="noStrike">
                    <a:solidFill>
                      <a:srgbClr val="ff0303"/>
                    </a:solidFill>
                    <a:latin typeface="Tahoma"/>
                  </a:rPr>
                  <a:t>TSC</a:t>
                </a:r>
                <a:r>
                  <a:rPr b="0" lang="ja-JP" sz="2800" spc="-1" strike="noStrike">
                    <a:solidFill>
                      <a:srgbClr val="000000"/>
                    </a:solidFill>
                    <a:latin typeface="Tahoma"/>
                  </a:rPr>
                  <a:t> transient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35880" indent="-335880">
                  <a:lnSpc>
                    <a:spcPct val="100000"/>
                  </a:lnSpc>
                  <a:spcBef>
                    <a:spcPts val="700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9999"/>
                    </a:solidFill>
                    <a:latin typeface="Tahoma"/>
                  </a:rPr>
                  <a:t>Radius of e*(4,4)Be = 53/4/4/4 = 0.8 p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684360" y="3860640"/>
                <a:ext cx="8208720" cy="2664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1910c6"/>
                    </a:solidFill>
                    <a:latin typeface="Tahoma"/>
                  </a:rPr>
                  <a:t>V</a:t>
                </a:r>
                <a:r>
                  <a:rPr b="0" lang="ja-JP" sz="1800" spc="-1" strike="noStrike">
                    <a:solidFill>
                      <a:srgbClr val="1910c6"/>
                    </a:solidFill>
                    <a:latin typeface="Tahoma"/>
                  </a:rPr>
                  <a:t>s</a:t>
                </a:r>
                <a:r>
                  <a:rPr b="0" lang="ja-JP" sz="2800" spc="-1" strike="noStrike">
                    <a:solidFill>
                      <a:srgbClr val="1910c6"/>
                    </a:solidFill>
                    <a:latin typeface="Tahoma"/>
                  </a:rPr>
                  <a:t> Potential for </a:t>
                </a:r>
                <a:r>
                  <a:rPr b="0" lang="ja-JP" sz="2800" spc="-1" strike="noStrike">
                    <a:solidFill>
                      <a:srgbClr val="ff0303"/>
                    </a:solidFill>
                    <a:latin typeface="Tahoma"/>
                  </a:rPr>
                  <a:t>e*(8,8)</a:t>
                </a:r>
                <a:r>
                  <a:rPr b="0" lang="ja-JP" sz="2800" spc="-1" strike="noStrike" baseline="30000">
                    <a:solidFill>
                      <a:srgbClr val="ff0303"/>
                    </a:solidFill>
                    <a:latin typeface="Tahoma"/>
                  </a:rPr>
                  <a:t>8</a:t>
                </a:r>
                <a:r>
                  <a:rPr b="0" lang="ja-JP" sz="2800" spc="-1" strike="noStrike">
                    <a:solidFill>
                      <a:srgbClr val="ff0303"/>
                    </a:solidFill>
                    <a:latin typeface="Tahoma"/>
                  </a:rPr>
                  <a:t>Be</a:t>
                </a:r>
                <a:r>
                  <a:rPr b="0" lang="ja-JP" sz="2800" spc="-1" strike="noStrike" baseline="30000">
                    <a:solidFill>
                      <a:srgbClr val="ff0303"/>
                    </a:solidFill>
                    <a:latin typeface="Tahoma"/>
                  </a:rPr>
                  <a:t>8</a:t>
                </a:r>
                <a:r>
                  <a:rPr b="0" lang="ja-JP" sz="2800" spc="-1" strike="noStrike">
                    <a:solidFill>
                      <a:srgbClr val="ff0303"/>
                    </a:solidFill>
                    <a:latin typeface="Tahoma"/>
                  </a:rPr>
                  <a:t>Be</a:t>
                </a:r>
                <a:r>
                  <a:rPr b="0" lang="ja-JP" sz="2800" spc="-1" strike="noStrike">
                    <a:solidFill>
                      <a:srgbClr val="1910c6"/>
                    </a:solidFill>
                    <a:latin typeface="Tahoma"/>
                  </a:rPr>
                  <a:t> molecu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1910c6"/>
                    </a:solidFill>
                    <a:latin typeface="Tahoma"/>
                  </a:rPr>
                  <a:t>V</a:t>
                </a:r>
                <a:r>
                  <a:rPr b="0" lang="ja-JP" sz="1400" spc="-1" strike="noStrike">
                    <a:solidFill>
                      <a:srgbClr val="1910c6"/>
                    </a:solidFill>
                    <a:latin typeface="Tahoma"/>
                  </a:rPr>
                  <a:t>min</a:t>
                </a:r>
                <a:r>
                  <a:rPr b="0" lang="ja-JP" sz="2000" spc="-1" strike="noStrike">
                    <a:solidFill>
                      <a:srgbClr val="1910c6"/>
                    </a:solidFill>
                    <a:latin typeface="Tahoma"/>
                  </a:rPr>
                  <a:t> = -32.9 ke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1910c6"/>
                    </a:solidFill>
                    <a:latin typeface="Tahoma"/>
                  </a:rPr>
                  <a:t>R</a:t>
                </a:r>
                <a:r>
                  <a:rPr b="0" lang="ja-JP" sz="1400" spc="-1" strike="noStrike">
                    <a:solidFill>
                      <a:srgbClr val="1910c6"/>
                    </a:solidFill>
                    <a:latin typeface="Tahoma"/>
                  </a:rPr>
                  <a:t>dd</a:t>
                </a:r>
                <a:r>
                  <a:rPr b="0" lang="ja-JP" sz="2000" spc="-1" strike="noStrike">
                    <a:solidFill>
                      <a:srgbClr val="1910c6"/>
                    </a:solidFill>
                    <a:latin typeface="Tahoma"/>
                  </a:rPr>
                  <a:t>(GS) = 5 p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1910c6"/>
                    </a:solidFill>
                    <a:latin typeface="Tahoma"/>
                  </a:rPr>
                  <a:t> </a:t>
                </a:r>
                <a:r>
                  <a:rPr b="0" lang="ja-JP" sz="2000" spc="-1" strike="noStrike">
                    <a:solidFill>
                      <a:srgbClr val="1910c6"/>
                    </a:solidFill>
                    <a:latin typeface="Tahoma"/>
                  </a:rPr>
                  <a:t>b-parameter = </a:t>
                </a:r>
                <a:r>
                  <a:rPr b="0" lang="ja-JP" sz="2000" spc="-1" strike="noStrike">
                    <a:solidFill>
                      <a:srgbClr val="ff0303"/>
                    </a:solidFill>
                    <a:latin typeface="Tahoma"/>
                  </a:rPr>
                  <a:t>60 fm</a:t>
                </a:r>
                <a:r>
                  <a:rPr b="0" lang="ja-JP" sz="2000" spc="-1" strike="noStrike">
                    <a:solidFill>
                      <a:srgbClr val="1910c6"/>
                    </a:solidFill>
                    <a:latin typeface="Tahoma"/>
                  </a:rPr>
                  <a:t> (radius, </a:t>
                </a:r>
                <a:r>
                  <a:rPr b="0" lang="ja-JP" sz="2000" spc="-1" strike="noStrike">
                    <a:solidFill>
                      <a:srgbClr val="ff0303"/>
                    </a:solidFill>
                    <a:latin typeface="Tahoma"/>
                  </a:rPr>
                  <a:t>OSC</a:t>
                </a:r>
                <a:r>
                  <a:rPr b="0" lang="ja-JP" sz="2000" spc="-1" strike="noStrike">
                    <a:solidFill>
                      <a:srgbClr val="1910c6"/>
                    </a:solidFill>
                    <a:latin typeface="Tahoma"/>
                  </a:rPr>
                  <a:t> transient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539640" y="1268280"/>
                <a:ext cx="8425080" cy="0"/>
              </a:xfrm>
              <a:prstGeom prst="line">
                <a:avLst/>
              </a:prstGeom>
              <a:ln w="57240">
                <a:solidFill>
                  <a:srgbClr val="191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476360" y="4724280"/>
                <a:ext cx="6985080" cy="0"/>
              </a:xfrm>
              <a:prstGeom prst="line">
                <a:avLst/>
              </a:prstGeom>
              <a:ln w="38160">
                <a:solidFill>
                  <a:srgbClr val="191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5" name=""/>
            <p:cNvSpPr/>
            <p:nvPr/>
          </p:nvSpPr>
          <p:spPr>
            <a:xfrm>
              <a:off x="755640" y="189000"/>
              <a:ext cx="784872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ze of TSC is very SMALL (&lt;1 pm), cf. &gt; 100 pm of metal at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A282-E9B9-4E43-B8CB-89C58857127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SC Size by Dynamic Condensation in </a:t>
            </a:r>
            <a:r>
              <a:rPr b="0" lang="ja-JP" sz="2400" spc="-1" strike="noStrike">
                <a:solidFill>
                  <a:srgbClr val="9900cc"/>
                </a:solidFill>
                <a:latin typeface="Arial"/>
              </a:rPr>
              <a:t>about 60 f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motion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3600" spc="-1" strike="noStrike">
                <a:solidFill>
                  <a:srgbClr val="9900cc"/>
                </a:solidFill>
                <a:latin typeface="Arial"/>
              </a:rPr>
              <a:t>Semi-Classical Treatment Possibl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1015920" y="1447920"/>
            <a:ext cx="7085160" cy="4321080"/>
            <a:chOff x="1015920" y="1447920"/>
            <a:chExt cx="7085160" cy="4321080"/>
          </a:xfrm>
        </p:grpSpPr>
        <p:graphicFrame>
          <p:nvGraphicFramePr>
            <p:cNvPr id="2188" name=""/>
            <p:cNvGraphicFramePr/>
            <p:nvPr/>
          </p:nvGraphicFramePr>
          <p:xfrm>
            <a:off x="1015920" y="1447920"/>
            <a:ext cx="7085160" cy="4321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1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15920" y="1447920"/>
                      <a:ext cx="7085160" cy="432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0" name=""/>
            <p:cNvSpPr/>
            <p:nvPr/>
          </p:nvSpPr>
          <p:spPr>
            <a:xfrm>
              <a:off x="2138400" y="2609280"/>
              <a:ext cx="1263240" cy="561600"/>
            </a:xfrm>
            <a:prstGeom prst="wedgeRectCallout">
              <a:avLst>
                <a:gd name="adj1" fmla="val -20134"/>
                <a:gd name="adj2" fmla="val 83856"/>
              </a:avLst>
            </a:prstGeom>
            <a:solidFill>
              <a:srgbClr val="fc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*(4,4)Be-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form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138400" y="227844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998000" y="1747800"/>
              <a:ext cx="890640" cy="463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3" name=""/>
          <p:cNvSpPr/>
          <p:nvPr/>
        </p:nvSpPr>
        <p:spPr>
          <a:xfrm>
            <a:off x="1557360" y="5815080"/>
            <a:ext cx="60753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lt;r(t)&gt; = &lt;r(0)&gt; - &lt;v&gt;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lt;r(0)&gt; = (3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2)RB = 45.8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B4E-5BFD-48B2-BA34-9B4FD281575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4" name=""/>
          <p:cNvGrpSpPr/>
          <p:nvPr/>
        </p:nvGrpSpPr>
        <p:grpSpPr>
          <a:xfrm>
            <a:off x="1042920" y="549360"/>
            <a:ext cx="7777080" cy="6048360"/>
            <a:chOff x="1042920" y="549360"/>
            <a:chExt cx="7777080" cy="6048360"/>
          </a:xfrm>
        </p:grpSpPr>
        <p:sp>
          <p:nvSpPr>
            <p:cNvPr id="2195" name=""/>
            <p:cNvSpPr/>
            <p:nvPr/>
          </p:nvSpPr>
          <p:spPr>
            <a:xfrm>
              <a:off x="1042920" y="1773360"/>
              <a:ext cx="3745080" cy="38876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2916360" y="3645000"/>
              <a:ext cx="712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2843280" y="357336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2916360" y="3645000"/>
              <a:ext cx="712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227640" y="3573360"/>
              <a:ext cx="216000" cy="217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059280" y="3573360"/>
              <a:ext cx="215640" cy="217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 flipH="1">
              <a:off x="3348000" y="3716280"/>
              <a:ext cx="2736720" cy="0"/>
            </a:xfrm>
            <a:prstGeom prst="line">
              <a:avLst/>
            </a:prstGeom>
            <a:ln w="38160">
              <a:solidFill>
                <a:srgbClr val="1910c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042920" y="549360"/>
              <a:ext cx="38163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arget Atom Outer Electr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oud (ca. 100 p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H="1" flipV="1">
              <a:off x="3492000" y="1557000"/>
              <a:ext cx="287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867280" y="4076640"/>
              <a:ext cx="144144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SC, &lt; 1 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Tahoma"/>
                </a:rPr>
                <a:t>(4P+4e): neut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372360" y="3860640"/>
              <a:ext cx="71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3059280" y="1989000"/>
              <a:ext cx="194436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148360" y="1341360"/>
              <a:ext cx="1728720" cy="7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K-Shell e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nd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547640" y="5943600"/>
              <a:ext cx="7201080" cy="654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w deep can TSC penetrate through e-clou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877080" y="2349360"/>
              <a:ext cx="1942920" cy="897120"/>
            </a:xfrm>
            <a:prstGeom prst="wedgeRoundRectCallout">
              <a:avLst>
                <a:gd name="adj1" fmla="val -68953"/>
                <a:gd name="adj2" fmla="val 8964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Neu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Pseudo-Parti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0BB-707F-4EBD-BF2C-59C0BA3CBEC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solidFill>
            <a:srgbClr val="fcffb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 + TSC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clear Interaction Mecha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cffb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pological condition for Pion-Exchange (PE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ection of pick-up number of protons (+ neutrons for 4d/TSC) from 4p/T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 + (1-4)p(or d) captur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250920" y="1413000"/>
            <a:ext cx="864216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3" name=""/>
          <p:cNvGrpSpPr/>
          <p:nvPr/>
        </p:nvGrpSpPr>
        <p:grpSpPr>
          <a:xfrm>
            <a:off x="178920" y="2637000"/>
            <a:ext cx="4197240" cy="3325680"/>
            <a:chOff x="178920" y="2637000"/>
            <a:chExt cx="4197240" cy="3325680"/>
          </a:xfrm>
        </p:grpSpPr>
        <p:grpSp>
          <p:nvGrpSpPr>
            <p:cNvPr id="2214" name=""/>
            <p:cNvGrpSpPr/>
            <p:nvPr/>
          </p:nvGrpSpPr>
          <p:grpSpPr>
            <a:xfrm>
              <a:off x="178920" y="2637000"/>
              <a:ext cx="4197240" cy="3325680"/>
              <a:chOff x="178920" y="2637000"/>
              <a:chExt cx="4197240" cy="3325680"/>
            </a:xfrm>
          </p:grpSpPr>
          <p:grpSp>
            <p:nvGrpSpPr>
              <p:cNvPr id="2215" name=""/>
              <p:cNvGrpSpPr/>
              <p:nvPr/>
            </p:nvGrpSpPr>
            <p:grpSpPr>
              <a:xfrm>
                <a:off x="313920" y="2637000"/>
                <a:ext cx="4062240" cy="3325680"/>
                <a:chOff x="313920" y="2637000"/>
                <a:chExt cx="4062240" cy="3325680"/>
              </a:xfrm>
            </p:grpSpPr>
            <p:grpSp>
              <p:nvGrpSpPr>
                <p:cNvPr id="2216" name=""/>
                <p:cNvGrpSpPr/>
                <p:nvPr/>
              </p:nvGrpSpPr>
              <p:grpSpPr>
                <a:xfrm>
                  <a:off x="344520" y="2637000"/>
                  <a:ext cx="4031640" cy="3325680"/>
                  <a:chOff x="344520" y="2637000"/>
                  <a:chExt cx="4031640" cy="3325680"/>
                </a:xfrm>
              </p:grpSpPr>
              <p:grpSp>
                <p:nvGrpSpPr>
                  <p:cNvPr id="2217" name=""/>
                  <p:cNvGrpSpPr/>
                  <p:nvPr/>
                </p:nvGrpSpPr>
                <p:grpSpPr>
                  <a:xfrm>
                    <a:off x="344520" y="2637000"/>
                    <a:ext cx="4031640" cy="2520720"/>
                    <a:chOff x="344520" y="2637000"/>
                    <a:chExt cx="4031640" cy="2520720"/>
                  </a:xfrm>
                </p:grpSpPr>
                <p:sp>
                  <p:nvSpPr>
                    <p:cNvPr id="2218" name=""/>
                    <p:cNvSpPr/>
                    <p:nvPr/>
                  </p:nvSpPr>
                  <p:spPr>
                    <a:xfrm>
                      <a:off x="654480" y="3267360"/>
                      <a:ext cx="608400" cy="618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9" name=""/>
                    <p:cNvSpPr/>
                    <p:nvPr/>
                  </p:nvSpPr>
                  <p:spPr>
                    <a:xfrm>
                      <a:off x="654480" y="3936600"/>
                      <a:ext cx="608400" cy="618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0" name=""/>
                    <p:cNvSpPr/>
                    <p:nvPr/>
                  </p:nvSpPr>
                  <p:spPr>
                    <a:xfrm>
                      <a:off x="809280" y="3424320"/>
                      <a:ext cx="309960" cy="3150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2844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1" name=""/>
                    <p:cNvSpPr/>
                    <p:nvPr/>
                  </p:nvSpPr>
                  <p:spPr>
                    <a:xfrm>
                      <a:off x="809280" y="4093920"/>
                      <a:ext cx="309960" cy="3150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2844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2" name=""/>
                    <p:cNvSpPr/>
                    <p:nvPr/>
                  </p:nvSpPr>
                  <p:spPr>
                    <a:xfrm>
                      <a:off x="1003320" y="3621600"/>
                      <a:ext cx="608040" cy="618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3" name=""/>
                    <p:cNvSpPr/>
                    <p:nvPr/>
                  </p:nvSpPr>
                  <p:spPr>
                    <a:xfrm>
                      <a:off x="344520" y="3621600"/>
                      <a:ext cx="608040" cy="618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4" name=""/>
                    <p:cNvSpPr/>
                    <p:nvPr/>
                  </p:nvSpPr>
                  <p:spPr>
                    <a:xfrm>
                      <a:off x="498960" y="377856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5" name=""/>
                    <p:cNvSpPr/>
                    <p:nvPr/>
                  </p:nvSpPr>
                  <p:spPr>
                    <a:xfrm>
                      <a:off x="1158840" y="377856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6" name=""/>
                    <p:cNvSpPr/>
                    <p:nvPr/>
                  </p:nvSpPr>
                  <p:spPr>
                    <a:xfrm>
                      <a:off x="1933920" y="2637000"/>
                      <a:ext cx="2442240" cy="252072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7" name=""/>
                    <p:cNvSpPr/>
                    <p:nvPr/>
                  </p:nvSpPr>
                  <p:spPr>
                    <a:xfrm>
                      <a:off x="2360160" y="291204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8" name=""/>
                    <p:cNvSpPr/>
                    <p:nvPr/>
                  </p:nvSpPr>
                  <p:spPr>
                    <a:xfrm>
                      <a:off x="2127960" y="314892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9" name=""/>
                    <p:cNvSpPr/>
                    <p:nvPr/>
                  </p:nvSpPr>
                  <p:spPr>
                    <a:xfrm>
                      <a:off x="2010960" y="346356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0" name=""/>
                    <p:cNvSpPr/>
                    <p:nvPr/>
                  </p:nvSpPr>
                  <p:spPr>
                    <a:xfrm>
                      <a:off x="1933920" y="377856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1" name=""/>
                    <p:cNvSpPr/>
                    <p:nvPr/>
                  </p:nvSpPr>
                  <p:spPr>
                    <a:xfrm>
                      <a:off x="2010960" y="413388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2" name=""/>
                    <p:cNvSpPr/>
                    <p:nvPr/>
                  </p:nvSpPr>
                  <p:spPr>
                    <a:xfrm>
                      <a:off x="2166480" y="440928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3" name=""/>
                    <p:cNvSpPr/>
                    <p:nvPr/>
                  </p:nvSpPr>
                  <p:spPr>
                    <a:xfrm>
                      <a:off x="2399040" y="460620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4" name=""/>
                    <p:cNvSpPr/>
                    <p:nvPr/>
                  </p:nvSpPr>
                  <p:spPr>
                    <a:xfrm>
                      <a:off x="2670480" y="480348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5" name=""/>
                    <p:cNvSpPr/>
                    <p:nvPr/>
                  </p:nvSpPr>
                  <p:spPr>
                    <a:xfrm>
                      <a:off x="2592720" y="271584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6" name=""/>
                    <p:cNvSpPr/>
                    <p:nvPr/>
                  </p:nvSpPr>
                  <p:spPr>
                    <a:xfrm>
                      <a:off x="2320920" y="314892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7" name=""/>
                    <p:cNvSpPr/>
                    <p:nvPr/>
                  </p:nvSpPr>
                  <p:spPr>
                    <a:xfrm>
                      <a:off x="2360160" y="350352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8" name=""/>
                    <p:cNvSpPr/>
                    <p:nvPr/>
                  </p:nvSpPr>
                  <p:spPr>
                    <a:xfrm>
                      <a:off x="2941560" y="267588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9" name=""/>
                    <p:cNvSpPr/>
                    <p:nvPr/>
                  </p:nvSpPr>
                  <p:spPr>
                    <a:xfrm>
                      <a:off x="3290040" y="271584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0" name=""/>
                    <p:cNvSpPr/>
                    <p:nvPr/>
                  </p:nvSpPr>
                  <p:spPr>
                    <a:xfrm>
                      <a:off x="3600360" y="28728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1" name=""/>
                    <p:cNvSpPr/>
                    <p:nvPr/>
                  </p:nvSpPr>
                  <p:spPr>
                    <a:xfrm>
                      <a:off x="3832920" y="314892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2" name=""/>
                    <p:cNvSpPr/>
                    <p:nvPr/>
                  </p:nvSpPr>
                  <p:spPr>
                    <a:xfrm>
                      <a:off x="4026960" y="342432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3" name=""/>
                    <p:cNvSpPr/>
                    <p:nvPr/>
                  </p:nvSpPr>
                  <p:spPr>
                    <a:xfrm>
                      <a:off x="4066200" y="377856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4" name=""/>
                    <p:cNvSpPr/>
                    <p:nvPr/>
                  </p:nvSpPr>
                  <p:spPr>
                    <a:xfrm>
                      <a:off x="3988440" y="413388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5" name=""/>
                    <p:cNvSpPr/>
                    <p:nvPr/>
                  </p:nvSpPr>
                  <p:spPr>
                    <a:xfrm>
                      <a:off x="2980080" y="480348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6" name=""/>
                    <p:cNvSpPr/>
                    <p:nvPr/>
                  </p:nvSpPr>
                  <p:spPr>
                    <a:xfrm>
                      <a:off x="3329640" y="476352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7" name=""/>
                    <p:cNvSpPr/>
                    <p:nvPr/>
                  </p:nvSpPr>
                  <p:spPr>
                    <a:xfrm>
                      <a:off x="3600360" y="460620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8" name=""/>
                    <p:cNvSpPr/>
                    <p:nvPr/>
                  </p:nvSpPr>
                  <p:spPr>
                    <a:xfrm>
                      <a:off x="3832920" y="440928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9" name=""/>
                    <p:cNvSpPr/>
                    <p:nvPr/>
                  </p:nvSpPr>
                  <p:spPr>
                    <a:xfrm>
                      <a:off x="2320920" y="389664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0" name=""/>
                    <p:cNvSpPr/>
                    <p:nvPr/>
                  </p:nvSpPr>
                  <p:spPr>
                    <a:xfrm>
                      <a:off x="2437200" y="42120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1" name=""/>
                    <p:cNvSpPr/>
                    <p:nvPr/>
                  </p:nvSpPr>
                  <p:spPr>
                    <a:xfrm>
                      <a:off x="2786760" y="307008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2" name=""/>
                    <p:cNvSpPr/>
                    <p:nvPr/>
                  </p:nvSpPr>
                  <p:spPr>
                    <a:xfrm>
                      <a:off x="3213360" y="30312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767676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3" name=""/>
                    <p:cNvSpPr/>
                    <p:nvPr/>
                  </p:nvSpPr>
                  <p:spPr>
                    <a:xfrm>
                      <a:off x="2747520" y="350352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4" name=""/>
                    <p:cNvSpPr/>
                    <p:nvPr/>
                  </p:nvSpPr>
                  <p:spPr>
                    <a:xfrm>
                      <a:off x="2670480" y="385776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5" name=""/>
                    <p:cNvSpPr/>
                    <p:nvPr/>
                  </p:nvSpPr>
                  <p:spPr>
                    <a:xfrm>
                      <a:off x="3097080" y="334548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6" name=""/>
                    <p:cNvSpPr/>
                    <p:nvPr/>
                  </p:nvSpPr>
                  <p:spPr>
                    <a:xfrm>
                      <a:off x="3561840" y="334548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7" name=""/>
                    <p:cNvSpPr/>
                    <p:nvPr/>
                  </p:nvSpPr>
                  <p:spPr>
                    <a:xfrm>
                      <a:off x="3755880" y="37008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8" name=""/>
                    <p:cNvSpPr/>
                    <p:nvPr/>
                  </p:nvSpPr>
                  <p:spPr>
                    <a:xfrm>
                      <a:off x="2863800" y="425196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9" name=""/>
                    <p:cNvSpPr/>
                    <p:nvPr/>
                  </p:nvSpPr>
                  <p:spPr>
                    <a:xfrm>
                      <a:off x="2670480" y="448812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0" name=""/>
                    <p:cNvSpPr/>
                    <p:nvPr/>
                  </p:nvSpPr>
                  <p:spPr>
                    <a:xfrm>
                      <a:off x="2554200" y="326736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1" name=""/>
                    <p:cNvSpPr/>
                    <p:nvPr/>
                  </p:nvSpPr>
                  <p:spPr>
                    <a:xfrm>
                      <a:off x="2205000" y="37008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2" name=""/>
                    <p:cNvSpPr/>
                    <p:nvPr/>
                  </p:nvSpPr>
                  <p:spPr>
                    <a:xfrm>
                      <a:off x="2554200" y="36216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3" name=""/>
                    <p:cNvSpPr/>
                    <p:nvPr/>
                  </p:nvSpPr>
                  <p:spPr>
                    <a:xfrm>
                      <a:off x="2980080" y="291204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4" name=""/>
                    <p:cNvSpPr/>
                    <p:nvPr/>
                  </p:nvSpPr>
                  <p:spPr>
                    <a:xfrm>
                      <a:off x="2631240" y="29520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5" name=""/>
                    <p:cNvSpPr/>
                    <p:nvPr/>
                  </p:nvSpPr>
                  <p:spPr>
                    <a:xfrm>
                      <a:off x="2903040" y="326736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6" name=""/>
                    <p:cNvSpPr/>
                    <p:nvPr/>
                  </p:nvSpPr>
                  <p:spPr>
                    <a:xfrm>
                      <a:off x="2670480" y="413388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7" name=""/>
                    <p:cNvSpPr/>
                    <p:nvPr/>
                  </p:nvSpPr>
                  <p:spPr>
                    <a:xfrm>
                      <a:off x="2244240" y="413388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8" name=""/>
                    <p:cNvSpPr/>
                    <p:nvPr/>
                  </p:nvSpPr>
                  <p:spPr>
                    <a:xfrm>
                      <a:off x="3445920" y="303120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9" name=""/>
                    <p:cNvSpPr/>
                    <p:nvPr/>
                  </p:nvSpPr>
                  <p:spPr>
                    <a:xfrm>
                      <a:off x="3367800" y="322704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0" name=""/>
                    <p:cNvSpPr/>
                    <p:nvPr/>
                  </p:nvSpPr>
                  <p:spPr>
                    <a:xfrm>
                      <a:off x="3019320" y="36216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1" name=""/>
                    <p:cNvSpPr/>
                    <p:nvPr/>
                  </p:nvSpPr>
                  <p:spPr>
                    <a:xfrm>
                      <a:off x="2941560" y="389664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2" name=""/>
                    <p:cNvSpPr/>
                    <p:nvPr/>
                  </p:nvSpPr>
                  <p:spPr>
                    <a:xfrm>
                      <a:off x="2980080" y="452736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3" name=""/>
                    <p:cNvSpPr/>
                    <p:nvPr/>
                  </p:nvSpPr>
                  <p:spPr>
                    <a:xfrm>
                      <a:off x="3367800" y="35424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4" name=""/>
                    <p:cNvSpPr/>
                    <p:nvPr/>
                  </p:nvSpPr>
                  <p:spPr>
                    <a:xfrm>
                      <a:off x="3755880" y="342432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5" name=""/>
                    <p:cNvSpPr/>
                    <p:nvPr/>
                  </p:nvSpPr>
                  <p:spPr>
                    <a:xfrm>
                      <a:off x="3251880" y="389664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6" name=""/>
                    <p:cNvSpPr/>
                    <p:nvPr/>
                  </p:nvSpPr>
                  <p:spPr>
                    <a:xfrm>
                      <a:off x="3173760" y="42120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7" name=""/>
                    <p:cNvSpPr/>
                    <p:nvPr/>
                  </p:nvSpPr>
                  <p:spPr>
                    <a:xfrm>
                      <a:off x="3251880" y="448812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8" name=""/>
                    <p:cNvSpPr/>
                    <p:nvPr/>
                  </p:nvSpPr>
                  <p:spPr>
                    <a:xfrm>
                      <a:off x="3561840" y="37008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9" name=""/>
                    <p:cNvSpPr/>
                    <p:nvPr/>
                  </p:nvSpPr>
                  <p:spPr>
                    <a:xfrm>
                      <a:off x="3484080" y="39366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0" name=""/>
                    <p:cNvSpPr/>
                    <p:nvPr/>
                  </p:nvSpPr>
                  <p:spPr>
                    <a:xfrm>
                      <a:off x="3251880" y="370080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1" name=""/>
                    <p:cNvSpPr/>
                    <p:nvPr/>
                  </p:nvSpPr>
                  <p:spPr>
                    <a:xfrm>
                      <a:off x="2980080" y="413388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2" name=""/>
                    <p:cNvSpPr/>
                    <p:nvPr/>
                  </p:nvSpPr>
                  <p:spPr>
                    <a:xfrm>
                      <a:off x="3406320" y="42120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3" name=""/>
                    <p:cNvSpPr/>
                    <p:nvPr/>
                  </p:nvSpPr>
                  <p:spPr>
                    <a:xfrm>
                      <a:off x="3484080" y="440928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4" name=""/>
                    <p:cNvSpPr/>
                    <p:nvPr/>
                  </p:nvSpPr>
                  <p:spPr>
                    <a:xfrm>
                      <a:off x="3678120" y="425196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5" name=""/>
                    <p:cNvSpPr/>
                    <p:nvPr/>
                  </p:nvSpPr>
                  <p:spPr>
                    <a:xfrm>
                      <a:off x="3755880" y="39366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6" name=""/>
                    <p:cNvSpPr/>
                    <p:nvPr/>
                  </p:nvSpPr>
                  <p:spPr>
                    <a:xfrm>
                      <a:off x="3949200" y="366048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7" name=""/>
                    <p:cNvSpPr/>
                    <p:nvPr/>
                  </p:nvSpPr>
                  <p:spPr>
                    <a:xfrm>
                      <a:off x="3949200" y="40158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8" name=""/>
                    <p:cNvSpPr/>
                    <p:nvPr/>
                  </p:nvSpPr>
                  <p:spPr>
                    <a:xfrm>
                      <a:off x="2205000" y="338544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9" name=""/>
                    <p:cNvSpPr/>
                    <p:nvPr/>
                  </p:nvSpPr>
                  <p:spPr>
                    <a:xfrm>
                      <a:off x="2476440" y="397584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0" name=""/>
                    <p:cNvSpPr/>
                    <p:nvPr/>
                  </p:nvSpPr>
                  <p:spPr>
                    <a:xfrm>
                      <a:off x="2825280" y="370080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1" name=""/>
                    <p:cNvSpPr/>
                    <p:nvPr/>
                  </p:nvSpPr>
                  <p:spPr>
                    <a:xfrm>
                      <a:off x="2825280" y="40158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2" name=""/>
                    <p:cNvSpPr/>
                    <p:nvPr/>
                  </p:nvSpPr>
                  <p:spPr>
                    <a:xfrm>
                      <a:off x="3097080" y="385776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3" name=""/>
                    <p:cNvSpPr/>
                    <p:nvPr/>
                  </p:nvSpPr>
                  <p:spPr>
                    <a:xfrm>
                      <a:off x="3019320" y="314892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4" name=""/>
                    <p:cNvSpPr/>
                    <p:nvPr/>
                  </p:nvSpPr>
                  <p:spPr>
                    <a:xfrm>
                      <a:off x="2980080" y="350352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5" name=""/>
                    <p:cNvSpPr/>
                    <p:nvPr/>
                  </p:nvSpPr>
                  <p:spPr>
                    <a:xfrm>
                      <a:off x="3290040" y="346356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6" name=""/>
                    <p:cNvSpPr/>
                    <p:nvPr/>
                  </p:nvSpPr>
                  <p:spPr>
                    <a:xfrm>
                      <a:off x="2399040" y="440928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7" name=""/>
                    <p:cNvSpPr/>
                    <p:nvPr/>
                  </p:nvSpPr>
                  <p:spPr>
                    <a:xfrm>
                      <a:off x="2631240" y="42912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8" name=""/>
                    <p:cNvSpPr/>
                    <p:nvPr/>
                  </p:nvSpPr>
                  <p:spPr>
                    <a:xfrm>
                      <a:off x="3173760" y="409392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9" name=""/>
                    <p:cNvSpPr/>
                    <p:nvPr/>
                  </p:nvSpPr>
                  <p:spPr>
                    <a:xfrm>
                      <a:off x="2786760" y="464544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0" name=""/>
                    <p:cNvSpPr/>
                    <p:nvPr/>
                  </p:nvSpPr>
                  <p:spPr>
                    <a:xfrm>
                      <a:off x="2437200" y="377856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1" name=""/>
                    <p:cNvSpPr/>
                    <p:nvPr/>
                  </p:nvSpPr>
                  <p:spPr>
                    <a:xfrm>
                      <a:off x="3561840" y="409392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2" name=""/>
                    <p:cNvSpPr/>
                    <p:nvPr/>
                  </p:nvSpPr>
                  <p:spPr>
                    <a:xfrm>
                      <a:off x="3019320" y="440928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3" name=""/>
                    <p:cNvSpPr/>
                    <p:nvPr/>
                  </p:nvSpPr>
                  <p:spPr>
                    <a:xfrm>
                      <a:off x="2050200" y="397584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4" name=""/>
                    <p:cNvSpPr/>
                    <p:nvPr/>
                  </p:nvSpPr>
                  <p:spPr>
                    <a:xfrm>
                      <a:off x="3639960" y="310932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5" name=""/>
                    <p:cNvSpPr/>
                    <p:nvPr/>
                  </p:nvSpPr>
                  <p:spPr>
                    <a:xfrm>
                      <a:off x="1429560" y="3975840"/>
                      <a:ext cx="698040" cy="158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6" name=""/>
                    <p:cNvSpPr/>
                    <p:nvPr/>
                  </p:nvSpPr>
                  <p:spPr>
                    <a:xfrm flipV="1">
                      <a:off x="1429560" y="3582000"/>
                      <a:ext cx="814320" cy="235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7" name=""/>
                    <p:cNvSpPr/>
                    <p:nvPr/>
                  </p:nvSpPr>
                  <p:spPr>
                    <a:xfrm flipV="1">
                      <a:off x="1119240" y="4291200"/>
                      <a:ext cx="891360" cy="3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8" name=""/>
                    <p:cNvSpPr/>
                    <p:nvPr/>
                  </p:nvSpPr>
                  <p:spPr>
                    <a:xfrm flipV="1">
                      <a:off x="1119240" y="3305880"/>
                      <a:ext cx="1046880" cy="235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9" name=""/>
                    <p:cNvSpPr/>
                    <p:nvPr/>
                  </p:nvSpPr>
                  <p:spPr>
                    <a:xfrm>
                      <a:off x="1274400" y="2911320"/>
                      <a:ext cx="63036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0" name=""/>
                    <p:cNvSpPr/>
                    <p:nvPr/>
                  </p:nvSpPr>
                  <p:spPr>
                    <a:xfrm>
                      <a:off x="1352880" y="2911320"/>
                      <a:ext cx="4356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1" name=""/>
                    <p:cNvSpPr/>
                    <p:nvPr/>
                  </p:nvSpPr>
                  <p:spPr>
                    <a:xfrm flipH="1" flipV="1">
                      <a:off x="1545480" y="3070080"/>
                      <a:ext cx="77400" cy="354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12" name=""/>
                  <p:cNvSpPr/>
                  <p:nvPr/>
                </p:nvSpPr>
                <p:spPr>
                  <a:xfrm>
                    <a:off x="344520" y="5516640"/>
                    <a:ext cx="1800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3" name=""/>
                  <p:cNvSpPr/>
                  <p:nvPr/>
                </p:nvSpPr>
                <p:spPr>
                  <a:xfrm>
                    <a:off x="704880" y="5594400"/>
                    <a:ext cx="10792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5 fm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14" name=""/>
                <p:cNvSpPr/>
                <p:nvPr/>
              </p:nvSpPr>
              <p:spPr>
                <a:xfrm>
                  <a:off x="313920" y="2851200"/>
                  <a:ext cx="835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lectr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 flipH="1" flipV="1">
                  <a:off x="721800" y="3068280"/>
                  <a:ext cx="90360" cy="18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6" name=""/>
              <p:cNvSpPr/>
              <p:nvPr/>
            </p:nvSpPr>
            <p:spPr>
              <a:xfrm>
                <a:off x="178920" y="4471920"/>
                <a:ext cx="68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t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flipH="1">
                <a:off x="406440" y="4014720"/>
                <a:ext cx="180720" cy="58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8" name=""/>
            <p:cNvSpPr/>
            <p:nvPr/>
          </p:nvSpPr>
          <p:spPr>
            <a:xfrm flipH="1">
              <a:off x="539640" y="4292640"/>
              <a:ext cx="2872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822-EE9F-4D7D-A309-DE623FE0B40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solidFill>
            <a:srgbClr val="f9fba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dden Tall Thin Barrier Approx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 (or d) gets into the strong force range, electrons separate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(or d) feel Coulomb repulsion to the M-nucleus charge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0" name=""/>
          <p:cNvGraphicFramePr/>
          <p:nvPr/>
        </p:nvGraphicFramePr>
        <p:xfrm>
          <a:off x="463680" y="1596960"/>
          <a:ext cx="3747960" cy="45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596960"/>
                    <a:ext cx="374796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5076720" cy="4853160"/>
          </a:xfrm>
          <a:prstGeom prst="rect">
            <a:avLst/>
          </a:prstGeom>
          <a:solidFill>
            <a:srgbClr val="f9fba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= 1.2A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 = 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(=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2 f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E) = exp(-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G = 0.436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V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/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/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(b-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/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+ (b -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)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Reaction r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M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(E)v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(E)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/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exp(-0.218n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p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/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p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: Plural p (or d) existence probability in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r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for n &gt; 1. 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= 1, for n = 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826920" y="2060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611280" y="443700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1187280" y="2133720"/>
            <a:ext cx="0" cy="381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1619280" y="2565360"/>
            <a:ext cx="0" cy="18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1187280" y="213372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1619280" y="4221000"/>
            <a:ext cx="1081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2771640" y="4076640"/>
            <a:ext cx="9144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 or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763640" y="1628640"/>
            <a:ext cx="1079640" cy="432000"/>
          </a:xfrm>
          <a:prstGeom prst="wedgeRoundRectCallout">
            <a:avLst>
              <a:gd name="adj1" fmla="val -79851"/>
              <a:gd name="adj2" fmla="val 10735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1476360" y="4508640"/>
            <a:ext cx="28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1116000" y="4508640"/>
            <a:ext cx="36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3780000" y="4221000"/>
            <a:ext cx="21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039C-C176-4084-A9FC-F0AF17F0B63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9fba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imation of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+T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254480" cy="5029200"/>
          </a:xfrm>
          <a:prstGeom prst="rect">
            <a:avLst/>
          </a:prstGeom>
          <a:solidFill>
            <a:srgbClr val="f9fba3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ja-JP" sz="1400" spc="-1" strike="noStrike">
                <a:solidFill>
                  <a:srgbClr val="333399"/>
                </a:solidFill>
                <a:latin typeface="Arial"/>
              </a:rPr>
              <a:t>M+TSC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  <a:ea typeface="Arial"/>
              </a:rPr>
              <a:t>σ</a:t>
            </a:r>
            <a:r>
              <a:rPr b="0" lang="ja-JP" sz="1400" spc="-1" strike="noStrike">
                <a:solidFill>
                  <a:srgbClr val="333399"/>
                </a:solidFill>
                <a:latin typeface="Arial"/>
                <a:ea typeface="Arial"/>
              </a:rPr>
              <a:t>A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N</a:t>
            </a:r>
            <a:r>
              <a:rPr b="0" lang="ja-JP" sz="1400" spc="-1" strike="noStrike">
                <a:solidFill>
                  <a:srgbClr val="333399"/>
                </a:solidFill>
                <a:latin typeface="Arial"/>
                <a:ea typeface="Arial"/>
              </a:rPr>
              <a:t>M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&lt;N</a:t>
            </a:r>
            <a:r>
              <a:rPr b="0" lang="ja-JP" sz="1400" spc="-1" strike="noStrike">
                <a:solidFill>
                  <a:srgbClr val="333399"/>
                </a:solidFill>
                <a:latin typeface="Arial"/>
                <a:ea typeface="Arial"/>
              </a:rPr>
              <a:t>TSC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&gt;v</a:t>
            </a:r>
            <a:r>
              <a:rPr b="0" lang="el-GR" sz="2400" spc="-1" strike="noStrike">
                <a:solidFill>
                  <a:srgbClr val="333399"/>
                </a:solidFill>
                <a:latin typeface="ＭＳ Ｐゴシック"/>
                <a:ea typeface="Arial"/>
              </a:rPr>
              <a:t>τ</a:t>
            </a:r>
            <a:r>
              <a:rPr b="0" lang="ja-JP" sz="1400" spc="-1" strike="noStrike">
                <a:solidFill>
                  <a:srgbClr val="333399"/>
                </a:solidFill>
                <a:latin typeface="ＭＳ Ｐゴシック"/>
                <a:ea typeface="Arial"/>
              </a:rPr>
              <a:t>T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ＭＳ Ｐゴシック"/>
                <a:ea typeface="Arial"/>
              </a:rPr>
              <a:t>N</a:t>
            </a:r>
            <a:r>
              <a:rPr b="0" lang="ja-JP" sz="1400" spc="-1" strike="noStrike">
                <a:solidFill>
                  <a:srgbClr val="333399"/>
                </a:solidFill>
                <a:latin typeface="ＭＳ Ｐゴシック"/>
                <a:ea typeface="Arial"/>
              </a:rPr>
              <a:t>M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  <a:ea typeface="Arial"/>
              </a:rPr>
              <a:t> : Host metal atom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ＭＳ Ｐゴシック"/>
                <a:ea typeface="Arial"/>
              </a:rPr>
              <a:t>N</a:t>
            </a:r>
            <a:r>
              <a:rPr b="0" lang="ja-JP" sz="1400" spc="-1" strike="noStrike">
                <a:solidFill>
                  <a:srgbClr val="333399"/>
                </a:solidFill>
                <a:latin typeface="ＭＳ Ｐゴシック"/>
                <a:ea typeface="Arial"/>
              </a:rPr>
              <a:t>TSC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  <a:ea typeface="Arial"/>
              </a:rPr>
              <a:t> : Time-averaged TSC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ＭＳ Ｐゴシック"/>
                <a:ea typeface="Arial"/>
              </a:rPr>
              <a:t>σ</a:t>
            </a:r>
            <a:r>
              <a:rPr b="0" lang="ja-JP" sz="1400" spc="-1" strike="noStrike">
                <a:solidFill>
                  <a:srgbClr val="333399"/>
                </a:solidFill>
                <a:latin typeface="ＭＳ Ｐゴシック"/>
                <a:ea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  <a:ea typeface="Arial"/>
              </a:rPr>
              <a:t> : Atomic level cross section for M+TSC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ＭＳ Ｐゴシック"/>
                <a:ea typeface="Arial"/>
              </a:rPr>
              <a:t>τ</a:t>
            </a:r>
            <a:r>
              <a:rPr b="0" lang="ja-JP" sz="1400" spc="-1" strike="noStrike">
                <a:solidFill>
                  <a:srgbClr val="333399"/>
                </a:solidFill>
                <a:latin typeface="ＭＳ Ｐゴシック"/>
                <a:ea typeface="Arial"/>
              </a:rPr>
              <a:t>TSC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  <a:ea typeface="Arial"/>
              </a:rPr>
              <a:t> : mean life time of T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ＭＳ Ｐゴシック"/>
                <a:ea typeface="Arial"/>
              </a:rPr>
              <a:t>Note: approximated by the squeezing time of TSC from 1 angstrom domain to 5 fm domain, because strong interaction breaks TS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51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ＭＳ Ｐゴシック"/>
              </a:rPr>
              <a:t>τ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TSC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= 45 fs (for p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           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66 fs (for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ＭＳ Ｐゴシック"/>
              </a:rPr>
              <a:t>σ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= 1E-16 (cm</a:t>
            </a:r>
            <a:r>
              <a:rPr b="0" lang="ja-JP" sz="2800" spc="-1" strike="noStrike" baseline="30000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M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= 1E+23 (cm</a:t>
            </a:r>
            <a:r>
              <a:rPr b="0" lang="ja-JP" sz="2800" spc="-1" strike="noStrike" baseline="30000">
                <a:solidFill>
                  <a:srgbClr val="000000"/>
                </a:solidFill>
                <a:latin typeface="ＭＳ Ｐゴシック"/>
              </a:rPr>
              <a:t>-3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TSC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= 1E+20 (cm</a:t>
            </a:r>
            <a:r>
              <a:rPr b="0" lang="ja-JP" sz="2800" spc="-1" strike="noStrike" baseline="30000">
                <a:solidFill>
                  <a:srgbClr val="000000"/>
                </a:solidFill>
                <a:latin typeface="ＭＳ Ｐゴシック"/>
              </a:rPr>
              <a:t>-3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) is assume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M+TSC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= 1E+19 (cm</a:t>
            </a:r>
            <a:r>
              <a:rPr b="0" lang="ja-JP" sz="2800" spc="-1" strike="noStrike" baseline="30000">
                <a:solidFill>
                  <a:srgbClr val="000000"/>
                </a:solidFill>
                <a:latin typeface="ＭＳ Ｐゴシック"/>
              </a:rPr>
              <a:t>-3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CB10-BD05-4EFB-A3DE-47A64CAE46D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03280" y="55620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  <a:ea typeface="ＭＳ 明朝"/>
              </a:rPr>
              <a:t>Table-2: Annual Production of Fission Products (RI) by Fission Power Plant (PWR, 3410MW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9640" y="1268280"/>
          <a:ext cx="8208720" cy="5400360"/>
        </p:xfrm>
        <a:graphic>
          <a:graphicData uri="http://schemas.openxmlformats.org/drawingml/2006/table">
            <a:tbl>
              <a:tblPr/>
              <a:tblGrid>
                <a:gridCol w="1459440"/>
                <a:gridCol w="6749280"/>
              </a:tblGrid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Half Life (y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Nuclide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             T1/2 (year)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Weight (kg/y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10 to 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Kr-85                 1.07E+01             0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cc00cc"/>
                          </a:solidFill>
                          <a:latin typeface="Century"/>
                          <a:ea typeface="ＭＳ 明朝"/>
                        </a:rPr>
                        <a:t>Sr-90                 2.91E+01             1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c00cc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cc00cc"/>
                          </a:solidFill>
                          <a:latin typeface="Century"/>
                          <a:ea typeface="ＭＳ 明朝"/>
                        </a:rPr>
                        <a:t>Cs-137                3.00E+01             36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Sm-151               9.00E+01             0.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1E+4 to 5E+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Se-79                 6.50E+04             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Zr-93                 1.53E+06             2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cc00cc"/>
                          </a:solidFill>
                          <a:latin typeface="Century"/>
                          <a:ea typeface="ＭＳ 明朝"/>
                        </a:rPr>
                        <a:t>Tc-99                 2.13E+05             2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Pd-107               6.50E+06              6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Sn-126               1.00E+05              0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I-129                 1.57E+07              5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cc00cc"/>
                          </a:solidFill>
                          <a:latin typeface="Century"/>
                          <a:ea typeface="ＭＳ 明朝"/>
                        </a:rPr>
                        <a:t>Cs-135               2.30E+06              9.52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SUMfor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                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12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0ver 1E+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Rb-87                4.70E+10              7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In-115                5.00E+14              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Ce-142               5.0E+16               3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Nd-144               2.10E+15              3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Sm-147               1.07E+11              2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Sm-148               8.00E+15              2.7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Burning Rate = 33GWd/MT, Total FP production = 1,002kg/y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3B8-C37B-4BBF-B516-0A09B5274F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9fba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by STTBA calculation; M = 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E) = 9.2E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E) = 3.5E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action R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M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= 3.7E-8 (f/s/p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M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= 2.1E-7 (f/s/p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M4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= 1.0E-8 (f/s/p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M4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= 3.4E-9 (f/s/p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&lt;Macroscopic Reaction Rate&gt;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x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M+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T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With N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  <a:ea typeface="Arial"/>
              </a:rPr>
              <a:t>M+ts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 = 1.0E+16 in 10nm area, Rate = 1E+8 f/s/cm2 and Y = 1E+14 in 1E+6 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4788000" y="1844640"/>
            <a:ext cx="3456000" cy="36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= 1.44/6 = 0.24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= 0.5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= 0.4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0) = 1.0E+8 kev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0) = 1.0E+9 keV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cc"/>
                </a:solidFill>
                <a:latin typeface="Arial"/>
                <a:ea typeface="Arial"/>
              </a:rPr>
              <a:t>λ</a:t>
            </a:r>
            <a:r>
              <a:rPr b="0" lang="ja-JP" sz="1600" spc="-1" strike="noStrike">
                <a:solidFill>
                  <a:srgbClr val="ff33cc"/>
                </a:solidFill>
                <a:latin typeface="Arial"/>
                <a:ea typeface="Arial"/>
              </a:rPr>
              <a:t>4d</a:t>
            </a:r>
            <a:r>
              <a:rPr b="0" lang="ja-JP" sz="2400" spc="-1" strike="noStrike">
                <a:solidFill>
                  <a:srgbClr val="ff33cc"/>
                </a:solidFill>
                <a:latin typeface="Arial"/>
                <a:ea typeface="Arial"/>
              </a:rPr>
              <a:t> = 4.9E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3A2-0CBD-414F-89C5-75BAC0903E3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s by Ni + p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4492800"/>
          </a:xfrm>
          <a:prstGeom prst="rect">
            <a:avLst/>
          </a:prstGeom>
          <a:solidFill>
            <a:srgbClr val="d9fe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3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+p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*(1.36m, EC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*(7E4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+ p 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*(3.3h, EC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+ 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*(9.7m, EC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+ p → </a:t>
            </a:r>
            <a:r>
              <a:rPr b="0" lang="en-US" sz="2400" spc="-1" strike="noStrike" baseline="30000">
                <a:solidFill>
                  <a:srgbClr val="009999"/>
                </a:solidFill>
                <a:latin typeface="Arial"/>
              </a:rPr>
              <a:t>63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.12MeV);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Eg=669k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+ p → </a:t>
            </a:r>
            <a:r>
              <a:rPr b="0" lang="en-US" sz="2400" spc="-1" strike="noStrike" baseline="30000">
                <a:solidFill>
                  <a:srgbClr val="009999"/>
                </a:solidFill>
                <a:latin typeface="Arial"/>
              </a:rPr>
              <a:t>65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7.45M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303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03"/>
                </a:solidFill>
                <a:latin typeface="Arial"/>
              </a:rPr>
              <a:t>Prompt Gamma-Rays em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9fba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303"/>
              </a:buClr>
              <a:buSzPct val="5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303"/>
                </a:solidFill>
                <a:latin typeface="Arial"/>
              </a:rPr>
              <a:t>Ni-H gas system exp. By Piantelli (ASTI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303"/>
                </a:solidFill>
                <a:latin typeface="Arial"/>
              </a:rPr>
              <a:t>  </a:t>
            </a:r>
            <a:r>
              <a:rPr b="0" lang="ja-JP" sz="2800" spc="-1" strike="noStrike">
                <a:solidFill>
                  <a:srgbClr val="ff0303"/>
                </a:solidFill>
                <a:latin typeface="Arial"/>
              </a:rPr>
              <a:t>; 660 keV peak by NaI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660 MJ Excess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179280" y="1413000"/>
            <a:ext cx="87138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EC9-50F5-49F1-AF65-53597189E58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3152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sion by M + TSC is possib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solidFill>
            <a:srgbClr val="d9fe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+ 4p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(11MeV) →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+ 4d 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(54MeV) →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 + 4p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(23MeV) →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 +4d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(52MeV) →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+4d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(52MeV) →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924440"/>
          </a:xfrm>
          <a:prstGeom prst="rect">
            <a:avLst/>
          </a:prstGeom>
          <a:solidFill>
            <a:srgbClr val="f9fba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303"/>
              </a:buClr>
              <a:buSzPct val="5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303"/>
                </a:solidFill>
                <a:latin typeface="Arial"/>
              </a:rPr>
              <a:t>Many foreign elements were detec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303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ff0303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ff0303"/>
                </a:solidFill>
                <a:latin typeface="Arial"/>
              </a:rPr>
              <a:t>Piantelli, Karabut, Yamada, Ohmor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303"/>
                </a:solidFill>
                <a:latin typeface="Arial"/>
              </a:rPr>
              <a:t>　　  </a:t>
            </a:r>
            <a:r>
              <a:rPr b="0" lang="ja-JP" sz="2400" spc="-1" strike="noStrike">
                <a:solidFill>
                  <a:srgbClr val="ff0303"/>
                </a:solidFill>
                <a:latin typeface="Arial"/>
              </a:rPr>
              <a:t>Mizuno, Miley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30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303"/>
                </a:solidFill>
                <a:latin typeface="Arial"/>
              </a:rPr>
              <a:t>Fission can be induced by TSC cap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395280" y="1484280"/>
            <a:ext cx="84978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D33B-F324-4A9C-ABD9-626FB6A0D40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8" name=""/>
          <p:cNvGraphicFramePr/>
          <p:nvPr/>
        </p:nvGraphicFramePr>
        <p:xfrm>
          <a:off x="838080" y="990720"/>
          <a:ext cx="7391520" cy="45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9152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E9F4-6100-4B68-B128-3F7B0A2508F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0" name=""/>
          <p:cNvGraphicFramePr/>
          <p:nvPr/>
        </p:nvGraphicFramePr>
        <p:xfrm>
          <a:off x="457200" y="914400"/>
          <a:ext cx="7139160" cy="49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7139160" cy="49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8822-6525-4987-84FC-367A69EFDBE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9fba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FP Elements by SCS vs. Miley Ex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3" name=""/>
          <p:cNvGraphicFramePr/>
          <p:nvPr/>
        </p:nvGraphicFramePr>
        <p:xfrm>
          <a:off x="4356000" y="1989000"/>
          <a:ext cx="4788000" cy="432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989000"/>
                    <a:ext cx="478800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5" name=""/>
          <p:cNvGraphicFramePr/>
          <p:nvPr/>
        </p:nvGraphicFramePr>
        <p:xfrm>
          <a:off x="395280" y="2276640"/>
          <a:ext cx="3754440" cy="2436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276640"/>
                    <a:ext cx="3754440" cy="24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7" name=""/>
          <p:cNvSpPr/>
          <p:nvPr/>
        </p:nvSpPr>
        <p:spPr>
          <a:xfrm>
            <a:off x="611280" y="5084640"/>
            <a:ext cx="3456000" cy="1419480"/>
          </a:xfrm>
          <a:prstGeom prst="rect">
            <a:avLst/>
          </a:prstGeom>
          <a:solidFill>
            <a:srgbClr val="d9f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 + 4p/TSC to f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ve Channel Fiss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4716360" y="1197000"/>
            <a:ext cx="4103640" cy="647640"/>
          </a:xfrm>
          <a:prstGeom prst="rect">
            <a:avLst/>
          </a:prstGeom>
          <a:solidFill>
            <a:srgbClr val="d9f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. Miley and J. Patt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J. New Energy, 1996, 1, p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D759-CEEB-400F-ACE8-DBF0F878BC4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9fba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jor Fission Channels from Ni + 4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07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58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Ni(68%) + 4p → 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6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Ge(Ex=11.2M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.8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n(EC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8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.8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8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r(EC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4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(2) 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60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Ni(26.2%) + 4p → 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64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Ge(Ex=19.1M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→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6.4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n(EC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60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3.6MeV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e 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i(EC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6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3.0MeV +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e(EC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n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C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2.2MeV +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6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(EC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8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3.5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4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M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0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6.4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8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6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6.7MeV 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.5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8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(EC)Al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43280" y="1125000"/>
            <a:ext cx="4316400" cy="269244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3) 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6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i(1.1%) + 4p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→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 65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Ge(Ex=21.3M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8.9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n(EC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61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5.9MeV +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e(EC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n(3.7x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→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1.0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0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5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→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7.4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8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r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7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2.0MeV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7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8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→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7.5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3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643280" y="4149720"/>
            <a:ext cx="424980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9999"/>
                </a:solidFill>
                <a:latin typeface="Arial"/>
              </a:rPr>
              <a:t>Green shows stable isotop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5050"/>
                </a:solidFill>
                <a:latin typeface="Arial"/>
              </a:rPr>
              <a:t>Average Kinetic Energ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ff5050"/>
                </a:solidFill>
                <a:latin typeface="Arial"/>
              </a:rPr>
              <a:t>Fission Product = 9.7 MeV for Ni-na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D603-173D-4900-9B86-CE85761BA6B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9fba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Fission Channels from Ni + 4p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3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62</a:t>
            </a:r>
            <a:r>
              <a:rPr b="0" lang="ja-JP" sz="1600" spc="-1" strike="noStrike">
                <a:solidFill>
                  <a:srgbClr val="333399"/>
                </a:solidFill>
                <a:latin typeface="Arial"/>
                <a:ea typeface="Arial"/>
              </a:rPr>
              <a:t>Ni(3.6%) + 4p → </a:t>
            </a:r>
            <a:r>
              <a:rPr b="0" lang="ja-JP" sz="16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66</a:t>
            </a:r>
            <a:r>
              <a:rPr b="0" lang="ja-JP" sz="1600" spc="-1" strike="noStrike">
                <a:solidFill>
                  <a:srgbClr val="333399"/>
                </a:solidFill>
                <a:latin typeface="Arial"/>
                <a:ea typeface="Arial"/>
              </a:rPr>
              <a:t>Ge(Ex=24.0M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11.0MeV + </a:t>
            </a:r>
            <a:r>
              <a:rPr b="0" lang="ja-JP" sz="1600" spc="-1" strike="noStrike">
                <a:solidFill>
                  <a:srgbClr val="ff5050"/>
                </a:solidFill>
                <a:latin typeface="Arial"/>
                <a:ea typeface="Arial"/>
              </a:rPr>
              <a:t>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Ge(EC)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Ga(EC)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21.4MeV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H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Zn(EC)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Cu(EC)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62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11.5MeV +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8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Be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8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18.9MeV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2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4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10.5MeV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4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Mn(EC)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2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C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→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8.2MeV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6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0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C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13.9MeV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0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N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6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15.2MeV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4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M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2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13.7MeV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7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A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9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18.9MeV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8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S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8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18.6MeV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2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4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5050"/>
                </a:solidFill>
                <a:latin typeface="Arial"/>
                <a:ea typeface="Arial"/>
              </a:rPr>
              <a:t>Neutron emission channel may op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Arial"/>
                <a:ea typeface="Arial"/>
              </a:rPr>
              <a:t>S-values for higher mass Ni may be larger than Ni-58 and Ni-60, due to more p-n PEF inter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2563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64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i(0.93%) + 4P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68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Ge(Ex=29M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6.7MeV + </a:t>
            </a:r>
            <a:r>
              <a:rPr b="0" lang="en-US" sz="1600" spc="-1" strike="noStrike">
                <a:solidFill>
                  <a:srgbClr val="ff5050"/>
                </a:solidFill>
                <a:latin typeface="Arial"/>
                <a:ea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(EC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67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Z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5.6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64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Z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.0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6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L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61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3.2MeV 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e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i(EC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7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.9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9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i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9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.9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0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8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2.7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6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4.8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4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n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4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C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2.7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6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C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7.6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0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8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2.7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3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5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7.5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4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M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4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4.8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7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1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8.7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8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0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8.7MeV +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6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19A-3327-4559-808C-6292FC77BF7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solidFill>
            <a:srgbClr val="fcffb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 + 4d/TSC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clear Interaction Mecha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solidFill>
            <a:srgbClr val="fcffb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ver-minimum s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4d/T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xture of 4d/TSC to form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+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* captur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trong force exchange (PE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M and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250920" y="1413000"/>
            <a:ext cx="864216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0" y="1778040"/>
            <a:ext cx="4356000" cy="4184640"/>
            <a:chOff x="0" y="1778040"/>
            <a:chExt cx="4356000" cy="4184640"/>
          </a:xfrm>
        </p:grpSpPr>
        <p:sp>
          <p:nvSpPr>
            <p:cNvPr id="2370" name=""/>
            <p:cNvSpPr/>
            <p:nvPr/>
          </p:nvSpPr>
          <p:spPr>
            <a:xfrm>
              <a:off x="1258920" y="3645000"/>
              <a:ext cx="608040" cy="6192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0" y="3645000"/>
              <a:ext cx="608040" cy="6192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116000" y="3716280"/>
              <a:ext cx="431640" cy="4334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913040" y="2637000"/>
              <a:ext cx="2442960" cy="252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340000" y="291132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108160" y="3149640"/>
              <a:ext cx="3096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1990800" y="346392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1913040" y="3778200"/>
              <a:ext cx="31104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990800" y="4133880"/>
              <a:ext cx="309600" cy="31572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146320" y="4408560"/>
              <a:ext cx="309600" cy="315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378160" y="4606920"/>
              <a:ext cx="31104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649600" y="4803840"/>
              <a:ext cx="31104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571840" y="2716200"/>
              <a:ext cx="311040" cy="3142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2300400" y="3149640"/>
              <a:ext cx="31104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340000" y="3503520"/>
              <a:ext cx="3096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921040" y="2676600"/>
              <a:ext cx="31104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3270240" y="2716200"/>
              <a:ext cx="3096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3579840" y="2873520"/>
              <a:ext cx="31104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813120" y="3149640"/>
              <a:ext cx="3096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006800" y="3424320"/>
              <a:ext cx="309600" cy="315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046400" y="377820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3968640" y="4133880"/>
              <a:ext cx="309600" cy="31572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959200" y="4803840"/>
              <a:ext cx="31104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309840" y="476424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3579840" y="4606920"/>
              <a:ext cx="31104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3813120" y="4408560"/>
              <a:ext cx="309600" cy="315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300400" y="3897360"/>
              <a:ext cx="311040" cy="31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416320" y="4211640"/>
              <a:ext cx="311040" cy="31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766960" y="307008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192480" y="3030480"/>
              <a:ext cx="31104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727360" y="350352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649600" y="3857760"/>
              <a:ext cx="311040" cy="315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3076560" y="334476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3541680" y="3344760"/>
              <a:ext cx="309600" cy="3160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3735360" y="3700440"/>
              <a:ext cx="311040" cy="31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843280" y="4251240"/>
              <a:ext cx="311040" cy="3160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649600" y="4487760"/>
              <a:ext cx="31104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533680" y="3267000"/>
              <a:ext cx="311040" cy="3160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184480" y="370044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533680" y="3621240"/>
              <a:ext cx="311040" cy="315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959200" y="2911320"/>
              <a:ext cx="311040" cy="3160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611440" y="295272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882880" y="326700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649600" y="4133880"/>
              <a:ext cx="311040" cy="315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224080" y="4133880"/>
              <a:ext cx="309600" cy="315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3425760" y="3030480"/>
              <a:ext cx="309600" cy="3160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3348000" y="322740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998800" y="3621240"/>
              <a:ext cx="311040" cy="315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921040" y="3897360"/>
              <a:ext cx="311040" cy="31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959200" y="4527720"/>
              <a:ext cx="31104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3348000" y="354348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735360" y="3424320"/>
              <a:ext cx="311040" cy="315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232080" y="389736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154320" y="421164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232080" y="448776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3541680" y="370044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3463920" y="393696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232080" y="3700440"/>
              <a:ext cx="309600" cy="3160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959200" y="4133880"/>
              <a:ext cx="311040" cy="315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386160" y="421164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463920" y="4408560"/>
              <a:ext cx="309600" cy="31572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657600" y="4251240"/>
              <a:ext cx="31104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735360" y="3936960"/>
              <a:ext cx="31104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929040" y="3660840"/>
              <a:ext cx="309600" cy="31572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929040" y="401652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184480" y="3386160"/>
              <a:ext cx="3096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455920" y="3976560"/>
              <a:ext cx="31104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805120" y="3700440"/>
              <a:ext cx="309600" cy="3160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805120" y="401652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076560" y="3857760"/>
              <a:ext cx="309600" cy="315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2998800" y="3149640"/>
              <a:ext cx="31104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959200" y="3503520"/>
              <a:ext cx="31104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270240" y="3463920"/>
              <a:ext cx="3096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8160" y="4408560"/>
              <a:ext cx="311040" cy="31572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611440" y="429084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154320" y="4094280"/>
              <a:ext cx="3096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766960" y="4645080"/>
              <a:ext cx="309600" cy="31572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2416320" y="3778200"/>
              <a:ext cx="31104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541680" y="409428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998800" y="4408560"/>
              <a:ext cx="311040" cy="315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030400" y="3976560"/>
              <a:ext cx="3096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619440" y="311004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1254240" y="2911320"/>
              <a:ext cx="630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116000" y="2492280"/>
              <a:ext cx="57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 flipV="1">
              <a:off x="1403280" y="2708280"/>
              <a:ext cx="216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24000" y="5516640"/>
              <a:ext cx="180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84360" y="55944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 f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95280" y="3716280"/>
              <a:ext cx="431640" cy="4334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55640" y="3357720"/>
              <a:ext cx="431640" cy="433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55640" y="4076640"/>
              <a:ext cx="431640" cy="4334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187280" y="3716280"/>
              <a:ext cx="3096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68360" y="3860640"/>
              <a:ext cx="309600" cy="31464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246400" y="4192560"/>
              <a:ext cx="3096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187280" y="3860640"/>
              <a:ext cx="31140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68360" y="3716280"/>
              <a:ext cx="31104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826920" y="3357720"/>
              <a:ext cx="311400" cy="315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826920" y="4221000"/>
              <a:ext cx="28908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826920" y="4076640"/>
              <a:ext cx="3096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826920" y="3500280"/>
              <a:ext cx="309600" cy="31464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042920" y="3716280"/>
              <a:ext cx="216000" cy="21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116000" y="3573360"/>
              <a:ext cx="216000" cy="21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55640" y="4005360"/>
              <a:ext cx="216000" cy="21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84360" y="4149720"/>
              <a:ext cx="215640" cy="21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V="1">
              <a:off x="1042920" y="4005000"/>
              <a:ext cx="217440" cy="215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V="1">
              <a:off x="1042920" y="3789000"/>
              <a:ext cx="21600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H="1">
              <a:off x="684360" y="3429000"/>
              <a:ext cx="28728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V="1">
              <a:off x="971640" y="3573000"/>
              <a:ext cx="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042920" y="3645000"/>
              <a:ext cx="0" cy="720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684000" y="3716280"/>
              <a:ext cx="215640" cy="21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84360" y="3860640"/>
              <a:ext cx="64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84360" y="4005360"/>
              <a:ext cx="576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84360" y="4437000"/>
              <a:ext cx="608040" cy="6192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84360" y="2781360"/>
              <a:ext cx="608040" cy="6192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V="1">
              <a:off x="1116000" y="3357720"/>
              <a:ext cx="1008000" cy="142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V="1">
              <a:off x="1116000" y="4292280"/>
              <a:ext cx="934920" cy="73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V="1">
              <a:off x="1403280" y="3644640"/>
              <a:ext cx="647640" cy="142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403280" y="4005360"/>
              <a:ext cx="647640" cy="73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403280" y="3860640"/>
              <a:ext cx="647640" cy="73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V="1">
              <a:off x="1042920" y="3573000"/>
              <a:ext cx="1079640" cy="7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116000" y="4292640"/>
              <a:ext cx="107964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76200" y="1778040"/>
              <a:ext cx="1100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234360" y="179244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 flipH="1" flipV="1">
              <a:off x="684000" y="2133360"/>
              <a:ext cx="2156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771640" y="18446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66720" y="1936800"/>
              <a:ext cx="123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-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 flipH="1" flipV="1">
              <a:off x="3132000" y="2276280"/>
              <a:ext cx="14472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458000" y="4840200"/>
              <a:ext cx="101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187280" y="4437000"/>
              <a:ext cx="64800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"/>
          <p:cNvSpPr/>
          <p:nvPr/>
        </p:nvSpPr>
        <p:spPr>
          <a:xfrm>
            <a:off x="971640" y="5084640"/>
            <a:ext cx="0" cy="289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971640" y="2421000"/>
            <a:ext cx="0" cy="28872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4D6-3C1F-4AF2-98B6-36117AE47BB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13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 + TSC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13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s + d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Ba(Ex=12.91MeV) → </a:t>
            </a:r>
            <a:r>
              <a:rPr b="0" lang="ja-JP" sz="28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35</a:t>
            </a:r>
            <a:r>
              <a:rPr b="0" lang="ja-JP" sz="2800" spc="-1" strike="noStrike">
                <a:solidFill>
                  <a:srgbClr val="009999"/>
                </a:solidFill>
                <a:latin typeface="Arial"/>
                <a:ea typeface="Arial"/>
              </a:rPr>
              <a:t>Ba(stable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+ gammas(12.91Me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Cs + 2d →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7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La(Ex=25.32MeV) → F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7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La(6E+4 y) + gam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Cs + 3d →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Ce(Ex=38.29MeV) → F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r>
              <a:rPr b="0" lang="ja-JP" sz="28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39</a:t>
            </a:r>
            <a:r>
              <a:rPr b="0" lang="ja-JP" sz="2800" spc="-1" strike="noStrike">
                <a:solidFill>
                  <a:srgbClr val="009999"/>
                </a:solidFill>
                <a:latin typeface="Arial"/>
                <a:ea typeface="Arial"/>
              </a:rPr>
              <a:t>La(stable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+ gam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3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Cs + 4d → </a:t>
            </a:r>
            <a:r>
              <a:rPr b="1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41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Pr(Ex=50.49MeV) → F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r>
              <a:rPr b="1" lang="ja-JP" sz="28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41</a:t>
            </a:r>
            <a:r>
              <a:rPr b="1" lang="ja-JP" sz="2800" spc="-1" strike="noStrike">
                <a:solidFill>
                  <a:srgbClr val="009999"/>
                </a:solidFill>
                <a:latin typeface="Arial"/>
                <a:ea typeface="Arial"/>
              </a:rPr>
              <a:t>Pr(stable)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+ gam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00cc"/>
                </a:solidFill>
                <a:latin typeface="Arial"/>
                <a:ea typeface="Arial"/>
              </a:rPr>
              <a:t>Note: (1) + 2d is equivalent to </a:t>
            </a:r>
            <a:r>
              <a:rPr b="0" lang="ja-JP" sz="2800" spc="-1" strike="noStrike" baseline="30000">
                <a:solidFill>
                  <a:srgbClr val="cc00cc"/>
                </a:solidFill>
                <a:latin typeface="Arial"/>
                <a:ea typeface="Arial"/>
              </a:rPr>
              <a:t>4</a:t>
            </a:r>
            <a:r>
              <a:rPr b="0" lang="ja-JP" sz="2800" spc="-1" strike="noStrike">
                <a:solidFill>
                  <a:srgbClr val="cc00cc"/>
                </a:solidFill>
                <a:latin typeface="Arial"/>
                <a:ea typeface="Arial"/>
              </a:rPr>
              <a:t>He + 23.8Me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00cc"/>
                </a:solidFill>
                <a:latin typeface="Arial"/>
                <a:ea typeface="Arial"/>
              </a:rPr>
              <a:t>　　　　</a:t>
            </a:r>
            <a:r>
              <a:rPr b="0" lang="ja-JP" sz="2800" spc="-1" strike="noStrike">
                <a:solidFill>
                  <a:srgbClr val="cc00cc"/>
                </a:solidFill>
                <a:latin typeface="Arial"/>
                <a:ea typeface="Arial"/>
              </a:rPr>
              <a:t>(2) We need to detect 50.49 MeV gamma?</a:t>
            </a:r>
            <a:r>
              <a:rPr b="0" lang="ja-JP" sz="2800" spc="-1" strike="noStrike">
                <a:solidFill>
                  <a:srgbClr val="cc00cc"/>
                </a:solidFill>
                <a:latin typeface="Arial"/>
                <a:ea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539640" y="1197000"/>
            <a:ext cx="8136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198-C8DB-4564-9C6E-5C17EBDC589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The recent "</a:t>
            </a:r>
            <a:r>
              <a:rPr b="1" lang="ja-JP" sz="4000" spc="-1" strike="noStrike">
                <a:solidFill>
                  <a:srgbClr val="009999"/>
                </a:solidFill>
                <a:latin typeface="Arial"/>
              </a:rPr>
              <a:t>cold transmutation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" experiment by MHI (Iwamura, et al) must be a breakthrough technology. </a:t>
            </a:r>
            <a:r>
              <a:rPr b="0" lang="ja-JP" sz="4000" spc="-1" strike="noStrike">
                <a:solidFill>
                  <a:srgbClr val="cc00cc"/>
                </a:solidFill>
                <a:latin typeface="Arial"/>
              </a:rPr>
              <a:t>Application for transmutation of radioactive FPs like </a:t>
            </a:r>
            <a:r>
              <a:rPr b="0" lang="ja-JP" sz="4000" spc="-1" strike="noStrike" baseline="30000">
                <a:solidFill>
                  <a:srgbClr val="cc00cc"/>
                </a:solidFill>
                <a:latin typeface="Arial"/>
              </a:rPr>
              <a:t>90</a:t>
            </a:r>
            <a:r>
              <a:rPr b="0" lang="ja-JP" sz="4000" spc="-1" strike="noStrike">
                <a:solidFill>
                  <a:srgbClr val="cc00cc"/>
                </a:solidFill>
                <a:latin typeface="Arial"/>
              </a:rPr>
              <a:t>Sr and </a:t>
            </a:r>
            <a:r>
              <a:rPr b="0" lang="ja-JP" sz="4000" spc="-1" strike="noStrike" baseline="30000">
                <a:solidFill>
                  <a:srgbClr val="cc00cc"/>
                </a:solidFill>
                <a:latin typeface="Arial"/>
              </a:rPr>
              <a:t>137</a:t>
            </a:r>
            <a:r>
              <a:rPr b="0" lang="ja-JP" sz="4000" spc="-1" strike="noStrike">
                <a:solidFill>
                  <a:srgbClr val="cc00cc"/>
                </a:solidFill>
                <a:latin typeface="Arial"/>
              </a:rPr>
              <a:t>Cs into non-RI elements is expected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341360"/>
            <a:ext cx="856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4F6-5F48-47EF-A9CC-F4CBDE0CB9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ffb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TBA Prediction for Cs-to-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p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= 1E+8 kev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= 1E+9 keV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M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8.4E-10 f/s/t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M4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2.3E-10 f/s/t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M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2.8E-8 f/s/t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M4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7.6E-9 f/s/t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Where combination probability of anti-parallel spin was used for 4p/TS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/>
          </p:nvPr>
        </p:nvSpPr>
        <p:spPr>
          <a:xfrm>
            <a:off x="4642920" y="1916280"/>
            <a:ext cx="4038840" cy="4525920"/>
          </a:xfrm>
          <a:prstGeom prst="rect">
            <a:avLst/>
          </a:prstGeom>
          <a:solidFill>
            <a:srgbClr val="fcffbb"/>
          </a:solidFill>
          <a:ln w="9360">
            <a:solidFill>
              <a:srgbClr val="cc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uppose 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+tsc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= 1E+17 in 10 nm layer of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cro Yield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s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= 7.6E-9 x 1E+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= 7.6E+8 (f/s/cm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00cc"/>
                </a:solidFill>
                <a:latin typeface="Arial"/>
              </a:rPr>
              <a:t>Cs-to-Pr rate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cc00cc"/>
                </a:solidFill>
                <a:latin typeface="Arial"/>
              </a:rPr>
              <a:t>4.6E+14 (</a:t>
            </a:r>
            <a:r>
              <a:rPr b="0" lang="ja-JP" sz="1800" spc="-1" strike="noStrike">
                <a:solidFill>
                  <a:srgbClr val="cc00cc"/>
                </a:solidFill>
                <a:latin typeface="Arial"/>
              </a:rPr>
              <a:t>atoms per week</a:t>
            </a:r>
            <a:r>
              <a:rPr b="0" lang="ja-JP" sz="2400" spc="-1" strike="noStrike">
                <a:solidFill>
                  <a:srgbClr val="cc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cc00cc"/>
                </a:solidFill>
                <a:latin typeface="Arial"/>
              </a:rPr>
              <a:t>per cm</a:t>
            </a:r>
            <a:r>
              <a:rPr b="0" lang="ja-JP" sz="2400" spc="-1" strike="noStrike" baseline="30000">
                <a:solidFill>
                  <a:srgbClr val="cc00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0F7-2EDC-46CD-8A8C-2E535C13459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+4d/TSC is much easier th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+4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Because fusion strong force (PEF values) for M+4d is about twice of M+4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c.f.) 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ith PEF = 2 for 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nd PEF = 1 for 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Because we need to multiply probability of anti-parallel spin arrangement for 4p-T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solidFill>
            <a:srgbClr val="fcffb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13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s+p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Ba(8.17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→ 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Ba(s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Cs+2p → 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La(13.16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→ 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Ba(s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Cs+3p → 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Ce(20.28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→ 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Ce(s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or F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Cs+4p →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7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Pr(24.28MeV,1.28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→ 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7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Ce(1.43d)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7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or F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179280" y="1557360"/>
            <a:ext cx="87138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F3A-224A-486E-ABAB-3E402A2D4BD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mutation of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baseline="30000">
                <a:solidFill>
                  <a:srgbClr val="cc00cc"/>
                </a:solidFill>
                <a:latin typeface="Arial"/>
              </a:rPr>
              <a:t>90</a:t>
            </a:r>
            <a:r>
              <a:rPr b="0" lang="ja-JP" sz="2800" spc="-1" strike="noStrike">
                <a:solidFill>
                  <a:srgbClr val="cc00cc"/>
                </a:solidFill>
                <a:latin typeface="Arial"/>
              </a:rPr>
              <a:t>S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+ 4D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Mo(Ex=54.71MeV)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Fission-Products (in 10 fs)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       </a:t>
            </a:r>
            <a:r>
              <a:rPr b="0" lang="ja-JP" sz="28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98</a:t>
            </a:r>
            <a:r>
              <a:rPr b="0" lang="ja-JP" sz="2800" spc="-1" strike="noStrike">
                <a:solidFill>
                  <a:srgbClr val="009999"/>
                </a:solidFill>
                <a:latin typeface="Arial"/>
                <a:ea typeface="Arial"/>
              </a:rPr>
              <a:t>Mo(stable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+ gammas (in few 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(2) </a:t>
            </a:r>
            <a:r>
              <a:rPr b="0" lang="ja-JP" sz="2800" spc="-1" strike="noStrike" baseline="30000">
                <a:solidFill>
                  <a:srgbClr val="cc00cc"/>
                </a:solidFill>
                <a:latin typeface="Arial"/>
                <a:ea typeface="Arial"/>
              </a:rPr>
              <a:t>90</a:t>
            </a:r>
            <a:r>
              <a:rPr b="0" lang="ja-JP" sz="2800" spc="-1" strike="noStrike">
                <a:solidFill>
                  <a:srgbClr val="cc00cc"/>
                </a:solidFill>
                <a:latin typeface="Arial"/>
                <a:ea typeface="Arial"/>
              </a:rPr>
              <a:t>S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Be →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Mo(Ex=7.11MeV) →</a:t>
            </a:r>
            <a:r>
              <a:rPr b="0" lang="ja-JP" sz="28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98</a:t>
            </a:r>
            <a:r>
              <a:rPr b="0" lang="ja-JP" sz="2800" spc="-1" strike="noStrike">
                <a:solidFill>
                  <a:srgbClr val="009999"/>
                </a:solidFill>
                <a:latin typeface="Arial"/>
                <a:ea typeface="Arial"/>
              </a:rPr>
              <a:t>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8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  <a:ea typeface="Arial"/>
              </a:rPr>
              <a:t>Be (47.6MeV KE) from 8D OSC/O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Most KE will be transferred to Mo 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Gamma-lines: 644, 697.4, 787, 1432 (ke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9900"/>
                </a:solidFill>
                <a:latin typeface="Arial"/>
                <a:ea typeface="Arial"/>
              </a:rPr>
              <a:t>2186 keV line from </a:t>
            </a:r>
            <a:r>
              <a:rPr b="0" lang="ja-JP" sz="2400" spc="-1" strike="noStrike" baseline="30000">
                <a:solidFill>
                  <a:srgbClr val="ff9900"/>
                </a:solidFill>
                <a:latin typeface="Arial"/>
                <a:ea typeface="Arial"/>
              </a:rPr>
              <a:t>90</a:t>
            </a:r>
            <a:r>
              <a:rPr b="0" lang="ja-JP" sz="2400" spc="-1" strike="noStrike">
                <a:solidFill>
                  <a:srgbClr val="ff9900"/>
                </a:solidFill>
                <a:latin typeface="Arial"/>
                <a:ea typeface="Arial"/>
              </a:rPr>
              <a:t>Sr(28.78y)</a:t>
            </a:r>
            <a:r>
              <a:rPr b="0" lang="ja-JP" sz="2400" spc="-1" strike="noStrike" baseline="30000">
                <a:solidFill>
                  <a:srgbClr val="ff9900"/>
                </a:solidFill>
                <a:latin typeface="Arial"/>
                <a:ea typeface="Arial"/>
              </a:rPr>
              <a:t>90</a:t>
            </a:r>
            <a:r>
              <a:rPr b="0" lang="ja-JP" sz="2400" spc="-1" strike="noStrike">
                <a:solidFill>
                  <a:srgbClr val="ff9900"/>
                </a:solidFill>
                <a:latin typeface="Arial"/>
                <a:ea typeface="Arial"/>
              </a:rPr>
              <a:t>Y(1.4E-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9900"/>
                </a:solidFill>
                <a:latin typeface="Arial"/>
                <a:ea typeface="Arial"/>
              </a:rPr>
              <a:t>Need to detect 54.71 MeV gamma and its casca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324000" y="1268280"/>
            <a:ext cx="856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11A-5128-43B6-AF38-E008C68EB8C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 + TSC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90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r + 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Y(Ex=12.0MeV, 3.54h)</a:t>
            </a:r>
            <a:r>
              <a:rPr b="0" lang="ja-JP" sz="32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92</a:t>
            </a:r>
            <a:r>
              <a:rPr b="0" lang="ja-JP" sz="3200" spc="-1" strike="noStrike">
                <a:solidFill>
                  <a:srgbClr val="009999"/>
                </a:solidFill>
                <a:latin typeface="Arial"/>
                <a:ea typeface="Arial"/>
              </a:rPr>
              <a:t>Z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0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Sr + 2d → </a:t>
            </a:r>
            <a:r>
              <a:rPr b="1" lang="ja-JP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4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Zr(Ex=27.6MeV) → F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r>
              <a:rPr b="1" lang="ja-JP" sz="32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94</a:t>
            </a:r>
            <a:r>
              <a:rPr b="1" lang="ja-JP" sz="3200" spc="-1" strike="noStrike">
                <a:solidFill>
                  <a:srgbClr val="009999"/>
                </a:solidFill>
                <a:latin typeface="Arial"/>
                <a:ea typeface="Arial"/>
              </a:rPr>
              <a:t>Zr(stable)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 + gam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0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Sr + 3d → 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6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Nb(Ex=39.07MeV, 23.35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→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F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r>
              <a:rPr b="0" lang="ja-JP" sz="32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96</a:t>
            </a:r>
            <a:r>
              <a:rPr b="0" lang="ja-JP" sz="3200" spc="-1" strike="noStrike">
                <a:solidFill>
                  <a:srgbClr val="009999"/>
                </a:solidFill>
                <a:latin typeface="Arial"/>
                <a:ea typeface="Arial"/>
              </a:rPr>
              <a:t>Mo(stable)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+ gam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9900"/>
                </a:solidFill>
                <a:latin typeface="Arial"/>
                <a:ea typeface="Arial"/>
              </a:rPr>
              <a:t>Note: + 2d is equivalent to </a:t>
            </a:r>
            <a:r>
              <a:rPr b="0" lang="ja-JP" sz="3200" spc="-1" strike="noStrike" baseline="30000">
                <a:solidFill>
                  <a:srgbClr val="ff9900"/>
                </a:solidFill>
                <a:latin typeface="Arial"/>
                <a:ea typeface="Arial"/>
              </a:rPr>
              <a:t>4</a:t>
            </a:r>
            <a:r>
              <a:rPr b="0" lang="ja-JP" sz="3200" spc="-1" strike="noStrike">
                <a:solidFill>
                  <a:srgbClr val="ff9900"/>
                </a:solidFill>
                <a:latin typeface="Arial"/>
                <a:ea typeface="Arial"/>
              </a:rPr>
              <a:t>He + 23.8M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324000" y="1268280"/>
            <a:ext cx="856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6947-2180-4451-AC55-FA59B791596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mutation of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856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baseline="30000">
                <a:solidFill>
                  <a:srgbClr val="cc00cc"/>
                </a:solidFill>
                <a:latin typeface="Arial"/>
              </a:rPr>
              <a:t>137</a:t>
            </a:r>
            <a:r>
              <a:rPr b="0" lang="ja-JP" sz="2800" spc="-1" strike="noStrike">
                <a:solidFill>
                  <a:srgbClr val="cc00cc"/>
                </a:solidFill>
                <a:latin typeface="Arial"/>
              </a:rPr>
              <a:t>C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+ 4D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4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Pr(Ex=45.63MeV)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Fission-Products (in 10 fs)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4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Pr(5.98h)</a:t>
            </a:r>
            <a:r>
              <a:rPr b="0" lang="ja-JP" sz="28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45</a:t>
            </a:r>
            <a:r>
              <a:rPr b="0" lang="ja-JP" sz="2800" spc="-1" strike="noStrike">
                <a:solidFill>
                  <a:srgbClr val="009999"/>
                </a:solidFill>
                <a:latin typeface="Arial"/>
                <a:ea typeface="Arial"/>
              </a:rPr>
              <a:t>N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+ gammas (in few 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00cc"/>
                </a:solidFill>
                <a:latin typeface="Arial"/>
                <a:ea typeface="Arial"/>
              </a:rPr>
              <a:t>(2) </a:t>
            </a:r>
            <a:r>
              <a:rPr b="0" lang="ja-JP" sz="2800" spc="-1" strike="noStrike" baseline="30000">
                <a:solidFill>
                  <a:srgbClr val="cc00cc"/>
                </a:solidFill>
                <a:latin typeface="Arial"/>
                <a:ea typeface="Arial"/>
              </a:rPr>
              <a:t>137</a:t>
            </a:r>
            <a:r>
              <a:rPr b="0" lang="ja-JP" sz="2800" spc="-1" strike="noStrike">
                <a:solidFill>
                  <a:srgbClr val="cc00cc"/>
                </a:solidFill>
                <a:latin typeface="Arial"/>
                <a:ea typeface="Arial"/>
              </a:rPr>
              <a:t>C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Be →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4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Pr(Ex=-1.97MeV) → </a:t>
            </a:r>
            <a:r>
              <a:rPr b="0" lang="ja-JP" sz="28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45</a:t>
            </a:r>
            <a:r>
              <a:rPr b="0" lang="ja-JP" sz="2800" spc="-1" strike="noStrike">
                <a:solidFill>
                  <a:srgbClr val="009999"/>
                </a:solidFill>
                <a:latin typeface="Arial"/>
                <a:ea typeface="Arial"/>
              </a:rPr>
              <a:t>Nd(s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47.6MeV KE of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Be  mostly goes to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4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Pr KE and partially excite P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145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  <a:ea typeface="Arial"/>
              </a:rPr>
              <a:t>Pr(5.58h,</a:t>
            </a:r>
            <a:r>
              <a:rPr b="0" lang="el-GR" sz="2800" spc="-1" strike="noStrike">
                <a:solidFill>
                  <a:srgbClr val="ff3300"/>
                </a:solidFill>
                <a:latin typeface="Arial"/>
                <a:ea typeface="Arial"/>
              </a:rPr>
              <a:t>β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  <a:ea typeface="Arial"/>
              </a:rPr>
              <a:t>): 748.28keV(0.5%), 675.8keV(0.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00"/>
                </a:solidFill>
                <a:latin typeface="Arial"/>
                <a:ea typeface="Arial"/>
              </a:rPr>
              <a:t>661 keV Gamma-peak from </a:t>
            </a:r>
            <a:r>
              <a:rPr b="0" lang="ja-JP" sz="2800" spc="-1" strike="noStrike" baseline="30000">
                <a:solidFill>
                  <a:srgbClr val="ff9900"/>
                </a:solidFill>
                <a:latin typeface="Arial"/>
                <a:ea typeface="Arial"/>
              </a:rPr>
              <a:t>137</a:t>
            </a:r>
            <a:r>
              <a:rPr b="0" lang="ja-JP" sz="2800" spc="-1" strike="noStrike">
                <a:solidFill>
                  <a:srgbClr val="ff9900"/>
                </a:solidFill>
                <a:latin typeface="Arial"/>
                <a:ea typeface="Arial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00"/>
                </a:solidFill>
                <a:latin typeface="Arial"/>
                <a:ea typeface="Arial"/>
              </a:rPr>
              <a:t>Need to detect 45.63 MeV gamma and its casc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324000" y="1341360"/>
            <a:ext cx="856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B67-FAF6-4A33-82E9-1E60C0E576A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 + TSC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s + d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Ba(Ex=11.5MeV, 1.38h: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→ </a:t>
            </a:r>
            <a:r>
              <a:rPr b="0" lang="ja-JP" sz="28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39</a:t>
            </a:r>
            <a:r>
              <a:rPr b="0" lang="ja-JP" sz="2800" spc="-1" strike="noStrike">
                <a:solidFill>
                  <a:srgbClr val="009999"/>
                </a:solidFill>
                <a:latin typeface="Arial"/>
                <a:ea typeface="Arial"/>
              </a:rPr>
              <a:t>La(stable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+ gam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7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Cs + 2d → </a:t>
            </a:r>
            <a:r>
              <a:rPr b="1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41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La(Ex=22.66MeV, 3.92d: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→ </a:t>
            </a:r>
            <a:r>
              <a:rPr b="1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41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Ce(32.5d) → </a:t>
            </a:r>
            <a:r>
              <a:rPr b="1" lang="ja-JP" sz="28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41</a:t>
            </a:r>
            <a:r>
              <a:rPr b="1" lang="ja-JP" sz="2800" spc="-1" strike="noStrike">
                <a:solidFill>
                  <a:srgbClr val="009999"/>
                </a:solidFill>
                <a:latin typeface="Arial"/>
                <a:ea typeface="Arial"/>
              </a:rPr>
              <a:t>Pr(s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9999"/>
                </a:solidFill>
                <a:latin typeface="Arial"/>
                <a:ea typeface="Arial"/>
              </a:rPr>
              <a:t>                   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or F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7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Cs + 3d →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4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Ce(Ex=34.47MeV, 1.78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→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F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or 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4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Pr(13.57d)</a:t>
            </a:r>
            <a:r>
              <a:rPr b="0" lang="ja-JP" sz="28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43</a:t>
            </a:r>
            <a:r>
              <a:rPr b="0" lang="ja-JP" sz="2800" spc="-1" strike="noStrike">
                <a:solidFill>
                  <a:srgbClr val="009999"/>
                </a:solidFill>
                <a:latin typeface="Arial"/>
                <a:ea typeface="Arial"/>
              </a:rPr>
              <a:t>Nd(s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00"/>
                </a:solidFill>
                <a:latin typeface="Arial"/>
                <a:ea typeface="Arial"/>
              </a:rPr>
              <a:t>Note: +2d is equivalent to </a:t>
            </a:r>
            <a:r>
              <a:rPr b="0" lang="ja-JP" sz="2800" spc="-1" strike="noStrike" baseline="30000">
                <a:solidFill>
                  <a:srgbClr val="ff9900"/>
                </a:solidFill>
                <a:latin typeface="Arial"/>
                <a:ea typeface="Arial"/>
              </a:rPr>
              <a:t>4</a:t>
            </a:r>
            <a:r>
              <a:rPr b="0" lang="ja-JP" sz="2800" spc="-1" strike="noStrike">
                <a:solidFill>
                  <a:srgbClr val="ff9900"/>
                </a:solidFill>
                <a:latin typeface="Arial"/>
                <a:ea typeface="Arial"/>
              </a:rPr>
              <a:t>He + 23.8MeV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250920" y="1197000"/>
            <a:ext cx="856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1C61-4924-4E1E-8CA5-4B58D1D8B66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mutation of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13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baseline="30000">
                <a:solidFill>
                  <a:srgbClr val="cc00cc"/>
                </a:solidFill>
                <a:latin typeface="Arial"/>
              </a:rPr>
              <a:t>135</a:t>
            </a:r>
            <a:r>
              <a:rPr b="0" lang="ja-JP" sz="2800" spc="-1" strike="noStrike">
                <a:solidFill>
                  <a:srgbClr val="cc00cc"/>
                </a:solidFill>
                <a:latin typeface="Arial"/>
              </a:rPr>
              <a:t>C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+ 4D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4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Pr(Ex=48.03MeV)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Fission-Products (in 10 fs)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4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Pr(13.57d)</a:t>
            </a:r>
            <a:r>
              <a:rPr b="0" lang="ja-JP" sz="28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43</a:t>
            </a:r>
            <a:r>
              <a:rPr b="0" lang="ja-JP" sz="2800" spc="-1" strike="noStrike">
                <a:solidFill>
                  <a:srgbClr val="009999"/>
                </a:solidFill>
                <a:latin typeface="Arial"/>
                <a:ea typeface="Arial"/>
              </a:rPr>
              <a:t>N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+ gamma (in few 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baseline="30000">
                <a:solidFill>
                  <a:srgbClr val="cc00cc"/>
                </a:solidFill>
                <a:latin typeface="Arial"/>
                <a:ea typeface="Arial"/>
              </a:rPr>
              <a:t>135</a:t>
            </a:r>
            <a:r>
              <a:rPr b="0" lang="ja-JP" sz="2800" spc="-1" strike="noStrike">
                <a:solidFill>
                  <a:srgbClr val="cc00cc"/>
                </a:solidFill>
                <a:latin typeface="Arial"/>
                <a:ea typeface="Arial"/>
              </a:rPr>
              <a:t>C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Be →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4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Pr(Ex=0.433MeV) → </a:t>
            </a:r>
            <a:r>
              <a:rPr b="0" lang="ja-JP" sz="28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43</a:t>
            </a:r>
            <a:r>
              <a:rPr b="0" lang="ja-JP" sz="2800" spc="-1" strike="noStrike">
                <a:solidFill>
                  <a:srgbClr val="009999"/>
                </a:solidFill>
                <a:latin typeface="Arial"/>
                <a:ea typeface="Arial"/>
              </a:rPr>
              <a:t>Nd(s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Be 47.6MeV KE mostly goes to Pr 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00"/>
                </a:solidFill>
                <a:latin typeface="Arial"/>
                <a:ea typeface="Arial"/>
              </a:rPr>
              <a:t>Gamma-lines: 57.3, 293.2, 35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00"/>
                </a:solidFill>
                <a:latin typeface="Arial"/>
                <a:ea typeface="Arial"/>
              </a:rPr>
              <a:t>Need to detect 48.03MeV gam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Cs: 100 beta-decay (2.3E6 y) to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250920" y="1268280"/>
            <a:ext cx="86421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648-CA47-45FD-A297-03BE812E36C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mutation of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99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baseline="30000">
                <a:solidFill>
                  <a:srgbClr val="cc00cc"/>
                </a:solidFill>
                <a:latin typeface="Arial"/>
              </a:rPr>
              <a:t>99</a:t>
            </a:r>
            <a:r>
              <a:rPr b="0" lang="ja-JP" sz="3200" spc="-1" strike="noStrike">
                <a:solidFill>
                  <a:srgbClr val="cc00cc"/>
                </a:solidFill>
                <a:latin typeface="Arial"/>
              </a:rPr>
              <a:t>T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7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Ag(Ex=6.02MeV) → </a:t>
            </a:r>
            <a:r>
              <a:rPr b="0" lang="ja-JP" sz="32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07</a:t>
            </a:r>
            <a:r>
              <a:rPr b="0" lang="ja-JP" sz="3200" spc="-1" strike="noStrike">
                <a:solidFill>
                  <a:srgbClr val="009999"/>
                </a:solidFill>
                <a:latin typeface="Arial"/>
                <a:ea typeface="Arial"/>
              </a:rPr>
              <a:t>Ag(s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baseline="30000">
                <a:solidFill>
                  <a:srgbClr val="cc00cc"/>
                </a:solidFill>
                <a:latin typeface="Arial"/>
                <a:ea typeface="Arial"/>
              </a:rPr>
              <a:t>99</a:t>
            </a:r>
            <a:r>
              <a:rPr b="0" lang="ja-JP" sz="3200" spc="-1" strike="noStrike">
                <a:solidFill>
                  <a:srgbClr val="cc00cc"/>
                </a:solidFill>
                <a:latin typeface="Arial"/>
                <a:ea typeface="Arial"/>
              </a:rPr>
              <a:t>T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 + 4D → 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7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Ag(Ex=53.6MeV)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Fission-Products (in 10 fs)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9999"/>
                </a:solidFill>
                <a:latin typeface="Arial"/>
                <a:ea typeface="Arial"/>
              </a:rPr>
              <a:t>   </a:t>
            </a:r>
            <a:r>
              <a:rPr b="0" lang="ja-JP" sz="32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07</a:t>
            </a:r>
            <a:r>
              <a:rPr b="0" lang="ja-JP" sz="3200" spc="-1" strike="noStrike">
                <a:solidFill>
                  <a:srgbClr val="009999"/>
                </a:solidFill>
                <a:latin typeface="Arial"/>
                <a:ea typeface="Arial"/>
              </a:rPr>
              <a:t>Ag(stable)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+ gammas (in few 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Gamma-lines: 32.4, 93.1, 98.2, 324.8, 423.1 (k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9900"/>
                </a:solidFill>
                <a:latin typeface="Arial"/>
                <a:ea typeface="Arial"/>
              </a:rPr>
              <a:t>Need to detect 53.6MeV gam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324000" y="1268280"/>
            <a:ext cx="856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7B0-97BD-41C1-84EA-45376C7DEAC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8" name=""/>
          <p:cNvGrpSpPr/>
          <p:nvPr/>
        </p:nvGrpSpPr>
        <p:grpSpPr>
          <a:xfrm>
            <a:off x="1062000" y="1224000"/>
            <a:ext cx="3375000" cy="4284360"/>
            <a:chOff x="1062000" y="1224000"/>
            <a:chExt cx="3375000" cy="4284360"/>
          </a:xfrm>
        </p:grpSpPr>
        <p:sp>
          <p:nvSpPr>
            <p:cNvPr id="2529" name=""/>
            <p:cNvSpPr/>
            <p:nvPr/>
          </p:nvSpPr>
          <p:spPr>
            <a:xfrm>
              <a:off x="1287720" y="2393640"/>
              <a:ext cx="0" cy="22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3583080" y="2393640"/>
              <a:ext cx="0" cy="22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287720" y="2393640"/>
              <a:ext cx="22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287720" y="4689000"/>
              <a:ext cx="22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917720" y="2077920"/>
              <a:ext cx="0" cy="22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4213440" y="2077920"/>
              <a:ext cx="0" cy="22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917720" y="4373280"/>
              <a:ext cx="229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917720" y="2077920"/>
              <a:ext cx="229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V="1">
              <a:off x="1287720" y="2077920"/>
              <a:ext cx="63000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V="1">
              <a:off x="1287720" y="4373280"/>
              <a:ext cx="67464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V="1">
              <a:off x="3583080" y="4373280"/>
              <a:ext cx="63036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V="1">
              <a:off x="3583080" y="2077920"/>
              <a:ext cx="63036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2637000" y="2168280"/>
              <a:ext cx="17928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2683080" y="4419360"/>
              <a:ext cx="17928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1827360" y="1989000"/>
              <a:ext cx="17928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197000" y="2303280"/>
              <a:ext cx="17928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197000" y="4598640"/>
              <a:ext cx="17928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492720" y="4598640"/>
              <a:ext cx="17928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492720" y="2303280"/>
              <a:ext cx="17928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827360" y="4284360"/>
              <a:ext cx="17928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122720" y="4284360"/>
              <a:ext cx="17964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4122720" y="1989000"/>
              <a:ext cx="17964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513080" y="3293640"/>
              <a:ext cx="179280" cy="1792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3808440" y="3293640"/>
              <a:ext cx="179280" cy="1792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322720" y="3473280"/>
              <a:ext cx="17928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2952720" y="3114360"/>
              <a:ext cx="17964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 flipH="1">
              <a:off x="1692360" y="2303280"/>
              <a:ext cx="990720" cy="1034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692360" y="3428640"/>
              <a:ext cx="1035000" cy="1034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2773440" y="2303280"/>
              <a:ext cx="1079640" cy="1034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 flipH="1">
              <a:off x="2862360" y="3428640"/>
              <a:ext cx="990720" cy="99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648080" y="3384360"/>
              <a:ext cx="718920" cy="178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2413080" y="3654000"/>
              <a:ext cx="360360" cy="765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V="1">
              <a:off x="1692360" y="3203280"/>
              <a:ext cx="1305000" cy="1807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087720" y="3203280"/>
              <a:ext cx="809640" cy="1807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H="1">
              <a:off x="2412720" y="2303280"/>
              <a:ext cx="314280" cy="1215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727360" y="2303280"/>
              <a:ext cx="316080" cy="85536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>
              <a:off x="2818080" y="3293640"/>
              <a:ext cx="225360" cy="112536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062000" y="3249360"/>
              <a:ext cx="40500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2278080" y="4508280"/>
              <a:ext cx="40500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422360" y="4328640"/>
              <a:ext cx="40500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1422360" y="2033280"/>
              <a:ext cx="40500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2862360" y="1898280"/>
              <a:ext cx="40464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2187720" y="2214360"/>
              <a:ext cx="40464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3357720" y="3293640"/>
              <a:ext cx="40464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3718080" y="4328640"/>
              <a:ext cx="40464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032360" y="3024000"/>
              <a:ext cx="40464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2908440" y="4149360"/>
              <a:ext cx="40464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737000" y="3024000"/>
              <a:ext cx="40464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3672000" y="2033280"/>
              <a:ext cx="40464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548080" y="3159000"/>
              <a:ext cx="404640" cy="405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V="1">
              <a:off x="1692360" y="3024000"/>
              <a:ext cx="316080" cy="313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V="1">
              <a:off x="2818080" y="4103280"/>
              <a:ext cx="360360" cy="36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V="1">
              <a:off x="1692360" y="3293280"/>
              <a:ext cx="585720" cy="9036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V="1">
              <a:off x="2502000" y="3473280"/>
              <a:ext cx="855720" cy="9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3087720" y="1537560"/>
              <a:ext cx="13500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V="1">
              <a:off x="1917720" y="1628640"/>
              <a:ext cx="44640" cy="31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1515960" y="131400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912040" y="122400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llad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H="1">
              <a:off x="1602000" y="3428640"/>
              <a:ext cx="107928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153440" y="514008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9" name=""/>
          <p:cNvSpPr/>
          <p:nvPr/>
        </p:nvSpPr>
        <p:spPr>
          <a:xfrm>
            <a:off x="1245240" y="458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dD Lattice with v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1015920" y="5904000"/>
            <a:ext cx="3286080" cy="45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6d/O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5021280" y="1197000"/>
            <a:ext cx="3600360" cy="431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oid formation inPdD lat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ormation of 6d/OSC a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oid at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queezing motion to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Formation of e*(6,6)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rthogonal coupling of th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oper pairs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-dim rectangular ax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5003640" y="5661000"/>
            <a:ext cx="360072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ctahedr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(p, q) = (3,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911-0C86-4B7F-8707-A03968941CD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3" name=""/>
          <p:cNvGrpSpPr/>
          <p:nvPr/>
        </p:nvGrpSpPr>
        <p:grpSpPr>
          <a:xfrm>
            <a:off x="1467360" y="927000"/>
            <a:ext cx="3177720" cy="4733640"/>
            <a:chOff x="1467360" y="927000"/>
            <a:chExt cx="3177720" cy="4733640"/>
          </a:xfrm>
        </p:grpSpPr>
        <p:grpSp>
          <p:nvGrpSpPr>
            <p:cNvPr id="2594" name=""/>
            <p:cNvGrpSpPr/>
            <p:nvPr/>
          </p:nvGrpSpPr>
          <p:grpSpPr>
            <a:xfrm>
              <a:off x="1547640" y="1989000"/>
              <a:ext cx="3097440" cy="3671640"/>
              <a:chOff x="1547640" y="1989000"/>
              <a:chExt cx="3097440" cy="3671640"/>
            </a:xfrm>
          </p:grpSpPr>
          <p:sp>
            <p:nvSpPr>
              <p:cNvPr id="2595" name=""/>
              <p:cNvSpPr/>
              <p:nvPr/>
            </p:nvSpPr>
            <p:spPr>
              <a:xfrm flipH="1">
                <a:off x="2700360" y="3697200"/>
                <a:ext cx="169920" cy="59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2700360" y="4290840"/>
                <a:ext cx="169920" cy="48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 flipV="1">
                <a:off x="2700360" y="4074840"/>
                <a:ext cx="180000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1692000" y="4074840"/>
                <a:ext cx="100836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132000" y="2635200"/>
                <a:ext cx="432000" cy="122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flipV="1">
                <a:off x="1692000" y="3858840"/>
                <a:ext cx="187200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3564000" y="3858840"/>
                <a:ext cx="93636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 flipH="1">
                <a:off x="3132000" y="3858840"/>
                <a:ext cx="432000" cy="165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2151000" y="5047920"/>
                <a:ext cx="674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2124000" y="306684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4086000" y="4282920"/>
                <a:ext cx="0" cy="71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V="1">
                <a:off x="2106360" y="3066480"/>
                <a:ext cx="0" cy="539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2124000" y="3066840"/>
                <a:ext cx="863640" cy="1440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2987640" y="4506840"/>
                <a:ext cx="1081080" cy="504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2124000" y="4506840"/>
                <a:ext cx="863640" cy="504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 flipV="1">
                <a:off x="2987640" y="3066840"/>
                <a:ext cx="1081080" cy="1440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2124000" y="3066840"/>
                <a:ext cx="1079640" cy="504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3681360" y="4371840"/>
                <a:ext cx="387360" cy="639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V="1">
                <a:off x="3203640" y="3066840"/>
                <a:ext cx="865080" cy="504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2124000" y="4552200"/>
                <a:ext cx="341280" cy="459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2987640" y="249048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547640" y="393192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987640" y="537192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4356000" y="393192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3419280" y="371448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2016000" y="4913280"/>
                <a:ext cx="216000" cy="215640"/>
              </a:xfrm>
              <a:prstGeom prst="ellipse">
                <a:avLst/>
              </a:prstGeom>
              <a:gradFill rotWithShape="0">
                <a:gsLst>
                  <a:gs pos="0">
                    <a:srgbClr val="fbfda1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2016000" y="297792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bfda1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3095640" y="3427200"/>
                <a:ext cx="215640" cy="216000"/>
              </a:xfrm>
              <a:prstGeom prst="ellipse">
                <a:avLst/>
              </a:prstGeom>
              <a:gradFill rotWithShape="0">
                <a:gsLst>
                  <a:gs pos="0">
                    <a:srgbClr val="fbfda1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3951360" y="2977920"/>
                <a:ext cx="215640" cy="216000"/>
              </a:xfrm>
              <a:prstGeom prst="ellipse">
                <a:avLst/>
              </a:prstGeom>
              <a:gradFill rotWithShape="0">
                <a:gsLst>
                  <a:gs pos="0">
                    <a:srgbClr val="fbfda1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2870280" y="4371840"/>
                <a:ext cx="215640" cy="216000"/>
              </a:xfrm>
              <a:prstGeom prst="ellipse">
                <a:avLst/>
              </a:prstGeom>
              <a:gradFill rotWithShape="0">
                <a:gsLst>
                  <a:gs pos="0">
                    <a:srgbClr val="fbfda1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3951360" y="4957560"/>
                <a:ext cx="215640" cy="216000"/>
              </a:xfrm>
              <a:prstGeom prst="ellipse">
                <a:avLst/>
              </a:prstGeom>
              <a:gradFill rotWithShape="0">
                <a:gsLst>
                  <a:gs pos="0">
                    <a:srgbClr val="fbfda1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H="1" flipV="1">
                <a:off x="3499920" y="4057200"/>
                <a:ext cx="181080" cy="314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3230640" y="3606480"/>
                <a:ext cx="269640" cy="451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2106360" y="3562200"/>
                <a:ext cx="0" cy="900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2106360" y="4462200"/>
                <a:ext cx="0" cy="451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646360" y="3066840"/>
                <a:ext cx="853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3500280" y="3066840"/>
                <a:ext cx="451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V="1">
                <a:off x="4086000" y="3652200"/>
                <a:ext cx="0" cy="63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V="1">
                <a:off x="4086000" y="3201840"/>
                <a:ext cx="0" cy="450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 flipV="1">
                <a:off x="2960280" y="5001480"/>
                <a:ext cx="13500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H="1" flipV="1">
                <a:off x="2869920" y="4776480"/>
                <a:ext cx="90360" cy="22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flipV="1">
                <a:off x="2465280" y="4012560"/>
                <a:ext cx="405000" cy="539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V="1">
                <a:off x="2870280" y="3606120"/>
                <a:ext cx="315720" cy="406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555640" y="414792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825640" y="5047920"/>
                <a:ext cx="405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230640" y="5047920"/>
                <a:ext cx="765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flipV="1">
                <a:off x="1746000" y="3471480"/>
                <a:ext cx="495360" cy="49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V="1">
                <a:off x="2600280" y="2706480"/>
                <a:ext cx="406440" cy="40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V="1">
                <a:off x="2241360" y="3112920"/>
                <a:ext cx="358920" cy="35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3230640" y="2752560"/>
                <a:ext cx="404640" cy="40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H="1" flipV="1">
                <a:off x="3951000" y="3471480"/>
                <a:ext cx="448920" cy="49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635280" y="3157200"/>
                <a:ext cx="316080" cy="314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V="1">
                <a:off x="3230640" y="5047560"/>
                <a:ext cx="36036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flipH="1">
                <a:off x="4130280" y="4192200"/>
                <a:ext cx="269640" cy="31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3590640" y="4506840"/>
                <a:ext cx="539640" cy="54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H="1" flipV="1">
                <a:off x="2599920" y="5047560"/>
                <a:ext cx="40644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1746000" y="4192200"/>
                <a:ext cx="36036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2106360" y="4552560"/>
                <a:ext cx="493920" cy="49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H="1">
                <a:off x="3006360" y="2796840"/>
                <a:ext cx="88920" cy="40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2869920" y="3201840"/>
                <a:ext cx="136440" cy="49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2692080" y="1989000"/>
                <a:ext cx="108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uter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H="1" flipV="1">
                <a:off x="3006360" y="2257200"/>
                <a:ext cx="8892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1610640" y="2438280"/>
                <a:ext cx="1017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lectr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ent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 flipH="1" flipV="1">
                <a:off x="2015640" y="2706480"/>
                <a:ext cx="90360" cy="27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9" name=""/>
            <p:cNvSpPr/>
            <p:nvPr/>
          </p:nvSpPr>
          <p:spPr>
            <a:xfrm>
              <a:off x="1467360" y="92700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d/O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0" name=""/>
          <p:cNvSpPr/>
          <p:nvPr/>
        </p:nvSpPr>
        <p:spPr>
          <a:xfrm>
            <a:off x="755640" y="189000"/>
            <a:ext cx="698508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ahedral Symmetric Condensate; 6d/O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5435640" y="1197000"/>
            <a:ext cx="331308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ix deuterons sit on head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gular octahed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ix electrons sit on head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gular octahedr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oth octahedrons cou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thogonally (Cuboctahed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e*(6,6): orthogonal coup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of three Cooper pair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3-dim rectangular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9999"/>
                </a:solidFill>
                <a:latin typeface="Arial"/>
              </a:rPr>
              <a:t>M(A, Z) + 6D (</a:t>
            </a:r>
            <a:r>
              <a:rPr b="0" lang="ja-JP" sz="1800" spc="-1" strike="noStrike" baseline="30000">
                <a:solidFill>
                  <a:srgbClr val="009999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009999"/>
                </a:solidFill>
                <a:latin typeface="Arial"/>
              </a:rPr>
              <a:t>C* ) cap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9999"/>
                </a:solidFill>
                <a:latin typeface="Arial"/>
              </a:rPr>
              <a:t>Process to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9999"/>
                </a:solidFill>
                <a:latin typeface="Arial"/>
              </a:rPr>
              <a:t>M(A+12, Z+6) transm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baseline="30000">
                <a:solidFill>
                  <a:srgbClr val="333399"/>
                </a:solidFill>
                <a:latin typeface="Arial"/>
              </a:rPr>
              <a:t>137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Ba to </a:t>
            </a:r>
            <a:r>
              <a:rPr b="0" lang="ja-JP" sz="1800" spc="-1" strike="noStrike" baseline="30000">
                <a:solidFill>
                  <a:srgbClr val="333399"/>
                </a:solidFill>
                <a:latin typeface="Arial"/>
              </a:rPr>
              <a:t>149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Sm by Iwamura Ex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3CDE-7474-46E2-BFB1-10E7435AFBA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3152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910c6"/>
                </a:solidFill>
                <a:latin typeface="Arial"/>
              </a:rPr>
              <a:t>Selective Transmutation by Iwamura et al. (MHI):</a:t>
            </a:r>
            <a:br>
              <a:rPr sz="3800"/>
            </a:br>
            <a:r>
              <a:rPr b="0" lang="en-US" sz="3800" spc="-1" strike="noStrike">
                <a:solidFill>
                  <a:srgbClr val="1910c6"/>
                </a:solidFill>
                <a:latin typeface="Arial"/>
              </a:rPr>
              <a:t>JJAP, 41(2002)46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14400" y="1828800"/>
          <a:ext cx="3695760" cy="25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369576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724280" y="1828800"/>
          <a:ext cx="3695760" cy="256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828800"/>
                    <a:ext cx="369576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826920" y="1700280"/>
            <a:ext cx="7772400" cy="0"/>
          </a:xfrm>
          <a:prstGeom prst="line">
            <a:avLst/>
          </a:prstGeom>
          <a:ln w="57240">
            <a:solidFill>
              <a:srgbClr val="c44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4572000"/>
            <a:ext cx="3657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42c1"/>
                </a:solidFill>
                <a:latin typeface="Tahoma"/>
              </a:rPr>
              <a:t>D perme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42c1"/>
                </a:solidFill>
                <a:latin typeface="Tahoma"/>
              </a:rPr>
              <a:t>through Pd compl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c442c1"/>
                </a:solidFill>
                <a:latin typeface="Tahoma"/>
              </a:rPr>
              <a:t>133</a:t>
            </a:r>
            <a:r>
              <a:rPr b="0" lang="en-US" sz="3000" spc="-1" strike="noStrike">
                <a:solidFill>
                  <a:srgbClr val="c442c1"/>
                </a:solidFill>
                <a:latin typeface="Tahoma"/>
              </a:rPr>
              <a:t>Cs to </a:t>
            </a:r>
            <a:r>
              <a:rPr b="0" lang="en-US" sz="3000" spc="-1" strike="noStrike" baseline="30000">
                <a:solidFill>
                  <a:srgbClr val="c442c1"/>
                </a:solidFill>
                <a:latin typeface="Tahoma"/>
              </a:rPr>
              <a:t>141</a:t>
            </a:r>
            <a:r>
              <a:rPr b="0" lang="en-US" sz="3000" spc="-1" strike="noStrike">
                <a:solidFill>
                  <a:srgbClr val="c442c1"/>
                </a:solidFill>
                <a:latin typeface="Tahoma"/>
              </a:rPr>
              <a:t>P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457200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910c6"/>
                </a:solidFill>
                <a:latin typeface="Tahoma"/>
              </a:rPr>
              <a:t>H perme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910c6"/>
                </a:solidFill>
                <a:latin typeface="Tahoma"/>
              </a:rPr>
              <a:t>through Pd compl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910c6"/>
                </a:solidFill>
                <a:latin typeface="Tahoma"/>
              </a:rPr>
              <a:t>NO 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6381720"/>
            <a:ext cx="84247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produced at Osaka U., and many times at MH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855-F9B5-49A8-A169-C929B93044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896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Cuboctahed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76280" y="167292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4" name=""/>
          <p:cNvGrpSpPr/>
          <p:nvPr/>
        </p:nvGrpSpPr>
        <p:grpSpPr>
          <a:xfrm>
            <a:off x="2097000" y="2170080"/>
            <a:ext cx="3267720" cy="3059280"/>
            <a:chOff x="2097000" y="2170080"/>
            <a:chExt cx="3267720" cy="3059280"/>
          </a:xfrm>
        </p:grpSpPr>
        <p:sp>
          <p:nvSpPr>
            <p:cNvPr id="2665" name=""/>
            <p:cNvSpPr/>
            <p:nvPr/>
          </p:nvSpPr>
          <p:spPr>
            <a:xfrm>
              <a:off x="2185920" y="4194000"/>
              <a:ext cx="946080" cy="9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997360" y="3249720"/>
              <a:ext cx="944280" cy="9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 flipV="1">
              <a:off x="2185920" y="3249360"/>
              <a:ext cx="811440" cy="9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H="1">
              <a:off x="3132000" y="4194000"/>
              <a:ext cx="811440" cy="9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906640" y="3878280"/>
              <a:ext cx="900360" cy="90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3762360" y="2933640"/>
              <a:ext cx="853920" cy="854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 flipV="1">
              <a:off x="2906640" y="2889000"/>
              <a:ext cx="855720" cy="98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3807000" y="3789000"/>
              <a:ext cx="809280" cy="98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V="1">
              <a:off x="2997360" y="3068280"/>
              <a:ext cx="126036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V="1">
              <a:off x="3941640" y="3068640"/>
              <a:ext cx="316080" cy="11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2502000" y="2889360"/>
              <a:ext cx="126036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502000" y="3068640"/>
              <a:ext cx="49536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762360" y="2889360"/>
              <a:ext cx="49536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V="1">
              <a:off x="3132000" y="4914720"/>
              <a:ext cx="116856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V="1">
              <a:off x="2637000" y="4778280"/>
              <a:ext cx="1214280" cy="225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 flipH="1">
              <a:off x="2185920" y="3068640"/>
              <a:ext cx="316080" cy="11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807000" y="4778280"/>
              <a:ext cx="495000" cy="136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941640" y="4194000"/>
              <a:ext cx="360360" cy="7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257720" y="3068640"/>
              <a:ext cx="35856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H="1">
              <a:off x="4302000" y="3789360"/>
              <a:ext cx="31608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637000" y="5003640"/>
              <a:ext cx="49500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185920" y="4194000"/>
              <a:ext cx="451080" cy="8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502000" y="3068640"/>
              <a:ext cx="404640" cy="80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 flipH="1">
              <a:off x="2636640" y="3878280"/>
              <a:ext cx="269640" cy="107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672000" y="2798640"/>
              <a:ext cx="179280" cy="1796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716280" y="4689360"/>
              <a:ext cx="179280" cy="1796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097000" y="4103640"/>
              <a:ext cx="179640" cy="1792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906640" y="3159000"/>
              <a:ext cx="179640" cy="1796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527720" y="3699000"/>
              <a:ext cx="179280" cy="1792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041640" y="5049720"/>
              <a:ext cx="179280" cy="1796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2411280" y="2933640"/>
              <a:ext cx="270000" cy="27000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807000" y="4059360"/>
              <a:ext cx="269640" cy="26964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122720" y="2933640"/>
              <a:ext cx="270000" cy="27000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502000" y="4869000"/>
              <a:ext cx="269640" cy="26964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771640" y="3743280"/>
              <a:ext cx="270000" cy="27000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167360" y="4778280"/>
              <a:ext cx="269640" cy="27000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347360" y="24400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V="1">
              <a:off x="4392720" y="2708280"/>
              <a:ext cx="404640" cy="2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908080" y="217008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H="1" flipV="1">
              <a:off x="3446280" y="2484000"/>
              <a:ext cx="26964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5" name=""/>
          <p:cNvSpPr/>
          <p:nvPr/>
        </p:nvSpPr>
        <p:spPr>
          <a:xfrm>
            <a:off x="2987640" y="981000"/>
            <a:ext cx="295272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, q, p, q) = (3, 4, 3,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8C6D-58C1-49DA-AF38-85A5716AAD9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6" name=""/>
          <p:cNvGrpSpPr/>
          <p:nvPr/>
        </p:nvGrpSpPr>
        <p:grpSpPr>
          <a:xfrm>
            <a:off x="1692000" y="2393640"/>
            <a:ext cx="2294280" cy="2340360"/>
            <a:chOff x="1692000" y="2393640"/>
            <a:chExt cx="2294280" cy="2340360"/>
          </a:xfrm>
        </p:grpSpPr>
        <p:sp>
          <p:nvSpPr>
            <p:cNvPr id="2707" name=""/>
            <p:cNvSpPr/>
            <p:nvPr/>
          </p:nvSpPr>
          <p:spPr>
            <a:xfrm flipH="1">
              <a:off x="2231640" y="2889360"/>
              <a:ext cx="405000" cy="6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637000" y="2889360"/>
              <a:ext cx="720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232000" y="3564000"/>
              <a:ext cx="49536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3357720" y="3068640"/>
              <a:ext cx="88920" cy="76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V="1">
              <a:off x="2727360" y="3833640"/>
              <a:ext cx="719280" cy="3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727360" y="414972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 flipH="1">
              <a:off x="1692000" y="3564000"/>
              <a:ext cx="53964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692360" y="3699000"/>
              <a:ext cx="314280" cy="6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006640" y="437364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V="1">
              <a:off x="2727360" y="4598640"/>
              <a:ext cx="71928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3446640" y="4059000"/>
              <a:ext cx="45072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446640" y="3833640"/>
              <a:ext cx="450720" cy="2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 flipV="1">
              <a:off x="3897360" y="3384720"/>
              <a:ext cx="88920" cy="6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H="1" flipV="1">
              <a:off x="3762360" y="2754000"/>
              <a:ext cx="223920" cy="6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 flipV="1">
              <a:off x="3357720" y="2754000"/>
              <a:ext cx="40464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 flipH="1" flipV="1">
              <a:off x="3131640" y="2393640"/>
              <a:ext cx="6289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H="1" flipV="1">
              <a:off x="2410920" y="2437920"/>
              <a:ext cx="22572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V="1">
              <a:off x="2411280" y="2393640"/>
              <a:ext cx="72072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V="1">
              <a:off x="1692360" y="2933640"/>
              <a:ext cx="13500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 flipV="1">
              <a:off x="1827360" y="2438280"/>
              <a:ext cx="58392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 flipV="1">
              <a:off x="2185920" y="3114720"/>
              <a:ext cx="630360" cy="27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 flipV="1">
              <a:off x="2816280" y="2394000"/>
              <a:ext cx="270000" cy="674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 flipH="1" flipV="1">
              <a:off x="1827360" y="2933280"/>
              <a:ext cx="358560" cy="45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 flipH="1" flipV="1">
              <a:off x="2185920" y="3384360"/>
              <a:ext cx="46080" cy="71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 flipV="1">
              <a:off x="2006640" y="4059000"/>
              <a:ext cx="270000" cy="314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276640" y="4103640"/>
              <a:ext cx="585720" cy="135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 flipV="1">
              <a:off x="2862360" y="3654000"/>
              <a:ext cx="314280" cy="584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816280" y="3114720"/>
              <a:ext cx="360360" cy="53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2862360" y="4238640"/>
              <a:ext cx="58428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 flipV="1">
              <a:off x="3176640" y="3384360"/>
              <a:ext cx="809640" cy="269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7" name=""/>
          <p:cNvGrpSpPr/>
          <p:nvPr/>
        </p:nvGrpSpPr>
        <p:grpSpPr>
          <a:xfrm>
            <a:off x="4887720" y="1630440"/>
            <a:ext cx="2473560" cy="3787560"/>
            <a:chOff x="4887720" y="1630440"/>
            <a:chExt cx="2473560" cy="3787560"/>
          </a:xfrm>
        </p:grpSpPr>
        <p:sp>
          <p:nvSpPr>
            <p:cNvPr id="2738" name=""/>
            <p:cNvSpPr/>
            <p:nvPr/>
          </p:nvSpPr>
          <p:spPr>
            <a:xfrm>
              <a:off x="5607000" y="3519360"/>
              <a:ext cx="495360" cy="58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067360" y="3654360"/>
              <a:ext cx="314280" cy="6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381640" y="432900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 flipV="1">
              <a:off x="6102360" y="4554000"/>
              <a:ext cx="71928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V="1">
              <a:off x="6821640" y="4014360"/>
              <a:ext cx="45072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 flipV="1">
              <a:off x="7272360" y="3340080"/>
              <a:ext cx="88920" cy="6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H="1" flipV="1">
              <a:off x="7137360" y="2709360"/>
              <a:ext cx="223920" cy="6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H="1" flipV="1">
              <a:off x="6506640" y="2349000"/>
              <a:ext cx="6289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V="1">
              <a:off x="5786280" y="2349360"/>
              <a:ext cx="72072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 flipV="1">
              <a:off x="5067360" y="2889000"/>
              <a:ext cx="135000" cy="76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V="1">
              <a:off x="5202360" y="2394000"/>
              <a:ext cx="58392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V="1">
              <a:off x="5560920" y="3070080"/>
              <a:ext cx="630360" cy="27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V="1">
              <a:off x="6191280" y="2349000"/>
              <a:ext cx="270000" cy="675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 flipH="1" flipV="1">
              <a:off x="5202360" y="2889360"/>
              <a:ext cx="358560" cy="45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 flipH="1" flipV="1">
              <a:off x="5560920" y="3340080"/>
              <a:ext cx="4608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 flipV="1">
              <a:off x="5381640" y="4014360"/>
              <a:ext cx="270000" cy="314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651640" y="4059360"/>
              <a:ext cx="585720" cy="134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 flipV="1">
              <a:off x="6237360" y="3610080"/>
              <a:ext cx="314280" cy="583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191280" y="3070080"/>
              <a:ext cx="360360" cy="54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237360" y="4194000"/>
              <a:ext cx="58428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 flipV="1">
              <a:off x="6551640" y="3340080"/>
              <a:ext cx="809640" cy="27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877000" y="3473280"/>
              <a:ext cx="360360" cy="35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337000" y="288936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058080" y="324972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427720" y="3833640"/>
              <a:ext cx="360360" cy="35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551640" y="28432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237360" y="2438280"/>
              <a:ext cx="406440" cy="40500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642000" y="3743280"/>
              <a:ext cx="360360" cy="35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867360" y="3159000"/>
              <a:ext cx="406440" cy="40500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372360" y="4059360"/>
              <a:ext cx="406440" cy="40464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157720" y="3429000"/>
              <a:ext cx="406440" cy="40464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786280" y="4149720"/>
              <a:ext cx="406440" cy="40464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651640" y="2573280"/>
              <a:ext cx="406440" cy="40500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786280" y="2394000"/>
              <a:ext cx="22572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V="1">
              <a:off x="5607000" y="2843280"/>
              <a:ext cx="40500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012000" y="2843280"/>
              <a:ext cx="72072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 flipH="1">
              <a:off x="6732720" y="2708280"/>
              <a:ext cx="404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 flipV="1">
              <a:off x="5067360" y="3519000"/>
              <a:ext cx="53964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102360" y="410364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 flipV="1">
              <a:off x="6102360" y="3833640"/>
              <a:ext cx="71928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732720" y="3068640"/>
              <a:ext cx="88920" cy="76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821640" y="3833640"/>
              <a:ext cx="450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5516640" y="3249720"/>
              <a:ext cx="46080" cy="62856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732720" y="3203640"/>
              <a:ext cx="44280" cy="53964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5786280" y="3924000"/>
              <a:ext cx="900360" cy="9036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V="1">
              <a:off x="5697360" y="3024000"/>
              <a:ext cx="854280" cy="4428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562720" y="3114720"/>
              <a:ext cx="630000" cy="27000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V="1">
              <a:off x="5651640" y="3472920"/>
              <a:ext cx="541080" cy="45108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281640" y="3473280"/>
              <a:ext cx="495360" cy="36036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 flipV="1">
              <a:off x="6327720" y="3068640"/>
              <a:ext cx="314280" cy="27000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5607000" y="3249720"/>
              <a:ext cx="360360" cy="314280"/>
            </a:xfrm>
            <a:prstGeom prst="line">
              <a:avLst/>
            </a:prstGeom>
            <a:ln w="1908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 flipH="1" flipV="1">
              <a:off x="6102000" y="3699000"/>
              <a:ext cx="539640" cy="134640"/>
            </a:xfrm>
            <a:prstGeom prst="line">
              <a:avLst/>
            </a:prstGeom>
            <a:ln w="1908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5742000" y="3699000"/>
              <a:ext cx="225360" cy="179280"/>
            </a:xfrm>
            <a:prstGeom prst="line">
              <a:avLst/>
            </a:prstGeom>
            <a:ln w="1908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>
              <a:off x="6416280" y="3159000"/>
              <a:ext cx="181080" cy="179640"/>
            </a:xfrm>
            <a:prstGeom prst="line">
              <a:avLst/>
            </a:prstGeom>
            <a:ln w="1908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 flipH="1">
              <a:off x="5921280" y="2664000"/>
              <a:ext cx="316080" cy="90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H="1">
              <a:off x="6057720" y="4284720"/>
              <a:ext cx="314280" cy="44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 flipH="1" flipV="1">
              <a:off x="5741640" y="4103280"/>
              <a:ext cx="135000" cy="135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427720" y="3789360"/>
              <a:ext cx="44280" cy="44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5472000" y="3654360"/>
              <a:ext cx="990720" cy="539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5697000" y="2889360"/>
              <a:ext cx="88920" cy="135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5427720" y="3249360"/>
              <a:ext cx="135000" cy="223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V="1">
              <a:off x="5516640" y="2798640"/>
              <a:ext cx="765000" cy="720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416640" y="2843280"/>
              <a:ext cx="135000" cy="1260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H="1">
              <a:off x="6641640" y="3473280"/>
              <a:ext cx="360360" cy="676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507000" y="2754360"/>
              <a:ext cx="495360" cy="539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6012000" y="2889360"/>
              <a:ext cx="855360" cy="40464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 flipH="1">
              <a:off x="6102000" y="3473280"/>
              <a:ext cx="809640" cy="72072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5877000" y="2933640"/>
              <a:ext cx="90360" cy="1260360"/>
            </a:xfrm>
            <a:prstGeom prst="line">
              <a:avLst/>
            </a:prstGeom>
            <a:ln w="93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6147720" y="163044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6327720" y="1943280"/>
              <a:ext cx="4464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887720" y="185580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5067360" y="2168640"/>
              <a:ext cx="36036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743800" y="504972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d/OS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1" name=""/>
          <p:cNvSpPr/>
          <p:nvPr/>
        </p:nvSpPr>
        <p:spPr>
          <a:xfrm>
            <a:off x="2771640" y="692280"/>
            <a:ext cx="2611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ecahed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2896200" y="121608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, q) = (5,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3117-338C-4586-8AB4-04F06F24DA4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3" name=""/>
          <p:cNvGrpSpPr/>
          <p:nvPr/>
        </p:nvGrpSpPr>
        <p:grpSpPr>
          <a:xfrm>
            <a:off x="792000" y="1989000"/>
            <a:ext cx="3097440" cy="3671640"/>
            <a:chOff x="792000" y="1989000"/>
            <a:chExt cx="3097440" cy="3671640"/>
          </a:xfrm>
        </p:grpSpPr>
        <p:sp>
          <p:nvSpPr>
            <p:cNvPr id="2814" name=""/>
            <p:cNvSpPr/>
            <p:nvPr/>
          </p:nvSpPr>
          <p:spPr>
            <a:xfrm flipH="1">
              <a:off x="1944720" y="3697200"/>
              <a:ext cx="169920" cy="59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1944720" y="4290840"/>
              <a:ext cx="169920" cy="48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V="1">
              <a:off x="1944720" y="4074840"/>
              <a:ext cx="180000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936360" y="4074840"/>
              <a:ext cx="1008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2376360" y="2635200"/>
              <a:ext cx="432000" cy="1223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 flipV="1">
              <a:off x="936360" y="3858840"/>
              <a:ext cx="1872000" cy="216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2808360" y="3858840"/>
              <a:ext cx="936360" cy="216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2376360" y="3858840"/>
              <a:ext cx="432000" cy="1656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1395360" y="5047920"/>
              <a:ext cx="674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1368360" y="3066840"/>
              <a:ext cx="522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3330360" y="4282920"/>
              <a:ext cx="0" cy="718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 flipV="1">
              <a:off x="1350720" y="3066480"/>
              <a:ext cx="0" cy="53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1368360" y="3066840"/>
              <a:ext cx="863640" cy="14400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232000" y="4506840"/>
              <a:ext cx="1081080" cy="5047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 flipV="1">
              <a:off x="1368360" y="4506840"/>
              <a:ext cx="863640" cy="5047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V="1">
              <a:off x="2232000" y="3066840"/>
              <a:ext cx="1081080" cy="14400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1368360" y="3066840"/>
              <a:ext cx="1079640" cy="504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925720" y="4371840"/>
              <a:ext cx="387360" cy="63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 flipV="1">
              <a:off x="2448000" y="3066840"/>
              <a:ext cx="865080" cy="504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 flipV="1">
              <a:off x="1368360" y="4552200"/>
              <a:ext cx="341280" cy="45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232000" y="249048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92000" y="393192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2232000" y="537192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600360" y="393192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2663640" y="371448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1260360" y="491328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1260360" y="2977920"/>
              <a:ext cx="216000" cy="21600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2340000" y="3427200"/>
              <a:ext cx="215640" cy="21600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195720" y="2977920"/>
              <a:ext cx="215640" cy="21600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2114640" y="4371840"/>
              <a:ext cx="215640" cy="21600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3195720" y="4957560"/>
              <a:ext cx="215640" cy="21600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H="1" flipV="1">
              <a:off x="2744280" y="4057200"/>
              <a:ext cx="181080" cy="314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2475000" y="3606480"/>
              <a:ext cx="269640" cy="45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1350720" y="3562200"/>
              <a:ext cx="0" cy="9000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1350720" y="4462200"/>
              <a:ext cx="0" cy="45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1890720" y="3066840"/>
              <a:ext cx="8539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2744640" y="3066840"/>
              <a:ext cx="451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flipV="1">
              <a:off x="3330360" y="3652200"/>
              <a:ext cx="0" cy="6303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V="1">
              <a:off x="3330360" y="3201840"/>
              <a:ext cx="0" cy="45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H="1" flipV="1">
              <a:off x="2204640" y="5001480"/>
              <a:ext cx="13500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 flipH="1" flipV="1">
              <a:off x="2114280" y="4776480"/>
              <a:ext cx="90360" cy="225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 flipV="1">
              <a:off x="1709640" y="4012560"/>
              <a:ext cx="405000" cy="5396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 flipV="1">
              <a:off x="2114640" y="3606120"/>
              <a:ext cx="315720" cy="406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1800000" y="414792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070000" y="5047920"/>
              <a:ext cx="4050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475000" y="5047920"/>
              <a:ext cx="765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990360" y="3471480"/>
              <a:ext cx="495360" cy="49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flipV="1">
              <a:off x="1844640" y="2706480"/>
              <a:ext cx="406440" cy="40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 flipV="1">
              <a:off x="1485720" y="3112920"/>
              <a:ext cx="358920" cy="3585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2475000" y="2752560"/>
              <a:ext cx="404640" cy="40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H="1" flipV="1">
              <a:off x="3195360" y="3471480"/>
              <a:ext cx="448920" cy="49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2879640" y="3157200"/>
              <a:ext cx="316080" cy="3142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V="1">
              <a:off x="2475000" y="5047560"/>
              <a:ext cx="36036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>
              <a:off x="3374640" y="4192200"/>
              <a:ext cx="269640" cy="31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 flipH="1">
              <a:off x="2835000" y="4506840"/>
              <a:ext cx="539640" cy="5410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 flipV="1">
              <a:off x="1844280" y="5047560"/>
              <a:ext cx="40644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990360" y="4192200"/>
              <a:ext cx="36036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350720" y="4552560"/>
              <a:ext cx="493920" cy="495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 flipH="1">
              <a:off x="2250720" y="2796840"/>
              <a:ext cx="8892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 flipH="1">
              <a:off x="2114280" y="3201840"/>
              <a:ext cx="136440" cy="495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936440" y="198900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 flipH="1" flipV="1">
              <a:off x="2250720" y="2257200"/>
              <a:ext cx="8892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855000" y="243828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H="1" flipV="1">
              <a:off x="1260000" y="2706480"/>
              <a:ext cx="90360" cy="2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8" name=""/>
          <p:cNvSpPr/>
          <p:nvPr/>
        </p:nvSpPr>
        <p:spPr>
          <a:xfrm>
            <a:off x="1829160" y="12240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d/O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5428440" y="149400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F = 30 for 6d-O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4257720" y="3743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836640" y="5904000"/>
            <a:ext cx="297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1016280" y="59515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745920" y="622152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6d/OSC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4" name=""/>
          <p:cNvGrpSpPr/>
          <p:nvPr/>
        </p:nvGrpSpPr>
        <p:grpSpPr>
          <a:xfrm>
            <a:off x="5474880" y="2033640"/>
            <a:ext cx="2742120" cy="4375080"/>
            <a:chOff x="5474880" y="2033640"/>
            <a:chExt cx="2742120" cy="4375080"/>
          </a:xfrm>
        </p:grpSpPr>
        <p:sp>
          <p:nvSpPr>
            <p:cNvPr id="2885" name=""/>
            <p:cNvSpPr/>
            <p:nvPr/>
          </p:nvSpPr>
          <p:spPr>
            <a:xfrm flipH="1">
              <a:off x="6584760" y="3646440"/>
              <a:ext cx="12996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6585120" y="4097160"/>
              <a:ext cx="12996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6916680" y="2840040"/>
              <a:ext cx="333360" cy="930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 flipV="1">
              <a:off x="5808600" y="3770280"/>
              <a:ext cx="1441440" cy="163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7250040" y="3770280"/>
              <a:ext cx="720720" cy="163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 flipH="1">
              <a:off x="7002360" y="3924360"/>
              <a:ext cx="225360" cy="853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162840" y="4673520"/>
              <a:ext cx="519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140520" y="3168720"/>
              <a:ext cx="403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651800" y="4092480"/>
              <a:ext cx="0" cy="54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V="1">
              <a:off x="6127920" y="3168720"/>
              <a:ext cx="0" cy="40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6140520" y="3168720"/>
              <a:ext cx="664920" cy="1093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805440" y="4262400"/>
              <a:ext cx="833760" cy="382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V="1">
              <a:off x="6140520" y="4262040"/>
              <a:ext cx="664920" cy="382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V="1">
              <a:off x="6805440" y="3168720"/>
              <a:ext cx="833760" cy="1093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6140520" y="3168720"/>
              <a:ext cx="831960" cy="382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V="1">
              <a:off x="6972480" y="3168360"/>
              <a:ext cx="666720" cy="382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V="1">
              <a:off x="6140520" y="4297320"/>
              <a:ext cx="263520" cy="34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5516640" y="3608280"/>
              <a:ext cx="63000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139160" y="3660840"/>
              <a:ext cx="222120" cy="218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5832360" y="279864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548480" y="4603680"/>
              <a:ext cx="165240" cy="16524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 flipH="1" flipV="1">
              <a:off x="7201080" y="3920760"/>
              <a:ext cx="139680" cy="2379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6993000" y="3578400"/>
              <a:ext cx="20808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127920" y="3544920"/>
              <a:ext cx="0" cy="6825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6127920" y="4227480"/>
              <a:ext cx="0" cy="34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6543720" y="3168720"/>
              <a:ext cx="6573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201080" y="3168720"/>
              <a:ext cx="347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 flipV="1">
              <a:off x="7651800" y="3612960"/>
              <a:ext cx="0" cy="4791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7651800" y="3269880"/>
              <a:ext cx="0" cy="34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 flipH="1" flipV="1">
              <a:off x="6784560" y="4638600"/>
              <a:ext cx="1047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 flipH="1" flipV="1">
              <a:off x="6715080" y="4467240"/>
              <a:ext cx="69840" cy="171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 flipV="1">
              <a:off x="6404040" y="3887640"/>
              <a:ext cx="311040" cy="409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 flipV="1">
              <a:off x="6715080" y="3578040"/>
              <a:ext cx="243000" cy="309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6681960" y="4673520"/>
              <a:ext cx="3110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993000" y="4673520"/>
              <a:ext cx="588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 flipV="1">
              <a:off x="5921280" y="3474720"/>
              <a:ext cx="30960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V="1">
              <a:off x="6507000" y="2893680"/>
              <a:ext cx="314640" cy="30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 flipV="1">
              <a:off x="6230880" y="3203640"/>
              <a:ext cx="276120" cy="2714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6993000" y="2928960"/>
              <a:ext cx="311040" cy="30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 flipV="1">
              <a:off x="7548120" y="3474720"/>
              <a:ext cx="34452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304040" y="3236760"/>
              <a:ext cx="244440" cy="238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 flipV="1">
              <a:off x="6993000" y="4673520"/>
              <a:ext cx="27792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H="1">
              <a:off x="7686360" y="4022640"/>
              <a:ext cx="206280" cy="23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 flipH="1">
              <a:off x="7270560" y="4262400"/>
              <a:ext cx="415800" cy="4111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 flipH="1" flipV="1">
              <a:off x="6507000" y="4673520"/>
              <a:ext cx="31464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5921280" y="4059360"/>
              <a:ext cx="206640" cy="23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127920" y="4297320"/>
              <a:ext cx="379080" cy="3762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 flipH="1">
              <a:off x="6776640" y="2963880"/>
              <a:ext cx="11268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 flipH="1">
              <a:off x="6715080" y="3270240"/>
              <a:ext cx="106560" cy="3762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509880" y="203364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 flipH="1" flipV="1">
              <a:off x="6957720" y="2349000"/>
              <a:ext cx="6804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474880" y="230364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 flipV="1">
              <a:off x="5877000" y="2572920"/>
              <a:ext cx="698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6642000" y="2573280"/>
              <a:ext cx="63036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6597720" y="4643280"/>
              <a:ext cx="63000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586640" y="3608280"/>
              <a:ext cx="63036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958080" y="3473280"/>
              <a:ext cx="63000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5786280" y="428472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7316640" y="279864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316640" y="432900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6597720" y="320364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6462720" y="392436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6281640" y="3743280"/>
              <a:ext cx="63036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5607000" y="5815080"/>
              <a:ext cx="252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329160" y="57690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 f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5652360" y="6040440"/>
              <a:ext cx="22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) Minimum 6d/OS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V="1">
              <a:off x="6777000" y="3968640"/>
              <a:ext cx="944640" cy="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5967360" y="3968640"/>
              <a:ext cx="495360" cy="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642000" y="4238640"/>
              <a:ext cx="225360" cy="53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 flipH="1" flipV="1">
              <a:off x="7137000" y="3833640"/>
              <a:ext cx="360360" cy="586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E701-2A41-4A15-AD73-76105730B96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5" name=""/>
          <p:cNvGrpSpPr/>
          <p:nvPr/>
        </p:nvGrpSpPr>
        <p:grpSpPr>
          <a:xfrm>
            <a:off x="704520" y="1628640"/>
            <a:ext cx="2742120" cy="4375080"/>
            <a:chOff x="704520" y="1628640"/>
            <a:chExt cx="2742120" cy="4375080"/>
          </a:xfrm>
        </p:grpSpPr>
        <p:sp>
          <p:nvSpPr>
            <p:cNvPr id="2956" name=""/>
            <p:cNvSpPr/>
            <p:nvPr/>
          </p:nvSpPr>
          <p:spPr>
            <a:xfrm flipH="1">
              <a:off x="1814400" y="3241440"/>
              <a:ext cx="12996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1814760" y="3692160"/>
              <a:ext cx="12996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2146320" y="2435040"/>
              <a:ext cx="333360" cy="930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 flipV="1">
              <a:off x="1038240" y="3365280"/>
              <a:ext cx="1441440" cy="163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2479680" y="3365280"/>
              <a:ext cx="720720" cy="163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 flipH="1">
              <a:off x="2232000" y="3519360"/>
              <a:ext cx="225360" cy="853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1392480" y="4268520"/>
              <a:ext cx="519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1370160" y="2763720"/>
              <a:ext cx="403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881440" y="3687480"/>
              <a:ext cx="0" cy="54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 flipV="1">
              <a:off x="1357560" y="2763720"/>
              <a:ext cx="0" cy="40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1370160" y="2763720"/>
              <a:ext cx="664920" cy="1093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2035080" y="3857400"/>
              <a:ext cx="833760" cy="382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 flipV="1">
              <a:off x="1370160" y="3857040"/>
              <a:ext cx="664920" cy="382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V="1">
              <a:off x="2035080" y="2763720"/>
              <a:ext cx="833760" cy="1093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1370160" y="2763720"/>
              <a:ext cx="831960" cy="382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 flipV="1">
              <a:off x="2202120" y="2763360"/>
              <a:ext cx="666720" cy="382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 flipV="1">
              <a:off x="1370160" y="3892320"/>
              <a:ext cx="263520" cy="34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746280" y="3203280"/>
              <a:ext cx="63000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2368800" y="3255840"/>
              <a:ext cx="222120" cy="218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1062000" y="239364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2778120" y="4198680"/>
              <a:ext cx="165240" cy="16524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 flipH="1" flipV="1">
              <a:off x="2430720" y="3515760"/>
              <a:ext cx="139680" cy="2379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2222640" y="3173400"/>
              <a:ext cx="20808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1357560" y="3139920"/>
              <a:ext cx="0" cy="6825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1357560" y="3822480"/>
              <a:ext cx="0" cy="34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1773360" y="2763720"/>
              <a:ext cx="6573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2430720" y="2763720"/>
              <a:ext cx="347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 flipV="1">
              <a:off x="2881440" y="3207960"/>
              <a:ext cx="0" cy="4791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 flipV="1">
              <a:off x="2881440" y="2864880"/>
              <a:ext cx="0" cy="34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 flipH="1" flipV="1">
              <a:off x="2014200" y="4233600"/>
              <a:ext cx="1047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 flipH="1" flipV="1">
              <a:off x="1944720" y="4062240"/>
              <a:ext cx="69840" cy="171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 flipV="1">
              <a:off x="1633680" y="3482640"/>
              <a:ext cx="311040" cy="409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 flipV="1">
              <a:off x="1944720" y="3173040"/>
              <a:ext cx="243000" cy="309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1911600" y="4268520"/>
              <a:ext cx="3110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2222640" y="4268520"/>
              <a:ext cx="588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 flipV="1">
              <a:off x="1150920" y="3069720"/>
              <a:ext cx="30960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 flipV="1">
              <a:off x="1736640" y="2488680"/>
              <a:ext cx="314640" cy="30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 flipV="1">
              <a:off x="1460520" y="2798640"/>
              <a:ext cx="276120" cy="2714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2222640" y="2523960"/>
              <a:ext cx="311040" cy="30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 flipH="1" flipV="1">
              <a:off x="2777760" y="3069720"/>
              <a:ext cx="34452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2533680" y="2831760"/>
              <a:ext cx="244440" cy="238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 flipV="1">
              <a:off x="2222640" y="4268520"/>
              <a:ext cx="27792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 flipH="1">
              <a:off x="2916000" y="3617640"/>
              <a:ext cx="206280" cy="23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 flipH="1">
              <a:off x="2500200" y="3857400"/>
              <a:ext cx="415800" cy="4111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H="1" flipV="1">
              <a:off x="1736640" y="4268520"/>
              <a:ext cx="31464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1150920" y="3654360"/>
              <a:ext cx="206640" cy="23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1357560" y="3892320"/>
              <a:ext cx="379080" cy="3762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 flipH="1">
              <a:off x="2006280" y="2558880"/>
              <a:ext cx="11268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 flipH="1">
              <a:off x="1944720" y="2865240"/>
              <a:ext cx="106560" cy="3762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1739520" y="162864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 flipH="1" flipV="1">
              <a:off x="2187360" y="1944000"/>
              <a:ext cx="6804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04520" y="189864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 flipV="1">
              <a:off x="1106640" y="2167920"/>
              <a:ext cx="698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1871640" y="2168280"/>
              <a:ext cx="63036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1827360" y="4238280"/>
              <a:ext cx="63000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2816280" y="3203280"/>
              <a:ext cx="63036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2187720" y="3068280"/>
              <a:ext cx="63000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1015920" y="387972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2546280" y="239364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2546280" y="392400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1827360" y="279864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1692360" y="351936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1511280" y="3338280"/>
              <a:ext cx="63036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36640" y="5410080"/>
              <a:ext cx="252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1558800" y="53640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 f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82000" y="5635440"/>
              <a:ext cx="22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) Minimum 6d/OS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 flipV="1">
              <a:off x="2006640" y="3563640"/>
              <a:ext cx="944640" cy="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1197000" y="3563640"/>
              <a:ext cx="495360" cy="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1871640" y="3833640"/>
              <a:ext cx="225360" cy="53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H="1" flipV="1">
              <a:off x="2366640" y="3428640"/>
              <a:ext cx="360360" cy="586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6" name=""/>
          <p:cNvSpPr/>
          <p:nvPr/>
        </p:nvSpPr>
        <p:spPr>
          <a:xfrm>
            <a:off x="3986280" y="3924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7" name=""/>
          <p:cNvGrpSpPr/>
          <p:nvPr/>
        </p:nvGrpSpPr>
        <p:grpSpPr>
          <a:xfrm>
            <a:off x="5337000" y="1403280"/>
            <a:ext cx="3108600" cy="4734000"/>
            <a:chOff x="5337000" y="1403280"/>
            <a:chExt cx="3108600" cy="4734000"/>
          </a:xfrm>
        </p:grpSpPr>
        <p:sp>
          <p:nvSpPr>
            <p:cNvPr id="3028" name=""/>
            <p:cNvSpPr/>
            <p:nvPr/>
          </p:nvSpPr>
          <p:spPr>
            <a:xfrm>
              <a:off x="5786280" y="3249720"/>
              <a:ext cx="630360" cy="630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381640" y="248436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H="1" flipV="1">
              <a:off x="7110360" y="3516120"/>
              <a:ext cx="139680" cy="2379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 flipH="1" flipV="1">
              <a:off x="6694200" y="4233960"/>
              <a:ext cx="1047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 flipH="1" flipV="1">
              <a:off x="6624720" y="4061880"/>
              <a:ext cx="69840" cy="171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591240" y="4268880"/>
              <a:ext cx="3110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>
              <a:off x="6686280" y="2558880"/>
              <a:ext cx="112680" cy="33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7365600" y="198900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 flipV="1">
              <a:off x="7137360" y="2303280"/>
              <a:ext cx="44928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384160" y="189864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 flipV="1">
              <a:off x="5786280" y="216864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507000" y="2573280"/>
              <a:ext cx="63036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6507000" y="3924360"/>
              <a:ext cx="630360" cy="630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597720" y="3159000"/>
              <a:ext cx="63000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5337000" y="387828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497720" y="257328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7542360" y="3924360"/>
              <a:ext cx="70776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462720" y="198900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462720" y="437364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327720" y="3338640"/>
              <a:ext cx="630360" cy="630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5516640" y="5410080"/>
              <a:ext cx="25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238800" y="53640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 f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5889600" y="576900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) 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* for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182000" y="3294000"/>
              <a:ext cx="63000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6237360" y="3608280"/>
              <a:ext cx="179280" cy="460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237360" y="3743280"/>
              <a:ext cx="404640" cy="360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686640" y="3878280"/>
              <a:ext cx="46080" cy="1364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 flipH="1">
              <a:off x="6237360" y="3024360"/>
              <a:ext cx="404640" cy="360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7002360" y="3024360"/>
              <a:ext cx="316080" cy="4032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 flipH="1">
              <a:off x="7002000" y="3789360"/>
              <a:ext cx="314280" cy="314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 flipH="1">
              <a:off x="6686280" y="3024360"/>
              <a:ext cx="90360" cy="404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 flipV="1">
              <a:off x="6821640" y="3608280"/>
              <a:ext cx="495000" cy="460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 flipH="1">
              <a:off x="6867360" y="3789360"/>
              <a:ext cx="44640" cy="225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 flipH="1" flipV="1">
              <a:off x="7137000" y="3519360"/>
              <a:ext cx="90360" cy="44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867360" y="3114720"/>
              <a:ext cx="0" cy="179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7228800" y="14032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EF = 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FB28-11CE-4738-BBD5-6F74F60D88C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d/OSC-Induced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5" name=""/>
          <p:cNvGrpSpPr/>
          <p:nvPr/>
        </p:nvGrpSpPr>
        <p:grpSpPr>
          <a:xfrm>
            <a:off x="826920" y="1268280"/>
            <a:ext cx="7263720" cy="3456000"/>
            <a:chOff x="826920" y="1268280"/>
            <a:chExt cx="7263720" cy="3456000"/>
          </a:xfrm>
        </p:grpSpPr>
        <p:sp>
          <p:nvSpPr>
            <p:cNvPr id="3066" name=""/>
            <p:cNvSpPr/>
            <p:nvPr/>
          </p:nvSpPr>
          <p:spPr>
            <a:xfrm>
              <a:off x="826920" y="1268280"/>
              <a:ext cx="57636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1476360" y="1413000"/>
              <a:ext cx="503280" cy="144360"/>
            </a:xfrm>
            <a:prstGeom prst="rightArrow">
              <a:avLst>
                <a:gd name="adj1" fmla="val 50000"/>
                <a:gd name="adj2" fmla="val 8715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050920" y="1268280"/>
              <a:ext cx="72072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2843280" y="141300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419640" y="1268280"/>
              <a:ext cx="316836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He + 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He + 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He + 71.4 M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806520" y="126828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6D Fu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826920" y="2492280"/>
              <a:ext cx="172908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(A, Z) + 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2771640" y="2708280"/>
              <a:ext cx="503280" cy="144360"/>
            </a:xfrm>
            <a:prstGeom prst="rightArrow">
              <a:avLst>
                <a:gd name="adj1" fmla="val 50000"/>
                <a:gd name="adj2" fmla="val 8715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3419640" y="2492280"/>
              <a:ext cx="1944360" cy="505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(A+12, Z+6)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508720" y="2708280"/>
              <a:ext cx="504720" cy="142920"/>
            </a:xfrm>
            <a:prstGeom prst="rightArrow">
              <a:avLst>
                <a:gd name="adj1" fmla="val 50000"/>
                <a:gd name="adj2" fmla="val 88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6156360" y="2349360"/>
              <a:ext cx="1800360" cy="792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m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 Fi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26920" y="4149720"/>
              <a:ext cx="1729080" cy="57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13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 + 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2700360" y="4365720"/>
              <a:ext cx="576360" cy="142920"/>
            </a:xfrm>
            <a:prstGeom prst="rightArrow">
              <a:avLst>
                <a:gd name="adj1" fmla="val 50000"/>
                <a:gd name="adj2" fmla="val 10081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492360" y="4149720"/>
              <a:ext cx="4032360" cy="57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 baseline="30000">
                  <a:solidFill>
                    <a:srgbClr val="000000"/>
                  </a:solidFill>
                  <a:latin typeface="Arial"/>
                </a:rPr>
                <a:t>149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Sm + gamma(68.23 Me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A41D-7957-4E93-B14E-33C1FF3AF45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x. 6D Fusion Rate by 6d/O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6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 = (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6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v/E)exp(-6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OS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6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 = 1E+14 keVbarn, for PEF =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OS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Century"/>
                <a:ea typeface="ＭＳ 明朝"/>
              </a:rPr>
              <a:t>≃ 0.523(b</a:t>
            </a:r>
            <a:r>
              <a:rPr b="0" lang="ja-JP" sz="3200" spc="-1" strike="noStrike" baseline="30000">
                <a:solidFill>
                  <a:srgbClr val="000000"/>
                </a:solidFill>
                <a:latin typeface="Century"/>
                <a:ea typeface="ＭＳ 明朝"/>
              </a:rPr>
              <a:t>1/2</a:t>
            </a:r>
            <a:r>
              <a:rPr b="0" lang="ja-JP" sz="3200" spc="-1" strike="noStrike">
                <a:solidFill>
                  <a:srgbClr val="000000"/>
                </a:solidFill>
                <a:latin typeface="Century"/>
                <a:ea typeface="ＭＳ 明朝"/>
              </a:rPr>
              <a:t> – r</a:t>
            </a:r>
            <a:r>
              <a:rPr b="0" lang="ja-JP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0</a:t>
            </a:r>
            <a:r>
              <a:rPr b="0" lang="ja-JP" sz="3200" spc="-1" strike="noStrike" baseline="30000">
                <a:solidFill>
                  <a:srgbClr val="000000"/>
                </a:solidFill>
                <a:latin typeface="Century"/>
                <a:ea typeface="ＭＳ 明朝"/>
              </a:rPr>
              <a:t>1/2</a:t>
            </a:r>
            <a:r>
              <a:rPr b="0" lang="ja-JP" sz="3200" spc="-1" strike="noStrike">
                <a:solidFill>
                  <a:srgbClr val="000000"/>
                </a:solidFill>
                <a:latin typeface="Century"/>
                <a:ea typeface="ＭＳ 明朝"/>
              </a:rPr>
              <a:t>) = 0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  <a:ea typeface="ＭＳ 明朝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Century"/>
                <a:ea typeface="ＭＳ 明朝"/>
              </a:rPr>
              <a:t>b = 8 fm, r</a:t>
            </a:r>
            <a:r>
              <a:rPr b="0" lang="ja-JP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0</a:t>
            </a:r>
            <a:r>
              <a:rPr b="0" lang="ja-JP" sz="3200" spc="-1" strike="noStrike">
                <a:solidFill>
                  <a:srgbClr val="000000"/>
                </a:solidFill>
                <a:latin typeface="Century"/>
                <a:ea typeface="ＭＳ 明朝"/>
              </a:rPr>
              <a:t> = 5 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3200" spc="-1" strike="noStrike">
                <a:solidFill>
                  <a:srgbClr val="ff3300"/>
                </a:solidFill>
                <a:latin typeface="Arial"/>
                <a:ea typeface="Arial"/>
              </a:rPr>
              <a:t>λ</a:t>
            </a:r>
            <a:r>
              <a:rPr b="0" lang="ja-JP" sz="1400" spc="-1" strike="noStrike">
                <a:solidFill>
                  <a:srgbClr val="ff3300"/>
                </a:solidFill>
                <a:latin typeface="Arial"/>
                <a:ea typeface="Arial"/>
              </a:rPr>
              <a:t>6d</a:t>
            </a:r>
            <a:r>
              <a:rPr b="0" lang="ja-JP" sz="3200" spc="-1" strike="noStrike">
                <a:solidFill>
                  <a:srgbClr val="ff3300"/>
                </a:solidFill>
                <a:latin typeface="Arial"/>
                <a:ea typeface="Arial"/>
              </a:rPr>
              <a:t>= 4.8E-2 (f/s/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If 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OS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 = 1E+13 (&lt;0.1 ppm) in 10 nm range per cm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6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 = 4.8E+11 (f/s/cm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) = </a:t>
            </a:r>
            <a:r>
              <a:rPr b="0" lang="ja-JP" sz="3200" spc="-1" strike="noStrike">
                <a:solidFill>
                  <a:srgbClr val="ff9900"/>
                </a:solidFill>
                <a:latin typeface="Arial"/>
                <a:ea typeface="Arial"/>
              </a:rPr>
              <a:t>4.8 W/cm</a:t>
            </a:r>
            <a:r>
              <a:rPr b="0" lang="ja-JP" sz="3200" spc="-1" strike="noStrike" baseline="30000">
                <a:solidFill>
                  <a:srgbClr val="ff99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2C9C-0DEE-4896-B4AD-CFB3774C38E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2" name=""/>
          <p:cNvGrpSpPr/>
          <p:nvPr/>
        </p:nvGrpSpPr>
        <p:grpSpPr>
          <a:xfrm>
            <a:off x="1830960" y="684360"/>
            <a:ext cx="5628960" cy="4230720"/>
            <a:chOff x="1830960" y="684360"/>
            <a:chExt cx="5628960" cy="4230720"/>
          </a:xfrm>
        </p:grpSpPr>
        <p:sp>
          <p:nvSpPr>
            <p:cNvPr id="3083" name=""/>
            <p:cNvSpPr/>
            <p:nvPr/>
          </p:nvSpPr>
          <p:spPr>
            <a:xfrm>
              <a:off x="1830960" y="684360"/>
              <a:ext cx="5618520" cy="520560"/>
            </a:xfrm>
            <a:prstGeom prst="rect">
              <a:avLst/>
            </a:prstGeom>
            <a:solidFill>
              <a:srgbClr val="fbf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d/OSC: Regular Octagonal Pris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4" name=""/>
            <p:cNvGrpSpPr/>
            <p:nvPr/>
          </p:nvGrpSpPr>
          <p:grpSpPr>
            <a:xfrm>
              <a:off x="2997360" y="2259000"/>
              <a:ext cx="2384280" cy="2656080"/>
              <a:chOff x="2997360" y="2259000"/>
              <a:chExt cx="2384280" cy="2656080"/>
            </a:xfrm>
          </p:grpSpPr>
          <p:sp>
            <p:nvSpPr>
              <p:cNvPr id="3085" name=""/>
              <p:cNvSpPr/>
              <p:nvPr/>
            </p:nvSpPr>
            <p:spPr>
              <a:xfrm>
                <a:off x="3086280" y="2933640"/>
                <a:ext cx="1036440" cy="63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4257720" y="2349360"/>
                <a:ext cx="1036440" cy="63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 flipV="1">
                <a:off x="3086280" y="3607920"/>
                <a:ext cx="1171440" cy="58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 flipV="1">
                <a:off x="4122720" y="2979360"/>
                <a:ext cx="1171440" cy="58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 flipV="1">
                <a:off x="4122720" y="4238280"/>
                <a:ext cx="1171440" cy="58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V="1">
                <a:off x="3086280" y="2349000"/>
                <a:ext cx="1171440" cy="58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292720" y="2979720"/>
                <a:ext cx="0" cy="12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4122720" y="3564000"/>
                <a:ext cx="0" cy="12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3086280" y="2933640"/>
                <a:ext cx="0" cy="12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3086280" y="4194000"/>
                <a:ext cx="1036440" cy="63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4257720" y="3608280"/>
                <a:ext cx="1036440" cy="63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4257720" y="2349360"/>
                <a:ext cx="0" cy="12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 flipH="1">
                <a:off x="3402000" y="2438280"/>
                <a:ext cx="225360" cy="900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3627360" y="2438280"/>
                <a:ext cx="1305000" cy="135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 flipH="1">
                <a:off x="4750920" y="2573280"/>
                <a:ext cx="181080" cy="946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3402000" y="3338640"/>
                <a:ext cx="1349280" cy="134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3402000" y="3338640"/>
                <a:ext cx="0" cy="1215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4751280" y="3473280"/>
                <a:ext cx="0" cy="1170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3627360" y="2438280"/>
                <a:ext cx="0" cy="11700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4932360" y="2573280"/>
                <a:ext cx="0" cy="1170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3402000" y="4554360"/>
                <a:ext cx="1349280" cy="135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3627360" y="3608280"/>
                <a:ext cx="1305000" cy="1350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flipH="1">
                <a:off x="4750920" y="3743280"/>
                <a:ext cx="181080" cy="946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H="1">
                <a:off x="3402000" y="3654360"/>
                <a:ext cx="225360" cy="9000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3041640" y="2843280"/>
                <a:ext cx="179280" cy="1810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4167360" y="2259000"/>
                <a:ext cx="179280" cy="1810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5202360" y="2889360"/>
                <a:ext cx="179280" cy="180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167360" y="3519360"/>
                <a:ext cx="179280" cy="1810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4032360" y="3473280"/>
                <a:ext cx="179280" cy="1810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5202360" y="4149720"/>
                <a:ext cx="179280" cy="1810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2997360" y="4103640"/>
                <a:ext cx="179280" cy="1810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032360" y="4734000"/>
                <a:ext cx="179280" cy="1810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3537000" y="2349360"/>
                <a:ext cx="225360" cy="225720"/>
              </a:xfrm>
              <a:prstGeom prst="ellipse">
                <a:avLst/>
              </a:prstGeom>
              <a:gradFill rotWithShape="0">
                <a:gsLst>
                  <a:gs pos="0">
                    <a:srgbClr val="fbfda1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4797360" y="2438280"/>
                <a:ext cx="225360" cy="225720"/>
              </a:xfrm>
              <a:prstGeom prst="ellipse">
                <a:avLst/>
              </a:prstGeom>
              <a:gradFill rotWithShape="0">
                <a:gsLst>
                  <a:gs pos="0">
                    <a:srgbClr val="fbfda1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3311640" y="3203640"/>
                <a:ext cx="225360" cy="225360"/>
              </a:xfrm>
              <a:prstGeom prst="ellipse">
                <a:avLst/>
              </a:prstGeom>
              <a:gradFill rotWithShape="0">
                <a:gsLst>
                  <a:gs pos="0">
                    <a:srgbClr val="fbfda1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662360" y="3338640"/>
                <a:ext cx="225720" cy="225360"/>
              </a:xfrm>
              <a:prstGeom prst="ellipse">
                <a:avLst/>
              </a:prstGeom>
              <a:gradFill rotWithShape="0">
                <a:gsLst>
                  <a:gs pos="0">
                    <a:srgbClr val="fbfda1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4662360" y="4554360"/>
                <a:ext cx="225720" cy="225720"/>
              </a:xfrm>
              <a:prstGeom prst="ellipse">
                <a:avLst/>
              </a:prstGeom>
              <a:gradFill rotWithShape="0">
                <a:gsLst>
                  <a:gs pos="0">
                    <a:srgbClr val="fbfda1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4842000" y="3608280"/>
                <a:ext cx="225360" cy="225360"/>
              </a:xfrm>
              <a:prstGeom prst="ellipse">
                <a:avLst/>
              </a:prstGeom>
              <a:gradFill rotWithShape="0">
                <a:gsLst>
                  <a:gs pos="0">
                    <a:srgbClr val="fbfda1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3537000" y="3519360"/>
                <a:ext cx="225360" cy="225720"/>
              </a:xfrm>
              <a:prstGeom prst="ellipse">
                <a:avLst/>
              </a:prstGeom>
              <a:gradFill rotWithShape="0">
                <a:gsLst>
                  <a:gs pos="0">
                    <a:srgbClr val="fbfda1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3311640" y="4464000"/>
                <a:ext cx="225360" cy="225360"/>
              </a:xfrm>
              <a:prstGeom prst="ellipse">
                <a:avLst/>
              </a:prstGeom>
              <a:gradFill rotWithShape="0">
                <a:gsLst>
                  <a:gs pos="0">
                    <a:srgbClr val="fbfda1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5" name=""/>
            <p:cNvSpPr/>
            <p:nvPr/>
          </p:nvSpPr>
          <p:spPr>
            <a:xfrm>
              <a:off x="5000400" y="1584360"/>
              <a:ext cx="186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lt;e&gt; =(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↑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 flipV="1">
              <a:off x="5021280" y="2214360"/>
              <a:ext cx="31572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277720" y="226044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 flipH="1" flipV="1">
              <a:off x="2862360" y="2573280"/>
              <a:ext cx="17928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5427360" y="3070080"/>
              <a:ext cx="203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Orbit of bosoniz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Electron pa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 flipV="1">
              <a:off x="4932360" y="3249360"/>
              <a:ext cx="58428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02A9-E7EA-4FB7-9DD1-0F8FD4E0498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476280" y="189000"/>
            <a:ext cx="8229600" cy="630000"/>
          </a:xfrm>
          <a:prstGeom prst="rect">
            <a:avLst/>
          </a:prstGeom>
          <a:solidFill>
            <a:srgbClr val="fdf83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jor Results: Experiments vs.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2" name=""/>
          <p:cNvGraphicFramePr/>
          <p:nvPr/>
        </p:nvGraphicFramePr>
        <p:xfrm>
          <a:off x="162000" y="998640"/>
          <a:ext cx="8982000" cy="5670360"/>
        </p:xfrm>
        <a:graphic>
          <a:graphicData uri="http://schemas.openxmlformats.org/drawingml/2006/table">
            <a:tbl>
              <a:tblPr/>
              <a:tblGrid>
                <a:gridCol w="2035080"/>
                <a:gridCol w="3952800"/>
                <a:gridCol w="299412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/  Method/ Resul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PET/T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f9f9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ee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d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83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agi/beam/310e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ahashi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D/1E+9 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dd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eV 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dde*(2,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E+13)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τ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0.1m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Kubre/El./30+-13M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8MeV/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2 +47.6M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Boher/El./24.8keV/P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 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keV/P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MeV/cc by 4d/TS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u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amura/Perm./Cs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ley/NiH/Fission-like P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d/TSC + M   4p/TSC + M re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D62E-991C-410C-908F-4A550C9CF28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"/>
          <p:cNvSpPr/>
          <p:nvPr/>
        </p:nvSpPr>
        <p:spPr>
          <a:xfrm>
            <a:off x="1835280" y="260280"/>
            <a:ext cx="54007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trahedral Symmetric Condensate (T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ahedral Symmetric Condensate (O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468360" y="1844640"/>
            <a:ext cx="2736720" cy="91440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D/TSC, 6D/O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>
            <a:off x="5292720" y="1989000"/>
            <a:ext cx="3241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H/T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>
            <a:off x="324000" y="3789360"/>
            <a:ext cx="2519280" cy="158436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Fusion of 4d, 6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.8 MeV/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;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]/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] ; 1E-3 to 1E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n]/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] ; &lt;1E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3059280" y="3789360"/>
            <a:ext cx="3025440" cy="151128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d/TSC + M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+8, Z+4) Transm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+12, Z+6) Transm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 Fission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6372360" y="3789360"/>
            <a:ext cx="2520720" cy="25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p/TSC + M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+ p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+ 2p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+ 3p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+ 4p reac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 Fission,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 flipH="1">
            <a:off x="1834920" y="1557360"/>
            <a:ext cx="936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5508720" y="1557360"/>
            <a:ext cx="129528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619280" y="285264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2340000" y="2852640"/>
            <a:ext cx="180036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>
            <a:off x="7308720" y="299736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>
            <a:off x="663480" y="5897520"/>
            <a:ext cx="36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or d: deuteron, H or p: pr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73F6-8331-4760-8EEA-4ADCF81DCD8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SC induces multi-body d-p mixed (or pure d) fusion by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00cc"/>
                </a:solidFill>
                <a:latin typeface="Arial"/>
              </a:rPr>
              <a:t>Maximum 4D fusion rate by TSC is 46 MW/cc and He-4 nuclei are ash (23.8MeV/H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SC induces nuclear reaction with host metal-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ld transmutation by high energy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e and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 particles by 1) is predi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9999"/>
                </a:solidFill>
                <a:latin typeface="Arial"/>
              </a:rPr>
              <a:t>Cold transmutation by TSC+Host-nucleus by 3) will be almost non-radio-active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047-339E-4075-8EC7-FB9D4B11D7D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2895480"/>
          <a:ext cx="3505320" cy="22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95480"/>
                    <a:ext cx="3505320" cy="22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952880" y="2895480"/>
          <a:ext cx="3351240" cy="218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2895480"/>
                    <a:ext cx="335124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343400" y="47242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6680" y="1066680"/>
            <a:ext cx="876312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・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ermeate D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gas through Pd complex adding Cs or Sr on the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・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gas flow is over 1 sccm and test piece is heated up to 343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・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onfirmed decreasing Cs and increasing P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04920" y="5562720"/>
                <a:ext cx="28191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s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P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200400" y="5562720"/>
                <a:ext cx="251460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M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1600200" y="49528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95288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548640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clear Transmuta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5867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838080"/>
            <a:ext cx="82296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1A2-F20E-4BE5-8C6C-227905B24D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3809880"/>
            <a:ext cx="3809880" cy="83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3505320"/>
            <a:ext cx="3809880" cy="30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276720"/>
            <a:ext cx="3809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3200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3200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200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3200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3200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3200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3200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1295280"/>
            <a:ext cx="6324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  (Deposition by applying an weak 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 to 1mM Cs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2362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 Pd Film : 400 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3733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O and Pd Alternative Lay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1000 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980720" y="1752480"/>
            <a:ext cx="6858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343400" y="274320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343400" y="365724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343400" y="42667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5029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 · 25  · 0.1 (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029200" y="4952880"/>
            <a:ext cx="2666880" cy="1359000"/>
            <a:chOff x="5029200" y="4952880"/>
            <a:chExt cx="2666880" cy="1359000"/>
          </a:xfrm>
        </p:grpSpPr>
        <p:sp>
          <p:nvSpPr>
            <p:cNvPr id="104" name=""/>
            <p:cNvSpPr/>
            <p:nvPr/>
          </p:nvSpPr>
          <p:spPr>
            <a:xfrm>
              <a:off x="5029200" y="49528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ulk Pd : 0.1 m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81480" y="548640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purity  99.99 %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486400" y="28954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Ar ion beam sputt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990720"/>
            <a:ext cx="853452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779A-D318-4E17-A5CA-C51BD9A268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periment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51560" y="901800"/>
            <a:ext cx="535320" cy="471240"/>
            <a:chOff x="151560" y="901800"/>
            <a:chExt cx="535320" cy="471240"/>
          </a:xfrm>
        </p:grpSpPr>
        <p:sp>
          <p:nvSpPr>
            <p:cNvPr id="110" name=""/>
            <p:cNvSpPr/>
            <p:nvPr/>
          </p:nvSpPr>
          <p:spPr>
            <a:xfrm rot="16183200">
              <a:off x="228600" y="914400"/>
              <a:ext cx="380880" cy="53352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2280" y="990720"/>
              <a:ext cx="0" cy="380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22280" y="914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9840" y="901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8280" y="10256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51560" y="1641600"/>
            <a:ext cx="535320" cy="417240"/>
            <a:chOff x="151560" y="1641600"/>
            <a:chExt cx="535320" cy="417240"/>
          </a:xfrm>
        </p:grpSpPr>
        <p:sp>
          <p:nvSpPr>
            <p:cNvPr id="116" name=""/>
            <p:cNvSpPr/>
            <p:nvPr/>
          </p:nvSpPr>
          <p:spPr>
            <a:xfrm rot="16183200">
              <a:off x="228600" y="1600200"/>
              <a:ext cx="380880" cy="53352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8280" y="17114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9040" y="1641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920" y="1641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57360" y="995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･･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 va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0040" y="1600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･･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va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2280" y="1347840"/>
            <a:ext cx="8686800" cy="5131800"/>
            <a:chOff x="152280" y="1347840"/>
            <a:chExt cx="8686800" cy="5131800"/>
          </a:xfrm>
        </p:grpSpPr>
        <p:sp>
          <p:nvSpPr>
            <p:cNvPr id="123" name=""/>
            <p:cNvSpPr/>
            <p:nvPr/>
          </p:nvSpPr>
          <p:spPr>
            <a:xfrm flipV="1">
              <a:off x="6476760" y="2109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52280" y="1347840"/>
              <a:ext cx="8686800" cy="5131800"/>
              <a:chOff x="152280" y="1347840"/>
              <a:chExt cx="8686800" cy="5131800"/>
            </a:xfrm>
          </p:grpSpPr>
          <p:sp>
            <p:nvSpPr>
              <p:cNvPr id="125" name=""/>
              <p:cNvSpPr/>
              <p:nvPr/>
            </p:nvSpPr>
            <p:spPr>
              <a:xfrm>
                <a:off x="1523880" y="2338560"/>
                <a:ext cx="2133360" cy="17524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amber 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86040" y="2338560"/>
                <a:ext cx="2133720" cy="17524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amber 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09680" y="3786480"/>
                <a:ext cx="685800" cy="16761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438280" y="3786480"/>
                <a:ext cx="228600" cy="759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9" name=""/>
              <p:cNvCxnSpPr>
                <a:stCxn id="125" idx="3"/>
                <a:endCxn id="126" idx="1"/>
              </p:cNvCxnSpPr>
              <p:nvPr/>
            </p:nvCxnSpPr>
            <p:spPr>
              <a:xfrm>
                <a:off x="3657240" y="3214440"/>
                <a:ext cx="1829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0" name=""/>
              <p:cNvSpPr/>
              <p:nvPr/>
            </p:nvSpPr>
            <p:spPr>
              <a:xfrm>
                <a:off x="304560" y="4624560"/>
                <a:ext cx="1066680" cy="10666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ga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1 atm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1" name=""/>
              <p:cNvCxnSpPr>
                <a:stCxn id="130" idx="0"/>
                <a:endCxn id="125" idx="1"/>
              </p:cNvCxnSpPr>
              <p:nvPr/>
            </p:nvCxnSpPr>
            <p:spPr>
              <a:xfrm flipH="1" flipV="1" rot="5400000">
                <a:off x="475560" y="3576240"/>
                <a:ext cx="1410480" cy="6865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2" name=""/>
              <p:cNvSpPr/>
              <p:nvPr/>
            </p:nvSpPr>
            <p:spPr>
              <a:xfrm>
                <a:off x="2895480" y="508176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857640" y="409104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238880" y="470088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86240" y="4776840"/>
                <a:ext cx="1219320" cy="45972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M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438280" y="5462640"/>
                <a:ext cx="228600" cy="91440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4266360" y="2935440"/>
                <a:ext cx="534960" cy="471240"/>
                <a:chOff x="4266360" y="2935440"/>
                <a:chExt cx="534960" cy="471240"/>
              </a:xfrm>
            </p:grpSpPr>
            <p:sp>
              <p:nvSpPr>
                <p:cNvPr id="138" name=""/>
                <p:cNvSpPr/>
                <p:nvPr/>
              </p:nvSpPr>
              <p:spPr>
                <a:xfrm rot="16183200">
                  <a:off x="4343040" y="2948040"/>
                  <a:ext cx="380880" cy="533160"/>
                </a:xfrm>
                <a:prstGeom prst="flowChartCollat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536720" y="3024360"/>
                  <a:ext cx="0" cy="3808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4536720" y="293832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454280" y="29354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752720" y="305928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310080" y="1881360"/>
                <a:ext cx="338040" cy="428040"/>
                <a:chOff x="6310080" y="1881360"/>
                <a:chExt cx="338040" cy="4280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310080" y="1881360"/>
                  <a:ext cx="338040" cy="33336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330600" y="20527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441840" y="1932120"/>
                  <a:ext cx="76320" cy="7632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9003800">
                  <a:off x="6399000" y="212544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685440" y="3710160"/>
                <a:ext cx="304920" cy="457200"/>
                <a:chOff x="685440" y="3710160"/>
                <a:chExt cx="304920" cy="4572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85440" y="3710160"/>
                  <a:ext cx="304920" cy="457200"/>
                </a:xfrm>
                <a:prstGeom prst="flowChartCollat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85440" y="39387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85440" y="38624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11000" y="3751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885600" y="3751560"/>
                  <a:ext cx="7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6629040" y="1729080"/>
                <a:ext cx="2210040" cy="45972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acuum gaug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857640" y="1347840"/>
                <a:ext cx="1600200" cy="45972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oniz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719080" y="6019920"/>
                <a:ext cx="2062080" cy="45972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hermo coup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590560" y="3738600"/>
                <a:ext cx="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2280" y="2490840"/>
                <a:ext cx="1143000" cy="45972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amp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171440" y="2886120"/>
                <a:ext cx="1199880" cy="86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33360" y="4776840"/>
                <a:ext cx="838080" cy="45972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Times New Roman"/>
                  </a:rPr>
                  <a:t>(vac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00040" y="4853160"/>
                <a:ext cx="251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553080" y="4395960"/>
                <a:ext cx="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6095880" y="409104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714640" y="41670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76360" y="4319640"/>
                <a:ext cx="2362320" cy="45972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flow of gases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200040" y="431964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2133720" y="914400"/>
            <a:ext cx="48765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595C-3833-4C9E-AB15-105916E02B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5:32:00Z</dcterms:created>
  <dc:creator>高橋亮人</dc:creator>
  <dc:description/>
  <dc:language>en-US</dc:language>
  <cp:lastModifiedBy>William</cp:lastModifiedBy>
  <dcterms:modified xsi:type="dcterms:W3CDTF">2005-05-25T18:20:32Z</dcterms:modified>
  <cp:revision>146</cp:revision>
  <dc:subject/>
  <dc:title>Note for Italian-Japanese Project of Cold Transmutation of Radioactive Wastes </dc:title>
</cp:coreProperties>
</file>